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C79D-02FA-49C8-9C72-6004A7191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394C-9198-4A93-8348-F5D5A58AD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C664-8F9B-46A6-BFE9-662EFE03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B1DC-0455-4FB4-9FE0-856E3A4BA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bulosa del Granch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9F87-6F6A-4C02-8AAF-797E7FB43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211F-D3C6-4ED3-8EB5-DEF828D32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B431-3F4A-429E-9E9A-7259D3907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A5DA-DE3A-4DF0-B85E-AFD1D224A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A818-53A3-48E6-976D-4D635C774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8BCA-9270-462B-8262-4BBEDFA7B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DF18-3247-48F5-B291-7B2360DA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8A1A-AC44-49A6-9587-E46D76B0E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8A62-075D-423E-B826-842F35F7D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A49C-01C8-415E-99BB-9196E9445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7F8F-8E3C-4EBE-9BF7-17CFE7C5F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B9CC-D395-4C31-9F2F-55DF48D6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71A1-83CA-47AB-9250-99EB29257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1748-B14A-46F5-B40C-2AF32ED40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9887-4EDA-4C53-87E0-D86A31F9D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3ADB-83F6-4002-9AA8-B9549E7F3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CC62-5147-4C1B-A090-6651BBA2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FCC9-BC71-4AB4-BFAA-21E14DE45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22C7-8F61-44DE-9103-AA04353F4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616-857E-4563-8C3E-67813FF8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058-9BA3-4ED6-B411-1ADB4621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1EF-13EF-4615-BDAB-A5CE4870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604-877E-48C4-B655-29B023C0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38C-F82A-428F-A655-7D91EBBD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BD1-FF23-4B95-ACF1-52DD479C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676-E24C-4E0D-A7D1-CC1EA4A5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9B3-3095-4C72-8A81-64FCDDC6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2E0-0282-433D-8F3D-C9A493B1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A07-A3A2-45FB-B6FD-3BFA5449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994-9E91-4219-9F60-70BCD2AD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A1F-DF9C-41B0-BED0-DBC5B6C5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B131-310D-47B8-8BBA-8EF5F1D1D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1"/>
          <p:cNvSpPr/>
          <p:nvPr/>
        </p:nvSpPr>
        <p:spPr>
          <a:xfrm>
            <a:off x="1038240" y="252108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ndamenti epistemologici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7"/>
          <p:cNvGrpSpPr/>
          <p:nvPr/>
        </p:nvGrpSpPr>
        <p:grpSpPr>
          <a:xfrm>
            <a:off x="154080" y="277920"/>
            <a:ext cx="2644200" cy="2711520"/>
            <a:chOff x="154080" y="277920"/>
            <a:chExt cx="2644200" cy="2711520"/>
          </a:xfrm>
        </p:grpSpPr>
        <p:pic>
          <p:nvPicPr>
            <p:cNvPr id="110" name="Picture 2" descr="William_Herschel"/>
            <p:cNvPicPr/>
            <p:nvPr/>
          </p:nvPicPr>
          <p:blipFill>
            <a:blip r:embed="rId1"/>
            <a:stretch/>
          </p:blipFill>
          <p:spPr>
            <a:xfrm>
              <a:off x="425880" y="277920"/>
              <a:ext cx="2102040" cy="23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4"/>
            <p:cNvSpPr/>
            <p:nvPr/>
          </p:nvSpPr>
          <p:spPr>
            <a:xfrm>
              <a:off x="154080" y="2712960"/>
              <a:ext cx="264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lliam Herschel, 1738-18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5" descr="pluto_discovery_plates"/>
          <p:cNvPicPr/>
          <p:nvPr/>
        </p:nvPicPr>
        <p:blipFill>
          <a:blip r:embed="rId2"/>
          <a:srcRect l="0" t="5897" r="638" b="5026"/>
          <a:stretch/>
        </p:blipFill>
        <p:spPr>
          <a:xfrm>
            <a:off x="2046240" y="3219480"/>
            <a:ext cx="7489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719360" y="5105520"/>
            <a:ext cx="658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l quinto mese del primo anno del regno di Zhi He (4 luglio 1054), è apparsa da oriente una stella nuova non lontana dalla stella Tianguan. Questa nuova stella si è andata consumando sino ad oggi, tanto da scompari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Granchio"/>
          <p:cNvPicPr/>
          <p:nvPr/>
        </p:nvPicPr>
        <p:blipFill>
          <a:blip r:embed="rId1"/>
          <a:srcRect l="0" t="0" r="0" b="9745"/>
          <a:stretch/>
        </p:blipFill>
        <p:spPr>
          <a:xfrm>
            <a:off x="5234040" y="1012680"/>
            <a:ext cx="3781440" cy="3513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hinese_astronomer_16751"/>
          <p:cNvPicPr/>
          <p:nvPr/>
        </p:nvPicPr>
        <p:blipFill>
          <a:blip r:embed="rId2"/>
          <a:stretch/>
        </p:blipFill>
        <p:spPr>
          <a:xfrm>
            <a:off x="1019160" y="679320"/>
            <a:ext cx="28893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7"/>
          <p:cNvGrpSpPr/>
          <p:nvPr/>
        </p:nvGrpSpPr>
        <p:grpSpPr>
          <a:xfrm>
            <a:off x="1467000" y="1481040"/>
            <a:ext cx="2677680" cy="3318120"/>
            <a:chOff x="1467000" y="1481040"/>
            <a:chExt cx="2677680" cy="3318120"/>
          </a:xfrm>
        </p:grpSpPr>
        <p:pic>
          <p:nvPicPr>
            <p:cNvPr id="117" name="Picture 2" descr="Claudius_Ptolemaeus"/>
            <p:cNvPicPr/>
            <p:nvPr/>
          </p:nvPicPr>
          <p:blipFill>
            <a:blip r:embed="rId1"/>
            <a:stretch/>
          </p:blipFill>
          <p:spPr>
            <a:xfrm>
              <a:off x="1467000" y="1481040"/>
              <a:ext cx="267768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3"/>
            <p:cNvSpPr/>
            <p:nvPr/>
          </p:nvSpPr>
          <p:spPr>
            <a:xfrm>
              <a:off x="1907280" y="4522680"/>
              <a:ext cx="179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lomeo - 100-175 d.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5611680" y="1473120"/>
            <a:ext cx="2827080" cy="3326040"/>
            <a:chOff x="5611680" y="1473120"/>
            <a:chExt cx="2827080" cy="3326040"/>
          </a:xfrm>
        </p:grpSpPr>
        <p:pic>
          <p:nvPicPr>
            <p:cNvPr id="120" name="Picture 4" descr="Nikolaus_Kopernikus"/>
            <p:cNvPicPr/>
            <p:nvPr/>
          </p:nvPicPr>
          <p:blipFill>
            <a:blip r:embed="rId2"/>
            <a:srcRect l="0" t="942" r="0" b="0"/>
            <a:stretch/>
          </p:blipFill>
          <p:spPr>
            <a:xfrm>
              <a:off x="5611680" y="1473120"/>
              <a:ext cx="282708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5"/>
            <p:cNvSpPr/>
            <p:nvPr/>
          </p:nvSpPr>
          <p:spPr>
            <a:xfrm>
              <a:off x="6164640" y="4522680"/>
              <a:ext cx="174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ernico - 1473-15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043000" y="365040"/>
            <a:ext cx="58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cambio di paradigma richiede una cr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73040" y="5108400"/>
            <a:ext cx="29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istarco di Samo, ca. 310-230 a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ristarchus_working"/>
          <p:cNvPicPr/>
          <p:nvPr/>
        </p:nvPicPr>
        <p:blipFill>
          <a:blip r:embed="rId1"/>
          <a:stretch/>
        </p:blipFill>
        <p:spPr>
          <a:xfrm>
            <a:off x="4259160" y="3267000"/>
            <a:ext cx="5240520" cy="3216240"/>
          </a:xfrm>
          <a:prstGeom prst="rect">
            <a:avLst/>
          </a:prstGeom>
          <a:ln w="0">
            <a:noFill/>
          </a:ln>
        </p:spPr>
      </p:pic>
      <p:pic>
        <p:nvPicPr>
          <p:cNvPr id="125" name="Immagine 1" descr="Aristarco.jpg"/>
          <p:cNvPicPr/>
          <p:nvPr/>
        </p:nvPicPr>
        <p:blipFill>
          <a:blip r:embed="rId2"/>
          <a:stretch/>
        </p:blipFill>
        <p:spPr>
          <a:xfrm>
            <a:off x="558720" y="1133640"/>
            <a:ext cx="28242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2" descr="proiezione retrograda.jpg"/>
          <p:cNvPicPr/>
          <p:nvPr/>
        </p:nvPicPr>
        <p:blipFill>
          <a:blip r:embed="rId1"/>
          <a:srcRect l="0" t="0" r="0" b="2316"/>
          <a:stretch/>
        </p:blipFill>
        <p:spPr>
          <a:xfrm>
            <a:off x="846000" y="1101600"/>
            <a:ext cx="821376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magine 1" descr="Epiciclo.jpg"/>
          <p:cNvPicPr/>
          <p:nvPr/>
        </p:nvPicPr>
        <p:blipFill>
          <a:blip r:embed="rId1"/>
          <a:stretch/>
        </p:blipFill>
        <p:spPr>
          <a:xfrm>
            <a:off x="1293840" y="1117440"/>
            <a:ext cx="72961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magine 1" descr="retrograde-motion.jpg"/>
          <p:cNvPicPr/>
          <p:nvPr/>
        </p:nvPicPr>
        <p:blipFill>
          <a:blip r:embed="rId1"/>
          <a:stretch/>
        </p:blipFill>
        <p:spPr>
          <a:xfrm>
            <a:off x="200160" y="728640"/>
            <a:ext cx="950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941400" y="1717560"/>
            <a:ext cx="802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ccettazione di un nuovo paradigma è parzialmente sogget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41400" y="4102200"/>
            <a:ext cx="802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verità scientifica è ciò su cui concorda la comunità scient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textbooks"/>
          <p:cNvPicPr/>
          <p:nvPr/>
        </p:nvPicPr>
        <p:blipFill>
          <a:blip r:embed="rId1"/>
          <a:stretch/>
        </p:blipFill>
        <p:spPr>
          <a:xfrm>
            <a:off x="3157560" y="1614600"/>
            <a:ext cx="3591000" cy="4589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752480" y="43668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anuali alterano, distorcono e nascondono sistemat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toria e 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’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zione della sci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Thomas-Kuhn"/>
          <p:cNvPicPr/>
          <p:nvPr/>
        </p:nvPicPr>
        <p:blipFill>
          <a:blip r:embed="rId1"/>
          <a:stretch/>
        </p:blipFill>
        <p:spPr>
          <a:xfrm>
            <a:off x="712800" y="1220760"/>
            <a:ext cx="4129200" cy="4330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Popper"/>
          <p:cNvPicPr/>
          <p:nvPr/>
        </p:nvPicPr>
        <p:blipFill>
          <a:blip r:embed="rId2"/>
          <a:stretch/>
        </p:blipFill>
        <p:spPr>
          <a:xfrm>
            <a:off x="5556240" y="1220760"/>
            <a:ext cx="3637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Thomas-Kuhn"/>
          <p:cNvPicPr/>
          <p:nvPr/>
        </p:nvPicPr>
        <p:blipFill>
          <a:blip r:embed="rId1"/>
          <a:srcRect l="9165" t="0" r="0" b="0"/>
          <a:stretch/>
        </p:blipFill>
        <p:spPr>
          <a:xfrm>
            <a:off x="5443560" y="1220760"/>
            <a:ext cx="3751200" cy="4330800"/>
          </a:xfrm>
          <a:prstGeom prst="rect">
            <a:avLst/>
          </a:prstGeom>
          <a:ln w="0">
            <a:noFill/>
          </a:ln>
        </p:spPr>
      </p:pic>
      <p:sp>
        <p:nvSpPr>
          <p:cNvPr id="50" name="CasellaDiTesto 1"/>
          <p:cNvSpPr/>
          <p:nvPr/>
        </p:nvSpPr>
        <p:spPr>
          <a:xfrm>
            <a:off x="620640" y="1119240"/>
            <a:ext cx="43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omas Kuhn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922 – 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1"/>
          <p:cNvSpPr/>
          <p:nvPr/>
        </p:nvSpPr>
        <p:spPr>
          <a:xfrm>
            <a:off x="620640" y="3857760"/>
            <a:ext cx="454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e structure of scientific rev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9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Anversa Title.jpg"/>
          <p:cNvPicPr/>
          <p:nvPr/>
        </p:nvPicPr>
        <p:blipFill>
          <a:blip r:embed="rId1"/>
          <a:stretch/>
        </p:blipFill>
        <p:spPr>
          <a:xfrm>
            <a:off x="264960" y="324000"/>
            <a:ext cx="5272200" cy="1346040"/>
          </a:xfrm>
          <a:prstGeom prst="rect">
            <a:avLst/>
          </a:prstGeom>
          <a:ln w="0">
            <a:noFill/>
          </a:ln>
        </p:spPr>
      </p:pic>
      <p:pic>
        <p:nvPicPr>
          <p:cNvPr id="136" name="Immagine 2" descr="Anversa figure.jpg"/>
          <p:cNvPicPr/>
          <p:nvPr/>
        </p:nvPicPr>
        <p:blipFill>
          <a:blip r:embed="rId2"/>
          <a:stretch/>
        </p:blipFill>
        <p:spPr>
          <a:xfrm>
            <a:off x="4100400" y="1957320"/>
            <a:ext cx="526896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rcRect l="32619" t="0" r="32669" b="0"/>
          <a:stretch/>
        </p:blipFill>
        <p:spPr>
          <a:xfrm>
            <a:off x="1897200" y="2622600"/>
            <a:ext cx="6111720" cy="4000320"/>
          </a:xfrm>
          <a:prstGeom prst="rect">
            <a:avLst/>
          </a:prstGeom>
          <a:ln w="0">
            <a:noFill/>
          </a:ln>
        </p:spPr>
      </p:pic>
      <p:pic>
        <p:nvPicPr>
          <p:cNvPr id="138" name="Immagine 2" descr="Frisen title.jpg"/>
          <p:cNvPicPr/>
          <p:nvPr/>
        </p:nvPicPr>
        <p:blipFill>
          <a:blip r:embed="rId2"/>
          <a:stretch/>
        </p:blipFill>
        <p:spPr>
          <a:xfrm>
            <a:off x="1839960" y="318960"/>
            <a:ext cx="6654600" cy="1744920"/>
          </a:xfrm>
          <a:prstGeom prst="rect">
            <a:avLst/>
          </a:prstGeom>
          <a:ln w="0">
            <a:noFill/>
          </a:ln>
        </p:spPr>
      </p:pic>
      <p:sp>
        <p:nvSpPr>
          <p:cNvPr id="139" name="CasellaDiTesto 2"/>
          <p:cNvSpPr/>
          <p:nvPr/>
        </p:nvSpPr>
        <p:spPr>
          <a:xfrm>
            <a:off x="7058160" y="6491160"/>
            <a:ext cx="282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cience 324:98-102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451800" y="3836880"/>
            <a:ext cx="3916800" cy="1009800"/>
            <a:chOff x="451800" y="3836880"/>
            <a:chExt cx="3916800" cy="1009800"/>
          </a:xfrm>
        </p:grpSpPr>
        <p:sp>
          <p:nvSpPr>
            <p:cNvPr id="53" name="Line 2"/>
            <p:cNvSpPr/>
            <p:nvPr/>
          </p:nvSpPr>
          <p:spPr>
            <a:xfrm>
              <a:off x="1262880" y="4076640"/>
              <a:ext cx="3105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3"/>
            <p:cNvSpPr/>
            <p:nvPr/>
          </p:nvSpPr>
          <p:spPr>
            <a:xfrm>
              <a:off x="2062800" y="4235400"/>
              <a:ext cx="129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ienza norm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4"/>
            <p:cNvSpPr/>
            <p:nvPr/>
          </p:nvSpPr>
          <p:spPr>
            <a:xfrm>
              <a:off x="679680" y="3836880"/>
              <a:ext cx="517320" cy="477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451800" y="45702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dig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9"/>
          <p:cNvGrpSpPr/>
          <p:nvPr/>
        </p:nvGrpSpPr>
        <p:grpSpPr>
          <a:xfrm>
            <a:off x="5485320" y="3836880"/>
            <a:ext cx="903240" cy="1192320"/>
            <a:chOff x="5485320" y="3836880"/>
            <a:chExt cx="903240" cy="1192320"/>
          </a:xfrm>
        </p:grpSpPr>
        <p:sp>
          <p:nvSpPr>
            <p:cNvPr id="58" name="Oval 7"/>
            <p:cNvSpPr/>
            <p:nvPr/>
          </p:nvSpPr>
          <p:spPr>
            <a:xfrm>
              <a:off x="5677200" y="3836880"/>
              <a:ext cx="517680" cy="47772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5485320" y="457020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o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dig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0"/>
          <p:cNvGrpSpPr/>
          <p:nvPr/>
        </p:nvGrpSpPr>
        <p:grpSpPr>
          <a:xfrm>
            <a:off x="6280200" y="4076640"/>
            <a:ext cx="3106440" cy="435240"/>
            <a:chOff x="6280200" y="4076640"/>
            <a:chExt cx="3106440" cy="435240"/>
          </a:xfrm>
        </p:grpSpPr>
        <p:sp>
          <p:nvSpPr>
            <p:cNvPr id="61" name="Line 11"/>
            <p:cNvSpPr/>
            <p:nvPr/>
          </p:nvSpPr>
          <p:spPr>
            <a:xfrm>
              <a:off x="6280200" y="4076640"/>
              <a:ext cx="31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2"/>
            <p:cNvSpPr/>
            <p:nvPr/>
          </p:nvSpPr>
          <p:spPr>
            <a:xfrm>
              <a:off x="7038000" y="4235400"/>
              <a:ext cx="129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ienza norm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4372200" y="3790440"/>
            <a:ext cx="450360" cy="808560"/>
            <a:chOff x="4372200" y="3790440"/>
            <a:chExt cx="450360" cy="808560"/>
          </a:xfrm>
        </p:grpSpPr>
        <p:sp>
          <p:nvSpPr>
            <p:cNvPr id="64" name="Text Box 13"/>
            <p:cNvSpPr/>
            <p:nvPr/>
          </p:nvSpPr>
          <p:spPr>
            <a:xfrm flipV="1">
              <a:off x="4381920" y="37900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372200" y="4322520"/>
              <a:ext cx="45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8"/>
          <p:cNvGrpSpPr/>
          <p:nvPr/>
        </p:nvGrpSpPr>
        <p:grpSpPr>
          <a:xfrm>
            <a:off x="4717800" y="3324240"/>
            <a:ext cx="910800" cy="974520"/>
            <a:chOff x="4717800" y="3324240"/>
            <a:chExt cx="910800" cy="974520"/>
          </a:xfrm>
        </p:grpSpPr>
        <p:sp>
          <p:nvSpPr>
            <p:cNvPr id="67" name="AutoShape 6"/>
            <p:cNvSpPr/>
            <p:nvPr/>
          </p:nvSpPr>
          <p:spPr>
            <a:xfrm>
              <a:off x="4854240" y="3851280"/>
              <a:ext cx="705600" cy="44748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5"/>
            <p:cNvSpPr/>
            <p:nvPr/>
          </p:nvSpPr>
          <p:spPr>
            <a:xfrm>
              <a:off x="4717800" y="3324240"/>
              <a:ext cx="91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voluz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Line 22"/>
          <p:cNvSpPr/>
          <p:nvPr/>
        </p:nvSpPr>
        <p:spPr>
          <a:xfrm>
            <a:off x="447840" y="1490760"/>
            <a:ext cx="8950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2322000" y="1649520"/>
            <a:ext cx="484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mino progressivo della scienza, che procede per accumul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7"/>
          <p:cNvGrpSpPr/>
          <p:nvPr/>
        </p:nvGrpSpPr>
        <p:grpSpPr>
          <a:xfrm>
            <a:off x="1467000" y="1481040"/>
            <a:ext cx="2677680" cy="3318120"/>
            <a:chOff x="1467000" y="1481040"/>
            <a:chExt cx="2677680" cy="3318120"/>
          </a:xfrm>
        </p:grpSpPr>
        <p:pic>
          <p:nvPicPr>
            <p:cNvPr id="72" name="Picture 2" descr="Claudius_Ptolemaeus"/>
            <p:cNvPicPr/>
            <p:nvPr/>
          </p:nvPicPr>
          <p:blipFill>
            <a:blip r:embed="rId1"/>
            <a:stretch/>
          </p:blipFill>
          <p:spPr>
            <a:xfrm>
              <a:off x="1467000" y="1481040"/>
              <a:ext cx="267768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3"/>
            <p:cNvSpPr/>
            <p:nvPr/>
          </p:nvSpPr>
          <p:spPr>
            <a:xfrm>
              <a:off x="1907280" y="4522680"/>
              <a:ext cx="179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lomeo - 100-175 d.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9"/>
          <p:cNvGrpSpPr/>
          <p:nvPr/>
        </p:nvGrpSpPr>
        <p:grpSpPr>
          <a:xfrm>
            <a:off x="5611680" y="1473120"/>
            <a:ext cx="2827080" cy="3326040"/>
            <a:chOff x="5611680" y="1473120"/>
            <a:chExt cx="2827080" cy="3326040"/>
          </a:xfrm>
        </p:grpSpPr>
        <p:pic>
          <p:nvPicPr>
            <p:cNvPr id="75" name="Picture 4" descr="Nikolaus_Kopernikus"/>
            <p:cNvPicPr/>
            <p:nvPr/>
          </p:nvPicPr>
          <p:blipFill>
            <a:blip r:embed="rId2"/>
            <a:srcRect l="0" t="942" r="0" b="0"/>
            <a:stretch/>
          </p:blipFill>
          <p:spPr>
            <a:xfrm>
              <a:off x="5611680" y="1473120"/>
              <a:ext cx="282708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5"/>
            <p:cNvSpPr/>
            <p:nvPr/>
          </p:nvSpPr>
          <p:spPr>
            <a:xfrm>
              <a:off x="6164640" y="4522680"/>
              <a:ext cx="174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ernico - 1473-15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solar system"/>
          <p:cNvPicPr/>
          <p:nvPr/>
        </p:nvPicPr>
        <p:blipFill>
          <a:blip r:embed="rId1"/>
          <a:stretch/>
        </p:blipFill>
        <p:spPr>
          <a:xfrm>
            <a:off x="0" y="0"/>
            <a:ext cx="9906120" cy="4681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Isaac Newton-1689"/>
          <p:cNvPicPr/>
          <p:nvPr/>
        </p:nvPicPr>
        <p:blipFill>
          <a:blip r:embed="rId2"/>
          <a:stretch/>
        </p:blipFill>
        <p:spPr>
          <a:xfrm>
            <a:off x="954000" y="3225960"/>
            <a:ext cx="2243160" cy="2841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655560" y="6211800"/>
            <a:ext cx="28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ac Newton, 1642-17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9906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3"/>
          <p:cNvGrpSpPr/>
          <p:nvPr/>
        </p:nvGrpSpPr>
        <p:grpSpPr>
          <a:xfrm>
            <a:off x="7472520" y="168120"/>
            <a:ext cx="2247840" cy="3137760"/>
            <a:chOff x="7472520" y="168120"/>
            <a:chExt cx="2247840" cy="3137760"/>
          </a:xfrm>
        </p:grpSpPr>
        <p:pic>
          <p:nvPicPr>
            <p:cNvPr id="82" name="Picture 3" descr="Einstein"/>
            <p:cNvPicPr/>
            <p:nvPr/>
          </p:nvPicPr>
          <p:blipFill>
            <a:blip r:embed="rId2"/>
            <a:stretch/>
          </p:blipFill>
          <p:spPr>
            <a:xfrm>
              <a:off x="7472520" y="168120"/>
              <a:ext cx="2247840" cy="27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7502760" y="3029400"/>
              <a:ext cx="217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lbert Einstein, 1879-19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ohn_Dalton"/>
          <p:cNvPicPr/>
          <p:nvPr/>
        </p:nvPicPr>
        <p:blipFill>
          <a:blip r:embed="rId1"/>
          <a:stretch/>
        </p:blipFill>
        <p:spPr>
          <a:xfrm>
            <a:off x="284040" y="208080"/>
            <a:ext cx="3335400" cy="3803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531720" y="4257720"/>
            <a:ext cx="28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, 1766-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494320" y="166536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a teoria dell’affi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4"/>
          <p:cNvSpPr/>
          <p:nvPr/>
        </p:nvSpPr>
        <p:spPr>
          <a:xfrm>
            <a:off x="5899680" y="218268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 teoria ato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87280" y="4718160"/>
          <a:ext cx="3999240" cy="1571400"/>
        </p:xfrm>
        <a:graphic>
          <a:graphicData uri="http://schemas.openxmlformats.org/drawingml/2006/table">
            <a:tbl>
              <a:tblPr/>
              <a:tblGrid>
                <a:gridCol w="1930680"/>
                <a:gridCol w="2068560"/>
              </a:tblGrid>
              <a:tr h="457200">
                <a:tc>
                  <a:txBody>
                    <a:bodyPr lIns="99000" rIns="99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sigeno (in pes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9000" rIns="99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9000" rIns="99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ssido di carbo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9000" rIns="99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sido di carbo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89" name="Gruppo 18"/>
          <p:cNvGrpSpPr/>
          <p:nvPr/>
        </p:nvGrpSpPr>
        <p:grpSpPr>
          <a:xfrm>
            <a:off x="7623000" y="5559480"/>
            <a:ext cx="1609920" cy="683280"/>
            <a:chOff x="7623000" y="5559480"/>
            <a:chExt cx="1609920" cy="683280"/>
          </a:xfrm>
        </p:grpSpPr>
        <p:sp>
          <p:nvSpPr>
            <p:cNvPr id="90" name="Parentesi graffa chiusa 11"/>
            <p:cNvSpPr/>
            <p:nvPr/>
          </p:nvSpPr>
          <p:spPr>
            <a:xfrm>
              <a:off x="7623000" y="5606640"/>
              <a:ext cx="152640" cy="5929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600 h 592920"/>
                <a:gd name="textAreaBottom" fmla="*/ 589320 h 59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5"/>
                    <a:pt x="10800" y="429"/>
                  </a:cubicBezTo>
                  <a:lnTo>
                    <a:pt x="10800" y="10371"/>
                  </a:lnTo>
                  <a:cubicBezTo>
                    <a:pt x="10800" y="10586"/>
                    <a:pt x="16200" y="10800"/>
                    <a:pt x="21600" y="10800"/>
                  </a:cubicBezTo>
                  <a:cubicBezTo>
                    <a:pt x="16200" y="10800"/>
                    <a:pt x="10800" y="11015"/>
                    <a:pt x="10800" y="11229"/>
                  </a:cubicBezTo>
                  <a:lnTo>
                    <a:pt x="10800" y="21171"/>
                  </a:lnTo>
                  <a:cubicBezTo>
                    <a:pt x="10800" y="21386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ttangolo 12"/>
            <p:cNvSpPr/>
            <p:nvPr/>
          </p:nvSpPr>
          <p:spPr>
            <a:xfrm>
              <a:off x="8119800" y="5559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,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ttangolo 13"/>
            <p:cNvSpPr/>
            <p:nvPr/>
          </p:nvSpPr>
          <p:spPr>
            <a:xfrm>
              <a:off x="8119800" y="5935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,3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onnettore 1 15"/>
            <p:cNvSpPr/>
            <p:nvPr/>
          </p:nvSpPr>
          <p:spPr>
            <a:xfrm>
              <a:off x="8150040" y="59007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CasellaDiTesto 16"/>
            <p:cNvSpPr/>
            <p:nvPr/>
          </p:nvSpPr>
          <p:spPr>
            <a:xfrm>
              <a:off x="8611560" y="5738400"/>
              <a:ext cx="62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it-IT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5256360" y="4718160"/>
          <a:ext cx="2290680" cy="1571400"/>
        </p:xfrm>
        <a:graphic>
          <a:graphicData uri="http://schemas.openxmlformats.org/drawingml/2006/table">
            <a:tbl>
              <a:tblPr/>
              <a:tblGrid>
                <a:gridCol w="2290680"/>
              </a:tblGrid>
              <a:tr h="457200"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 di carbonio si combina con x g di ossig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aedef"/>
                      </a:solidFill>
                    </a:lnT>
                    <a:lnB>
                      <a:noFill/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9000" rIns="99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ierre-Simon-Laplace_(1749-1827)"/>
          <p:cNvPicPr/>
          <p:nvPr/>
        </p:nvPicPr>
        <p:blipFill>
          <a:blip r:embed="rId1"/>
          <a:stretch/>
        </p:blipFill>
        <p:spPr>
          <a:xfrm>
            <a:off x="345960" y="206280"/>
            <a:ext cx="3095640" cy="3429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73040" y="3745080"/>
            <a:ext cx="28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rre-Simon Laplace, 1749-18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210960" y="4522680"/>
            <a:ext cx="9558000" cy="1729800"/>
            <a:chOff x="210960" y="4522680"/>
            <a:chExt cx="9558000" cy="1729800"/>
          </a:xfrm>
        </p:grpSpPr>
        <p:sp>
          <p:nvSpPr>
            <p:cNvPr id="99" name="Text Box 3"/>
            <p:cNvSpPr/>
            <p:nvPr/>
          </p:nvSpPr>
          <p:spPr>
            <a:xfrm>
              <a:off x="210960" y="4879800"/>
              <a:ext cx="9558000" cy="13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ssiamo considerare lo stato attuale dell'universo come l'effetto del suo passato e la causa del suo futuro. Un intelletto che ad un determinato istante dovesse conoscere tutte le forze che mettono in moto la natura, e tutte le posizioni di tutti gli oggetti di cui la natura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è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composta, se questo intelletto fosse inoltre sufficientemente ampio da sottoporre questi dati ad analisi, esso racchiuderebbe in un'unica formula i movimenti dei corpi p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ù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grandi dell'universo e quelli degli atomi p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ù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piccoli; per un tale intelletto nulla sarebbe incerto ed il futuro proprio come il passato sarebbe evidente davanti ai suoi occhi</a:t>
              </a: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210960" y="4522680"/>
              <a:ext cx="2292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ismo caus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6657840" y="208080"/>
            <a:ext cx="2841480" cy="3813480"/>
            <a:chOff x="6657840" y="208080"/>
            <a:chExt cx="2841480" cy="3813480"/>
          </a:xfrm>
        </p:grpSpPr>
        <p:pic>
          <p:nvPicPr>
            <p:cNvPr id="102" name="Picture 6" descr="Heisenberg"/>
            <p:cNvPicPr/>
            <p:nvPr/>
          </p:nvPicPr>
          <p:blipFill>
            <a:blip r:embed="rId2"/>
            <a:stretch/>
          </p:blipFill>
          <p:spPr>
            <a:xfrm>
              <a:off x="6821280" y="208080"/>
              <a:ext cx="25146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8"/>
            <p:cNvSpPr/>
            <p:nvPr/>
          </p:nvSpPr>
          <p:spPr>
            <a:xfrm>
              <a:off x="6657840" y="3745080"/>
              <a:ext cx="284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rner Heisenberg, 1901-19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12200" y="36504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paradigma come nuovo punto di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9 quadri rosso"/>
          <p:cNvPicPr/>
          <p:nvPr/>
        </p:nvPicPr>
        <p:blipFill>
          <a:blip r:embed="rId1"/>
          <a:stretch/>
        </p:blipFill>
        <p:spPr>
          <a:xfrm>
            <a:off x="1776240" y="4406760"/>
            <a:ext cx="1346400" cy="1819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9 fiori nero"/>
          <p:cNvPicPr/>
          <p:nvPr/>
        </p:nvPicPr>
        <p:blipFill>
          <a:blip r:embed="rId2"/>
          <a:stretch/>
        </p:blipFill>
        <p:spPr>
          <a:xfrm>
            <a:off x="384120" y="2098800"/>
            <a:ext cx="1346400" cy="181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9 cuori nero"/>
          <p:cNvPicPr/>
          <p:nvPr/>
        </p:nvPicPr>
        <p:blipFill>
          <a:blip r:embed="rId3"/>
          <a:stretch/>
        </p:blipFill>
        <p:spPr>
          <a:xfrm>
            <a:off x="3170160" y="1128600"/>
            <a:ext cx="1346400" cy="181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nverting eyeglasses"/>
          <p:cNvPicPr/>
          <p:nvPr/>
        </p:nvPicPr>
        <p:blipFill>
          <a:blip r:embed="rId4"/>
          <a:stretch/>
        </p:blipFill>
        <p:spPr>
          <a:xfrm>
            <a:off x="4967280" y="3247920"/>
            <a:ext cx="46674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4:59:32Z</dcterms:created>
  <dc:creator>Marco Crescenzi</dc:creator>
  <dc:description/>
  <dc:language>en-US</dc:language>
  <cp:lastModifiedBy>marcosilvia86@alice.it</cp:lastModifiedBy>
  <cp:lastPrinted>2014-10-16T15:56:19Z</cp:lastPrinted>
  <dcterms:modified xsi:type="dcterms:W3CDTF">2019-03-10T16:26:25Z</dcterms:modified>
  <cp:revision>189</cp:revision>
  <dc:subject/>
  <dc:title>PowerPoint Presentation</dc:title>
</cp:coreProperties>
</file>