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8B9-90CA-49D7-8BB4-38352569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A26C-4067-460B-B27A-ED464F85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8EDD-FA80-4149-A702-5FF3DD6E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AFF2-C304-4CCB-8A0B-1709B741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115E-6240-4495-A7CC-7B69BE8C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AD8-CBF3-4A73-9031-FB5631D1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01A3-FC2C-48DD-A105-AFD0DD34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8FF9-EB1F-4221-A148-096BCAB7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E52C-245C-4DA4-AD64-A76BD959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DD1-99F8-41F8-BB4C-2B87F47B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53C3-C7D0-4157-B3A7-D0FE6467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DCE-1243-4133-8A16-F97C2D29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D3BAC-E79C-4351-B329-7D3EE50E936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879480" y="1905120"/>
            <a:ext cx="73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ente: dr. Marco Crescenzi (Istituto Superiore di Sanità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63760" y="2843280"/>
            <a:ext cx="2617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l: 064990316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mail: marco.crescenzi@iss.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eb: www.marcocrescenzi.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asellaDiTesto 3"/>
          <p:cNvSpPr/>
          <p:nvPr/>
        </p:nvSpPr>
        <p:spPr>
          <a:xfrm>
            <a:off x="484200" y="4857840"/>
            <a:ext cx="817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li studenti possono contattarmi liberamente per ogni necessità didat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3" descr="Studenti 2.jpg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3T08:37:54Z</dcterms:created>
  <dc:creator>Marco Crescenzi</dc:creator>
  <dc:description/>
  <dc:language>en-US</dc:language>
  <cp:lastModifiedBy>Marco Crescenzi</cp:lastModifiedBy>
  <cp:lastPrinted>2014-10-14T09:59:06Z</cp:lastPrinted>
  <dcterms:modified xsi:type="dcterms:W3CDTF">2021-04-15T07:27:06Z</dcterms:modified>
  <cp:revision>42</cp:revision>
  <dc:subject/>
  <dc:title>Metodologia della ricerca scientifica  Attività a scelta, 3 CFU</dc:title>
</cp:coreProperties>
</file>