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D53BF-5B85-45AA-9110-C8FAE05117E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A288F-9DD4-4291-A6CA-3BC1AD14A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90E64-424A-4649-B593-7C986F2A97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D96A5-1CB6-4DE6-A988-504575A41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D54AD-3B7C-4C11-B10C-57B3A7FC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6698B-A103-4505-9259-AA823356B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DF6CC-F4F3-46AF-8B00-A1282B02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69563-062C-463A-9A36-ED3C33740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problema era trovare soluzioni meno olistiche (meglio definite molecolarmente) del trapianto nucleare e della fusione per riprogrammare le cellule somatich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esto lavoro e i suoi successori indicavano che fosse possibile riprogrammare attraverso i fattori di trascrizi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Negli ultimi anni si era accumulata conoscenza sull’espressione genica nelle cellule staminali embrionali (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BDC57-7377-474F-BDB1-0F04DD253E0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06EFD-A856-4359-9EE1-DDC7F8DA495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45B4E-A998-46F3-8D4F-E379FCDD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28600" y="711360"/>
            <a:ext cx="4604040" cy="3454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1B4-AA04-4B26-B1C7-068C6B73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CC1-FE03-4BC2-9A47-2D28929B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EBB-C09F-454A-93A0-1D0FDC6C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716-7989-45EE-9233-6A9D733F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007-4C75-464C-AB4B-15944F97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97B-0F00-44E9-B824-09A471A6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0F7-FB63-4604-B54A-788EB32E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950-8300-4989-8FB6-3CECA06E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2FE-2A48-4EC4-888F-4F26ABF3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E45-FF63-4F36-9FC3-6A5241B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704-528A-43AB-94FA-5E11421F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671-B655-44F1-B0B9-C5244707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4DCD8-FF86-4FDC-871F-C79842B8AD6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1"/>
          <p:cNvSpPr/>
          <p:nvPr/>
        </p:nvSpPr>
        <p:spPr>
          <a:xfrm>
            <a:off x="657360" y="2273400"/>
            <a:ext cx="78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solamento della variabile di intere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rolli positivi e neg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Immagine 1" descr="mouse-rack.jpg"/>
          <p:cNvPicPr/>
          <p:nvPr/>
        </p:nvPicPr>
        <p:blipFill>
          <a:blip r:embed="rId1"/>
          <a:stretch/>
        </p:blipFill>
        <p:spPr>
          <a:xfrm>
            <a:off x="669960" y="503280"/>
            <a:ext cx="7804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magine 1" descr="Yamanaka Fig 1.jpg"/>
          <p:cNvPicPr/>
          <p:nvPr/>
        </p:nvPicPr>
        <p:blipFill>
          <a:blip r:embed="rId1"/>
          <a:srcRect l="0" t="0" r="0" b="49521"/>
          <a:stretch/>
        </p:blipFill>
        <p:spPr>
          <a:xfrm>
            <a:off x="493560" y="1062000"/>
            <a:ext cx="8588520" cy="4708440"/>
          </a:xfrm>
          <a:prstGeom prst="rect">
            <a:avLst/>
          </a:prstGeom>
          <a:ln w="0">
            <a:noFill/>
          </a:ln>
        </p:spPr>
      </p:pic>
      <p:sp>
        <p:nvSpPr>
          <p:cNvPr id="169" name="CasellaDiTesto 3"/>
          <p:cNvSpPr/>
          <p:nvPr/>
        </p:nvSpPr>
        <p:spPr>
          <a:xfrm>
            <a:off x="6170760" y="351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Un esperimento deve isolare una sola variabile, detta </a:t>
            </a:r>
            <a:r>
              <a:rPr b="0" i="1" lang="it-IT" sz="1400" spc="-1" strike="noStrike">
                <a:solidFill>
                  <a:srgbClr val="0000ff"/>
                </a:solidFill>
                <a:latin typeface="Calibri"/>
              </a:rPr>
              <a:t>indipend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magine 1" descr="Yamanaka Fig 2.jpg"/>
          <p:cNvPicPr/>
          <p:nvPr/>
        </p:nvPicPr>
        <p:blipFill>
          <a:blip r:embed="rId1"/>
          <a:stretch/>
        </p:blipFill>
        <p:spPr>
          <a:xfrm>
            <a:off x="471600" y="0"/>
            <a:ext cx="73483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CasellaDiTesto 3"/>
          <p:cNvSpPr/>
          <p:nvPr/>
        </p:nvSpPr>
        <p:spPr>
          <a:xfrm>
            <a:off x="6845400" y="800280"/>
            <a:ext cx="1947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Un esperimento generalmente deve comprendere controlli positivi e negativ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mmagine 1" descr="Yamanaka Fig 3.jpg"/>
          <p:cNvPicPr/>
          <p:nvPr/>
        </p:nvPicPr>
        <p:blipFill>
          <a:blip r:embed="rId1"/>
          <a:srcRect l="0" t="0" r="49490" b="38031"/>
          <a:stretch/>
        </p:blipFill>
        <p:spPr>
          <a:xfrm>
            <a:off x="2108160" y="585720"/>
            <a:ext cx="49276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CasellaDiTesto 1"/>
          <p:cNvSpPr/>
          <p:nvPr/>
        </p:nvSpPr>
        <p:spPr>
          <a:xfrm>
            <a:off x="1533600" y="423720"/>
            <a:ext cx="60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trolli positivi e neg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Gruppo 6"/>
          <p:cNvGrpSpPr/>
          <p:nvPr/>
        </p:nvGrpSpPr>
        <p:grpSpPr>
          <a:xfrm>
            <a:off x="890640" y="3776760"/>
            <a:ext cx="2119320" cy="742680"/>
            <a:chOff x="890640" y="3776760"/>
            <a:chExt cx="2119320" cy="742680"/>
          </a:xfrm>
        </p:grpSpPr>
        <p:grpSp>
          <p:nvGrpSpPr>
            <p:cNvPr id="175" name="Gruppo 1"/>
            <p:cNvGrpSpPr/>
            <p:nvPr/>
          </p:nvGrpSpPr>
          <p:grpSpPr>
            <a:xfrm>
              <a:off x="892080" y="3776760"/>
              <a:ext cx="2116080" cy="741240"/>
              <a:chOff x="892080" y="3776760"/>
              <a:chExt cx="2116080" cy="741240"/>
            </a:xfrm>
          </p:grpSpPr>
          <p:sp>
            <p:nvSpPr>
              <p:cNvPr id="176" name="Oval 3"/>
              <p:cNvSpPr/>
              <p:nvPr/>
            </p:nvSpPr>
            <p:spPr>
              <a:xfrm>
                <a:off x="892440" y="3776760"/>
                <a:ext cx="21153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Oval 4"/>
              <p:cNvSpPr/>
              <p:nvPr/>
            </p:nvSpPr>
            <p:spPr>
              <a:xfrm>
                <a:off x="892080" y="4313880"/>
                <a:ext cx="2116080" cy="2041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5"/>
              <p:cNvSpPr/>
              <p:nvPr/>
            </p:nvSpPr>
            <p:spPr>
              <a:xfrm>
                <a:off x="8924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6"/>
              <p:cNvSpPr/>
              <p:nvPr/>
            </p:nvSpPr>
            <p:spPr>
              <a:xfrm>
                <a:off x="30081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AutoShape 7"/>
            <p:cNvSpPr/>
            <p:nvPr/>
          </p:nvSpPr>
          <p:spPr>
            <a:xfrm>
              <a:off x="890640" y="3979080"/>
              <a:ext cx="21193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uppo 6"/>
          <p:cNvGrpSpPr/>
          <p:nvPr/>
        </p:nvGrpSpPr>
        <p:grpSpPr>
          <a:xfrm>
            <a:off x="3513240" y="3776760"/>
            <a:ext cx="2117520" cy="742680"/>
            <a:chOff x="3513240" y="3776760"/>
            <a:chExt cx="2117520" cy="742680"/>
          </a:xfrm>
        </p:grpSpPr>
        <p:grpSp>
          <p:nvGrpSpPr>
            <p:cNvPr id="182" name="Gruppo 1"/>
            <p:cNvGrpSpPr/>
            <p:nvPr/>
          </p:nvGrpSpPr>
          <p:grpSpPr>
            <a:xfrm>
              <a:off x="3514680" y="3776760"/>
              <a:ext cx="2114280" cy="741240"/>
              <a:chOff x="3514680" y="3776760"/>
              <a:chExt cx="2114280" cy="741240"/>
            </a:xfrm>
          </p:grpSpPr>
          <p:sp>
            <p:nvSpPr>
              <p:cNvPr id="183" name="Oval 3"/>
              <p:cNvSpPr/>
              <p:nvPr/>
            </p:nvSpPr>
            <p:spPr>
              <a:xfrm>
                <a:off x="3515040" y="3776760"/>
                <a:ext cx="21135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Oval 4"/>
              <p:cNvSpPr/>
              <p:nvPr/>
            </p:nvSpPr>
            <p:spPr>
              <a:xfrm>
                <a:off x="3514680" y="4313880"/>
                <a:ext cx="2114280" cy="2041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Line 5"/>
              <p:cNvSpPr/>
              <p:nvPr/>
            </p:nvSpPr>
            <p:spPr>
              <a:xfrm>
                <a:off x="35150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6"/>
              <p:cNvSpPr/>
              <p:nvPr/>
            </p:nvSpPr>
            <p:spPr>
              <a:xfrm>
                <a:off x="56289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AutoShape 7"/>
            <p:cNvSpPr/>
            <p:nvPr/>
          </p:nvSpPr>
          <p:spPr>
            <a:xfrm>
              <a:off x="3513240" y="3979080"/>
              <a:ext cx="21175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8" name="Picture 24" descr=""/>
          <p:cNvPicPr/>
          <p:nvPr/>
        </p:nvPicPr>
        <p:blipFill>
          <a:blip r:embed="rId3"/>
          <a:stretch/>
        </p:blipFill>
        <p:spPr>
          <a:xfrm>
            <a:off x="1949400" y="1690560"/>
            <a:ext cx="1403280" cy="20131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5"/>
          <p:cNvSpPr/>
          <p:nvPr/>
        </p:nvSpPr>
        <p:spPr>
          <a:xfrm>
            <a:off x="1789200" y="49546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6"/>
          <p:cNvSpPr/>
          <p:nvPr/>
        </p:nvSpPr>
        <p:spPr>
          <a:xfrm>
            <a:off x="1370160" y="549756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7"/>
          <p:cNvSpPr/>
          <p:nvPr/>
        </p:nvSpPr>
        <p:spPr>
          <a:xfrm>
            <a:off x="1798560" y="549756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8"/>
          <p:cNvSpPr/>
          <p:nvPr/>
        </p:nvSpPr>
        <p:spPr>
          <a:xfrm>
            <a:off x="222552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1"/>
          <p:cNvSpPr/>
          <p:nvPr/>
        </p:nvSpPr>
        <p:spPr>
          <a:xfrm>
            <a:off x="39974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32"/>
          <p:cNvSpPr/>
          <p:nvPr/>
        </p:nvSpPr>
        <p:spPr>
          <a:xfrm>
            <a:off x="44258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3"/>
          <p:cNvSpPr/>
          <p:nvPr/>
        </p:nvSpPr>
        <p:spPr>
          <a:xfrm>
            <a:off x="485460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37"/>
          <p:cNvSpPr/>
          <p:nvPr/>
        </p:nvSpPr>
        <p:spPr>
          <a:xfrm>
            <a:off x="6284880" y="4954680"/>
            <a:ext cx="23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Variabile indipend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0" descr=""/>
          <p:cNvPicPr/>
          <p:nvPr/>
        </p:nvPicPr>
        <p:blipFill>
          <a:blip r:embed="rId4"/>
          <a:stretch/>
        </p:blipFill>
        <p:spPr>
          <a:xfrm>
            <a:off x="4576680" y="1690560"/>
            <a:ext cx="14032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asellaDiTesto 1"/>
          <p:cNvSpPr/>
          <p:nvPr/>
        </p:nvSpPr>
        <p:spPr>
          <a:xfrm>
            <a:off x="1533600" y="423720"/>
            <a:ext cx="60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trolli positivi e neg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Gruppo 6"/>
          <p:cNvGrpSpPr/>
          <p:nvPr/>
        </p:nvGrpSpPr>
        <p:grpSpPr>
          <a:xfrm>
            <a:off x="890640" y="3776760"/>
            <a:ext cx="2119320" cy="742680"/>
            <a:chOff x="890640" y="3776760"/>
            <a:chExt cx="2119320" cy="742680"/>
          </a:xfrm>
        </p:grpSpPr>
        <p:grpSp>
          <p:nvGrpSpPr>
            <p:cNvPr id="200" name="Gruppo 1"/>
            <p:cNvGrpSpPr/>
            <p:nvPr/>
          </p:nvGrpSpPr>
          <p:grpSpPr>
            <a:xfrm>
              <a:off x="892080" y="3776760"/>
              <a:ext cx="2116080" cy="741240"/>
              <a:chOff x="892080" y="3776760"/>
              <a:chExt cx="2116080" cy="741240"/>
            </a:xfrm>
          </p:grpSpPr>
          <p:sp>
            <p:nvSpPr>
              <p:cNvPr id="201" name="Oval 3"/>
              <p:cNvSpPr/>
              <p:nvPr/>
            </p:nvSpPr>
            <p:spPr>
              <a:xfrm>
                <a:off x="892440" y="3776760"/>
                <a:ext cx="21153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Oval 4"/>
              <p:cNvSpPr/>
              <p:nvPr/>
            </p:nvSpPr>
            <p:spPr>
              <a:xfrm>
                <a:off x="892080" y="4313880"/>
                <a:ext cx="2116080" cy="2041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Line 5"/>
              <p:cNvSpPr/>
              <p:nvPr/>
            </p:nvSpPr>
            <p:spPr>
              <a:xfrm>
                <a:off x="8924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Line 6"/>
              <p:cNvSpPr/>
              <p:nvPr/>
            </p:nvSpPr>
            <p:spPr>
              <a:xfrm>
                <a:off x="30081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AutoShape 7"/>
            <p:cNvSpPr/>
            <p:nvPr/>
          </p:nvSpPr>
          <p:spPr>
            <a:xfrm>
              <a:off x="890640" y="3979080"/>
              <a:ext cx="21193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uppo 6"/>
          <p:cNvGrpSpPr/>
          <p:nvPr/>
        </p:nvGrpSpPr>
        <p:grpSpPr>
          <a:xfrm>
            <a:off x="3513240" y="3776760"/>
            <a:ext cx="2117520" cy="742680"/>
            <a:chOff x="3513240" y="3776760"/>
            <a:chExt cx="2117520" cy="742680"/>
          </a:xfrm>
        </p:grpSpPr>
        <p:grpSp>
          <p:nvGrpSpPr>
            <p:cNvPr id="207" name="Gruppo 1"/>
            <p:cNvGrpSpPr/>
            <p:nvPr/>
          </p:nvGrpSpPr>
          <p:grpSpPr>
            <a:xfrm>
              <a:off x="3514680" y="3776760"/>
              <a:ext cx="2114280" cy="741240"/>
              <a:chOff x="3514680" y="3776760"/>
              <a:chExt cx="2114280" cy="741240"/>
            </a:xfrm>
          </p:grpSpPr>
          <p:sp>
            <p:nvSpPr>
              <p:cNvPr id="208" name="Oval 3"/>
              <p:cNvSpPr/>
              <p:nvPr/>
            </p:nvSpPr>
            <p:spPr>
              <a:xfrm>
                <a:off x="3515040" y="3776760"/>
                <a:ext cx="21135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Oval 4"/>
              <p:cNvSpPr/>
              <p:nvPr/>
            </p:nvSpPr>
            <p:spPr>
              <a:xfrm>
                <a:off x="3514680" y="4313880"/>
                <a:ext cx="2114280" cy="2041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Line 5"/>
              <p:cNvSpPr/>
              <p:nvPr/>
            </p:nvSpPr>
            <p:spPr>
              <a:xfrm>
                <a:off x="35150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Line 6"/>
              <p:cNvSpPr/>
              <p:nvPr/>
            </p:nvSpPr>
            <p:spPr>
              <a:xfrm>
                <a:off x="56289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AutoShape 7"/>
            <p:cNvSpPr/>
            <p:nvPr/>
          </p:nvSpPr>
          <p:spPr>
            <a:xfrm>
              <a:off x="3513240" y="3979080"/>
              <a:ext cx="21175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TextBox 25"/>
          <p:cNvSpPr/>
          <p:nvPr/>
        </p:nvSpPr>
        <p:spPr>
          <a:xfrm>
            <a:off x="1789200" y="49546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7"/>
          <p:cNvSpPr/>
          <p:nvPr/>
        </p:nvSpPr>
        <p:spPr>
          <a:xfrm>
            <a:off x="6284880" y="4954680"/>
            <a:ext cx="23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Variabile indipend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8"/>
          <p:cNvSpPr/>
          <p:nvPr/>
        </p:nvSpPr>
        <p:spPr>
          <a:xfrm>
            <a:off x="6284880" y="5497560"/>
            <a:ext cx="23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432ff"/>
                </a:solidFill>
                <a:latin typeface="Calibri"/>
              </a:rPr>
              <a:t>Variabili dipenden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29"/>
          <p:cNvSpPr/>
          <p:nvPr/>
        </p:nvSpPr>
        <p:spPr>
          <a:xfrm>
            <a:off x="1370160" y="549756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0"/>
          <p:cNvSpPr/>
          <p:nvPr/>
        </p:nvSpPr>
        <p:spPr>
          <a:xfrm>
            <a:off x="1798560" y="5380200"/>
            <a:ext cx="3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1"/>
          <p:cNvSpPr/>
          <p:nvPr/>
        </p:nvSpPr>
        <p:spPr>
          <a:xfrm>
            <a:off x="222552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2"/>
          <p:cNvSpPr/>
          <p:nvPr/>
        </p:nvSpPr>
        <p:spPr>
          <a:xfrm>
            <a:off x="39974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3"/>
          <p:cNvSpPr/>
          <p:nvPr/>
        </p:nvSpPr>
        <p:spPr>
          <a:xfrm>
            <a:off x="44258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485460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CasellaDiTesto 1"/>
          <p:cNvSpPr/>
          <p:nvPr/>
        </p:nvSpPr>
        <p:spPr>
          <a:xfrm>
            <a:off x="1533600" y="423720"/>
            <a:ext cx="60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trolli positivi e neg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uppo 6"/>
          <p:cNvGrpSpPr/>
          <p:nvPr/>
        </p:nvGrpSpPr>
        <p:grpSpPr>
          <a:xfrm>
            <a:off x="890640" y="3776760"/>
            <a:ext cx="2119320" cy="742680"/>
            <a:chOff x="890640" y="3776760"/>
            <a:chExt cx="2119320" cy="742680"/>
          </a:xfrm>
        </p:grpSpPr>
        <p:grpSp>
          <p:nvGrpSpPr>
            <p:cNvPr id="224" name="Gruppo 1"/>
            <p:cNvGrpSpPr/>
            <p:nvPr/>
          </p:nvGrpSpPr>
          <p:grpSpPr>
            <a:xfrm>
              <a:off x="892080" y="3776760"/>
              <a:ext cx="2116080" cy="741240"/>
              <a:chOff x="892080" y="3776760"/>
              <a:chExt cx="2116080" cy="741240"/>
            </a:xfrm>
          </p:grpSpPr>
          <p:sp>
            <p:nvSpPr>
              <p:cNvPr id="225" name="Oval 3"/>
              <p:cNvSpPr/>
              <p:nvPr/>
            </p:nvSpPr>
            <p:spPr>
              <a:xfrm>
                <a:off x="892440" y="3776760"/>
                <a:ext cx="21153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Oval 4"/>
              <p:cNvSpPr/>
              <p:nvPr/>
            </p:nvSpPr>
            <p:spPr>
              <a:xfrm>
                <a:off x="892080" y="4313880"/>
                <a:ext cx="2116080" cy="2041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5"/>
              <p:cNvSpPr/>
              <p:nvPr/>
            </p:nvSpPr>
            <p:spPr>
              <a:xfrm>
                <a:off x="8924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Line 6"/>
              <p:cNvSpPr/>
              <p:nvPr/>
            </p:nvSpPr>
            <p:spPr>
              <a:xfrm>
                <a:off x="30081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9" name="AutoShape 7"/>
            <p:cNvSpPr/>
            <p:nvPr/>
          </p:nvSpPr>
          <p:spPr>
            <a:xfrm>
              <a:off x="890640" y="3979080"/>
              <a:ext cx="21193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Gruppo 6"/>
          <p:cNvGrpSpPr/>
          <p:nvPr/>
        </p:nvGrpSpPr>
        <p:grpSpPr>
          <a:xfrm>
            <a:off x="3513240" y="3776760"/>
            <a:ext cx="2117520" cy="742680"/>
            <a:chOff x="3513240" y="3776760"/>
            <a:chExt cx="2117520" cy="742680"/>
          </a:xfrm>
        </p:grpSpPr>
        <p:grpSp>
          <p:nvGrpSpPr>
            <p:cNvPr id="231" name="Gruppo 1"/>
            <p:cNvGrpSpPr/>
            <p:nvPr/>
          </p:nvGrpSpPr>
          <p:grpSpPr>
            <a:xfrm>
              <a:off x="3514680" y="3776760"/>
              <a:ext cx="2114280" cy="741240"/>
              <a:chOff x="3514680" y="3776760"/>
              <a:chExt cx="2114280" cy="741240"/>
            </a:xfrm>
          </p:grpSpPr>
          <p:sp>
            <p:nvSpPr>
              <p:cNvPr id="232" name="Oval 3"/>
              <p:cNvSpPr/>
              <p:nvPr/>
            </p:nvSpPr>
            <p:spPr>
              <a:xfrm>
                <a:off x="3515040" y="3776760"/>
                <a:ext cx="2113560" cy="20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Oval 4"/>
              <p:cNvSpPr/>
              <p:nvPr/>
            </p:nvSpPr>
            <p:spPr>
              <a:xfrm>
                <a:off x="3514680" y="4313880"/>
                <a:ext cx="2114280" cy="2041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Line 5"/>
              <p:cNvSpPr/>
              <p:nvPr/>
            </p:nvSpPr>
            <p:spPr>
              <a:xfrm>
                <a:off x="351504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6"/>
              <p:cNvSpPr/>
              <p:nvPr/>
            </p:nvSpPr>
            <p:spPr>
              <a:xfrm>
                <a:off x="5628960" y="3879000"/>
                <a:ext cx="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AutoShape 7"/>
            <p:cNvSpPr/>
            <p:nvPr/>
          </p:nvSpPr>
          <p:spPr>
            <a:xfrm>
              <a:off x="3513240" y="3979080"/>
              <a:ext cx="2117520" cy="54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TextBox 25"/>
          <p:cNvSpPr/>
          <p:nvPr/>
        </p:nvSpPr>
        <p:spPr>
          <a:xfrm>
            <a:off x="1789200" y="49546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41"/>
          <p:cNvSpPr/>
          <p:nvPr/>
        </p:nvSpPr>
        <p:spPr>
          <a:xfrm>
            <a:off x="7027920" y="49546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8f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3"/>
          <p:cNvSpPr/>
          <p:nvPr/>
        </p:nvSpPr>
        <p:spPr>
          <a:xfrm>
            <a:off x="4086360" y="2386080"/>
            <a:ext cx="9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"/>
          <p:cNvGrpSpPr/>
          <p:nvPr/>
        </p:nvGrpSpPr>
        <p:grpSpPr>
          <a:xfrm>
            <a:off x="6129360" y="2465280"/>
            <a:ext cx="2119320" cy="2054160"/>
            <a:chOff x="6129360" y="2465280"/>
            <a:chExt cx="2119320" cy="2054160"/>
          </a:xfrm>
        </p:grpSpPr>
        <p:grpSp>
          <p:nvGrpSpPr>
            <p:cNvPr id="241" name="Gruppo 6"/>
            <p:cNvGrpSpPr/>
            <p:nvPr/>
          </p:nvGrpSpPr>
          <p:grpSpPr>
            <a:xfrm>
              <a:off x="6129360" y="3776400"/>
              <a:ext cx="2119320" cy="743040"/>
              <a:chOff x="6129360" y="3776400"/>
              <a:chExt cx="2119320" cy="743040"/>
            </a:xfrm>
          </p:grpSpPr>
          <p:grpSp>
            <p:nvGrpSpPr>
              <p:cNvPr id="242" name="Gruppo 1"/>
              <p:cNvGrpSpPr/>
              <p:nvPr/>
            </p:nvGrpSpPr>
            <p:grpSpPr>
              <a:xfrm>
                <a:off x="6130800" y="3776400"/>
                <a:ext cx="2116080" cy="741600"/>
                <a:chOff x="6130800" y="3776400"/>
                <a:chExt cx="2116080" cy="741600"/>
              </a:xfrm>
            </p:grpSpPr>
            <p:sp>
              <p:nvSpPr>
                <p:cNvPr id="243" name="Oval 3"/>
                <p:cNvSpPr/>
                <p:nvPr/>
              </p:nvSpPr>
              <p:spPr>
                <a:xfrm>
                  <a:off x="6131160" y="3776400"/>
                  <a:ext cx="2115360" cy="204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Oval 4"/>
                <p:cNvSpPr/>
                <p:nvPr/>
              </p:nvSpPr>
              <p:spPr>
                <a:xfrm>
                  <a:off x="6130800" y="4313520"/>
                  <a:ext cx="2116080" cy="20448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Line 5"/>
                <p:cNvSpPr/>
                <p:nvPr/>
              </p:nvSpPr>
              <p:spPr>
                <a:xfrm>
                  <a:off x="6131160" y="3878640"/>
                  <a:ext cx="0" cy="53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Line 6"/>
                <p:cNvSpPr/>
                <p:nvPr/>
              </p:nvSpPr>
              <p:spPr>
                <a:xfrm>
                  <a:off x="8246880" y="3878640"/>
                  <a:ext cx="0" cy="53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47" name="AutoShape 7"/>
              <p:cNvSpPr/>
              <p:nvPr/>
            </p:nvSpPr>
            <p:spPr>
              <a:xfrm>
                <a:off x="6129360" y="3978720"/>
                <a:ext cx="2119320" cy="540720"/>
              </a:xfrm>
              <a:prstGeom prst="can">
                <a:avLst>
                  <a:gd name="adj" fmla="val 39259"/>
                </a:avLst>
              </a:prstGeom>
              <a:solidFill>
                <a:srgbClr val="ff71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8" name="TextBox 47"/>
            <p:cNvSpPr/>
            <p:nvPr/>
          </p:nvSpPr>
          <p:spPr>
            <a:xfrm>
              <a:off x="6724440" y="2465280"/>
              <a:ext cx="97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40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TextBox 44"/>
          <p:cNvSpPr/>
          <p:nvPr/>
        </p:nvSpPr>
        <p:spPr>
          <a:xfrm>
            <a:off x="1370160" y="549756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1798560" y="5380200"/>
            <a:ext cx="3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46"/>
          <p:cNvSpPr/>
          <p:nvPr/>
        </p:nvSpPr>
        <p:spPr>
          <a:xfrm>
            <a:off x="222552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47"/>
          <p:cNvSpPr/>
          <p:nvPr/>
        </p:nvSpPr>
        <p:spPr>
          <a:xfrm>
            <a:off x="39974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48"/>
          <p:cNvSpPr/>
          <p:nvPr/>
        </p:nvSpPr>
        <p:spPr>
          <a:xfrm>
            <a:off x="442584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49"/>
          <p:cNvSpPr/>
          <p:nvPr/>
        </p:nvSpPr>
        <p:spPr>
          <a:xfrm>
            <a:off x="4854600" y="54975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50"/>
          <p:cNvSpPr/>
          <p:nvPr/>
        </p:nvSpPr>
        <p:spPr>
          <a:xfrm>
            <a:off x="6615000" y="5380200"/>
            <a:ext cx="3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432ff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51"/>
          <p:cNvSpPr/>
          <p:nvPr/>
        </p:nvSpPr>
        <p:spPr>
          <a:xfrm>
            <a:off x="7043760" y="5380200"/>
            <a:ext cx="3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432ff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52"/>
          <p:cNvSpPr/>
          <p:nvPr/>
        </p:nvSpPr>
        <p:spPr>
          <a:xfrm>
            <a:off x="7472520" y="5380200"/>
            <a:ext cx="30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432ff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ttangolo 22"/>
          <p:cNvSpPr/>
          <p:nvPr/>
        </p:nvSpPr>
        <p:spPr>
          <a:xfrm>
            <a:off x="3109320" y="60948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trolli positivi e negati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CasellaDiTesto 2"/>
          <p:cNvSpPr/>
          <p:nvPr/>
        </p:nvSpPr>
        <p:spPr>
          <a:xfrm>
            <a:off x="601560" y="1254240"/>
            <a:ext cx="794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erificare l’attività trascrizionale di E2F-1 nel nostro sistema speriment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Gruppo 6"/>
          <p:cNvGrpSpPr/>
          <p:nvPr/>
        </p:nvGrpSpPr>
        <p:grpSpPr>
          <a:xfrm>
            <a:off x="3692520" y="5048280"/>
            <a:ext cx="1413000" cy="495360"/>
            <a:chOff x="3692520" y="5048280"/>
            <a:chExt cx="1413000" cy="495360"/>
          </a:xfrm>
        </p:grpSpPr>
        <p:grpSp>
          <p:nvGrpSpPr>
            <p:cNvPr id="261" name="Gruppo 1"/>
            <p:cNvGrpSpPr/>
            <p:nvPr/>
          </p:nvGrpSpPr>
          <p:grpSpPr>
            <a:xfrm>
              <a:off x="3693600" y="5048280"/>
              <a:ext cx="1410840" cy="494280"/>
              <a:chOff x="3693600" y="5048280"/>
              <a:chExt cx="1410840" cy="494280"/>
            </a:xfrm>
          </p:grpSpPr>
          <p:sp>
            <p:nvSpPr>
              <p:cNvPr id="262" name="Oval 3"/>
              <p:cNvSpPr/>
              <p:nvPr/>
            </p:nvSpPr>
            <p:spPr>
              <a:xfrm>
                <a:off x="3693960" y="5048280"/>
                <a:ext cx="1410480" cy="136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Oval 4"/>
              <p:cNvSpPr/>
              <p:nvPr/>
            </p:nvSpPr>
            <p:spPr>
              <a:xfrm>
                <a:off x="3693600" y="5406480"/>
                <a:ext cx="1410840" cy="136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Line 5"/>
              <p:cNvSpPr/>
              <p:nvPr/>
            </p:nvSpPr>
            <p:spPr>
              <a:xfrm>
                <a:off x="3693960" y="5116320"/>
                <a:ext cx="0" cy="3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Line 6"/>
              <p:cNvSpPr/>
              <p:nvPr/>
            </p:nvSpPr>
            <p:spPr>
              <a:xfrm>
                <a:off x="5104440" y="5116320"/>
                <a:ext cx="0" cy="3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6" name="AutoShape 7"/>
            <p:cNvSpPr/>
            <p:nvPr/>
          </p:nvSpPr>
          <p:spPr>
            <a:xfrm>
              <a:off x="3692520" y="5183280"/>
              <a:ext cx="1413000" cy="36036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uppo 34"/>
          <p:cNvGrpSpPr/>
          <p:nvPr/>
        </p:nvGrpSpPr>
        <p:grpSpPr>
          <a:xfrm>
            <a:off x="2252520" y="3719520"/>
            <a:ext cx="1903680" cy="1103400"/>
            <a:chOff x="2252520" y="3719520"/>
            <a:chExt cx="1903680" cy="1103400"/>
          </a:xfrm>
        </p:grpSpPr>
        <p:grpSp>
          <p:nvGrpSpPr>
            <p:cNvPr id="268" name="Gruppo 13"/>
            <p:cNvGrpSpPr/>
            <p:nvPr/>
          </p:nvGrpSpPr>
          <p:grpSpPr>
            <a:xfrm>
              <a:off x="2252520" y="3719520"/>
              <a:ext cx="676800" cy="677880"/>
              <a:chOff x="2252520" y="3719520"/>
              <a:chExt cx="676800" cy="677880"/>
            </a:xfrm>
          </p:grpSpPr>
          <p:sp>
            <p:nvSpPr>
              <p:cNvPr id="269" name="Ovale 14"/>
              <p:cNvSpPr/>
              <p:nvPr/>
            </p:nvSpPr>
            <p:spPr>
              <a:xfrm>
                <a:off x="2252520" y="3719520"/>
                <a:ext cx="676800" cy="677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CasellaDiTesto 15"/>
              <p:cNvSpPr/>
              <p:nvPr/>
            </p:nvSpPr>
            <p:spPr>
              <a:xfrm>
                <a:off x="2298600" y="390420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Calibri"/>
                  </a:rPr>
                  <a:t>E2F-1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71" name="Connettore 2 30"/>
            <p:cNvCxnSpPr/>
            <p:nvPr/>
          </p:nvCxnSpPr>
          <p:spPr>
            <a:xfrm>
              <a:off x="3117960" y="4292280"/>
              <a:ext cx="1038600" cy="5310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272" name="Gruppo 35"/>
          <p:cNvGrpSpPr/>
          <p:nvPr/>
        </p:nvGrpSpPr>
        <p:grpSpPr>
          <a:xfrm>
            <a:off x="3286080" y="2801880"/>
            <a:ext cx="3684600" cy="2021040"/>
            <a:chOff x="3286080" y="2801880"/>
            <a:chExt cx="3684600" cy="2021040"/>
          </a:xfrm>
        </p:grpSpPr>
        <p:grpSp>
          <p:nvGrpSpPr>
            <p:cNvPr id="273" name="Gruppo 28"/>
            <p:cNvGrpSpPr/>
            <p:nvPr/>
          </p:nvGrpSpPr>
          <p:grpSpPr>
            <a:xfrm>
              <a:off x="3286080" y="2801880"/>
              <a:ext cx="3684600" cy="316800"/>
              <a:chOff x="3286080" y="2801880"/>
              <a:chExt cx="3684600" cy="316800"/>
            </a:xfrm>
          </p:grpSpPr>
          <p:sp>
            <p:nvSpPr>
              <p:cNvPr id="274" name="Connettore 1 17"/>
              <p:cNvSpPr/>
              <p:nvPr/>
            </p:nvSpPr>
            <p:spPr>
              <a:xfrm>
                <a:off x="3286080" y="2955600"/>
                <a:ext cx="42372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5" name="Gruppo 24"/>
              <p:cNvGrpSpPr/>
              <p:nvPr/>
            </p:nvGrpSpPr>
            <p:grpSpPr>
              <a:xfrm>
                <a:off x="3718800" y="2801880"/>
                <a:ext cx="1515240" cy="312480"/>
                <a:chOff x="3718800" y="2801880"/>
                <a:chExt cx="1515240" cy="312480"/>
              </a:xfrm>
            </p:grpSpPr>
            <p:sp>
              <p:nvSpPr>
                <p:cNvPr id="276" name="Rettangolo 18"/>
                <p:cNvSpPr/>
                <p:nvPr/>
              </p:nvSpPr>
              <p:spPr>
                <a:xfrm>
                  <a:off x="3718800" y="2801880"/>
                  <a:ext cx="1515240" cy="307800"/>
                </a:xfrm>
                <a:prstGeom prst="rect">
                  <a:avLst/>
                </a:prstGeom>
                <a:solidFill>
                  <a:srgbClr val="ffffff"/>
                </a:solidFill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78000"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Calibri"/>
                    </a:rPr>
                    <a:t>E”F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" name="CasellaDiTesto 21"/>
                <p:cNvSpPr/>
                <p:nvPr/>
              </p:nvSpPr>
              <p:spPr>
                <a:xfrm>
                  <a:off x="3818160" y="2807280"/>
                  <a:ext cx="1316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it-IT" sz="1400" spc="-1" strike="noStrike">
                      <a:solidFill>
                        <a:srgbClr val="000000"/>
                      </a:solidFill>
                      <a:latin typeface="Calibri"/>
                    </a:rPr>
                    <a:t>E2F binding site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8" name="Connettore 1 22"/>
              <p:cNvSpPr/>
              <p:nvPr/>
            </p:nvSpPr>
            <p:spPr>
              <a:xfrm>
                <a:off x="5243400" y="2955600"/>
                <a:ext cx="21240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ettangolo 26"/>
              <p:cNvSpPr/>
              <p:nvPr/>
            </p:nvSpPr>
            <p:spPr>
              <a:xfrm>
                <a:off x="5456160" y="2801880"/>
                <a:ext cx="1514520" cy="307800"/>
              </a:xfrm>
              <a:prstGeom prst="rect">
                <a:avLst/>
              </a:prstGeom>
              <a:solidFill>
                <a:srgbClr val="ffff00"/>
              </a:solidFill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8000"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E”F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CasellaDiTesto 27"/>
              <p:cNvSpPr/>
              <p:nvPr/>
            </p:nvSpPr>
            <p:spPr>
              <a:xfrm>
                <a:off x="5547960" y="2811600"/>
                <a:ext cx="134064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Calibri"/>
                  </a:rPr>
                  <a:t>Luciferase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81" name="Connettore 2 31"/>
            <p:cNvCxnSpPr/>
            <p:nvPr/>
          </p:nvCxnSpPr>
          <p:spPr>
            <a:xfrm flipH="1">
              <a:off x="4647240" y="3455640"/>
              <a:ext cx="586440" cy="136764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CasellaDiTesto 4"/>
          <p:cNvSpPr/>
          <p:nvPr/>
        </p:nvSpPr>
        <p:spPr>
          <a:xfrm>
            <a:off x="604800" y="470844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2F-Lu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CasellaDiTesto 5"/>
          <p:cNvSpPr/>
          <p:nvPr/>
        </p:nvSpPr>
        <p:spPr>
          <a:xfrm>
            <a:off x="490680" y="500364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ettore-E2F-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ttangolo 9"/>
          <p:cNvSpPr/>
          <p:nvPr/>
        </p:nvSpPr>
        <p:spPr>
          <a:xfrm>
            <a:off x="1905120" y="4764240"/>
            <a:ext cx="285732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ttangolo 11"/>
          <p:cNvSpPr/>
          <p:nvPr/>
        </p:nvSpPr>
        <p:spPr>
          <a:xfrm>
            <a:off x="3054240" y="5059440"/>
            <a:ext cx="54000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4" descr=""/>
          <p:cNvPicPr/>
          <p:nvPr/>
        </p:nvPicPr>
        <p:blipFill>
          <a:blip r:embed="rId1"/>
          <a:srcRect l="4695" t="0" r="0" b="0"/>
          <a:stretch/>
        </p:blipFill>
        <p:spPr>
          <a:xfrm>
            <a:off x="1411200" y="517680"/>
            <a:ext cx="6650280" cy="41972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5"/>
          <p:cNvSpPr/>
          <p:nvPr/>
        </p:nvSpPr>
        <p:spPr>
          <a:xfrm>
            <a:off x="1130400" y="44132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ttangolo 11"/>
          <p:cNvSpPr/>
          <p:nvPr/>
        </p:nvSpPr>
        <p:spPr>
          <a:xfrm>
            <a:off x="6164280" y="50594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ttangolo 19"/>
          <p:cNvSpPr/>
          <p:nvPr/>
        </p:nvSpPr>
        <p:spPr>
          <a:xfrm>
            <a:off x="3762360" y="414360"/>
            <a:ext cx="4451400" cy="549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1130400" y="658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30"/>
          <p:cNvSpPr/>
          <p:nvPr/>
        </p:nvSpPr>
        <p:spPr>
          <a:xfrm>
            <a:off x="1130400" y="1284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31"/>
          <p:cNvSpPr/>
          <p:nvPr/>
        </p:nvSpPr>
        <p:spPr>
          <a:xfrm>
            <a:off x="1130400" y="1909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32"/>
          <p:cNvSpPr/>
          <p:nvPr/>
        </p:nvSpPr>
        <p:spPr>
          <a:xfrm>
            <a:off x="1130400" y="25369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35"/>
          <p:cNvSpPr/>
          <p:nvPr/>
        </p:nvSpPr>
        <p:spPr>
          <a:xfrm>
            <a:off x="1130400" y="317016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36"/>
          <p:cNvSpPr/>
          <p:nvPr/>
        </p:nvSpPr>
        <p:spPr>
          <a:xfrm>
            <a:off x="1130400" y="37958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6"/>
          <p:cNvSpPr/>
          <p:nvPr/>
        </p:nvSpPr>
        <p:spPr>
          <a:xfrm rot="16200000">
            <a:off x="-257400" y="241956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uminescenza (unità arbitrari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CasellaDiTesto 4"/>
          <p:cNvSpPr/>
          <p:nvPr/>
        </p:nvSpPr>
        <p:spPr>
          <a:xfrm>
            <a:off x="604800" y="470844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2F-Lu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CasellaDiTesto 5"/>
          <p:cNvSpPr/>
          <p:nvPr/>
        </p:nvSpPr>
        <p:spPr>
          <a:xfrm>
            <a:off x="490680" y="500364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ettore-E2F-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ttangolo 9"/>
          <p:cNvSpPr/>
          <p:nvPr/>
        </p:nvSpPr>
        <p:spPr>
          <a:xfrm>
            <a:off x="1905120" y="4764240"/>
            <a:ext cx="285732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ttangolo 11"/>
          <p:cNvSpPr/>
          <p:nvPr/>
        </p:nvSpPr>
        <p:spPr>
          <a:xfrm>
            <a:off x="3054240" y="5059440"/>
            <a:ext cx="54000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6" descr=""/>
          <p:cNvPicPr/>
          <p:nvPr/>
        </p:nvPicPr>
        <p:blipFill>
          <a:blip r:embed="rId1"/>
          <a:srcRect l="4695" t="0" r="0" b="0"/>
          <a:stretch/>
        </p:blipFill>
        <p:spPr>
          <a:xfrm>
            <a:off x="1411200" y="517680"/>
            <a:ext cx="6650280" cy="41972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27"/>
          <p:cNvSpPr/>
          <p:nvPr/>
        </p:nvSpPr>
        <p:spPr>
          <a:xfrm>
            <a:off x="1130400" y="44132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ttangolo 11"/>
          <p:cNvSpPr/>
          <p:nvPr/>
        </p:nvSpPr>
        <p:spPr>
          <a:xfrm>
            <a:off x="6164280" y="50594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CasellaDiTesto 7"/>
          <p:cNvSpPr/>
          <p:nvPr/>
        </p:nvSpPr>
        <p:spPr>
          <a:xfrm>
            <a:off x="490680" y="529920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ettore vuo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ttangolo 11"/>
          <p:cNvSpPr/>
          <p:nvPr/>
        </p:nvSpPr>
        <p:spPr>
          <a:xfrm>
            <a:off x="4106880" y="53546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ttangolo 11"/>
          <p:cNvSpPr/>
          <p:nvPr/>
        </p:nvSpPr>
        <p:spPr>
          <a:xfrm>
            <a:off x="7207200" y="53546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ttangolo 19"/>
          <p:cNvSpPr/>
          <p:nvPr/>
        </p:nvSpPr>
        <p:spPr>
          <a:xfrm>
            <a:off x="4916520" y="414360"/>
            <a:ext cx="3297240" cy="549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9"/>
          <p:cNvSpPr/>
          <p:nvPr/>
        </p:nvSpPr>
        <p:spPr>
          <a:xfrm>
            <a:off x="1130400" y="658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30"/>
          <p:cNvSpPr/>
          <p:nvPr/>
        </p:nvSpPr>
        <p:spPr>
          <a:xfrm>
            <a:off x="1130400" y="1284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31"/>
          <p:cNvSpPr/>
          <p:nvPr/>
        </p:nvSpPr>
        <p:spPr>
          <a:xfrm>
            <a:off x="1130400" y="1909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32"/>
          <p:cNvSpPr/>
          <p:nvPr/>
        </p:nvSpPr>
        <p:spPr>
          <a:xfrm>
            <a:off x="1130400" y="25369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35"/>
          <p:cNvSpPr/>
          <p:nvPr/>
        </p:nvSpPr>
        <p:spPr>
          <a:xfrm>
            <a:off x="1130400" y="317016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36"/>
          <p:cNvSpPr/>
          <p:nvPr/>
        </p:nvSpPr>
        <p:spPr>
          <a:xfrm>
            <a:off x="1130400" y="37958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6"/>
          <p:cNvSpPr/>
          <p:nvPr/>
        </p:nvSpPr>
        <p:spPr>
          <a:xfrm rot="16200000">
            <a:off x="-257400" y="241956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uminescenza (unità arbitrari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Introduzione.jpg"/>
          <p:cNvPicPr/>
          <p:nvPr/>
        </p:nvPicPr>
        <p:blipFill>
          <a:blip r:embed="rId1"/>
          <a:stretch/>
        </p:blipFill>
        <p:spPr>
          <a:xfrm>
            <a:off x="2170080" y="216000"/>
            <a:ext cx="48038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CasellaDiTesto 4"/>
          <p:cNvSpPr/>
          <p:nvPr/>
        </p:nvSpPr>
        <p:spPr>
          <a:xfrm>
            <a:off x="604800" y="470844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2F-Lu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CasellaDiTesto 5"/>
          <p:cNvSpPr/>
          <p:nvPr/>
        </p:nvSpPr>
        <p:spPr>
          <a:xfrm>
            <a:off x="490680" y="500364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ettore-E2F-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CasellaDiTesto 7"/>
          <p:cNvSpPr/>
          <p:nvPr/>
        </p:nvSpPr>
        <p:spPr>
          <a:xfrm>
            <a:off x="490680" y="529920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Vettore vuo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CasellaDiTesto 8"/>
          <p:cNvSpPr/>
          <p:nvPr/>
        </p:nvSpPr>
        <p:spPr>
          <a:xfrm>
            <a:off x="490680" y="5594400"/>
            <a:ext cx="12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u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ttangolo 9"/>
          <p:cNvSpPr/>
          <p:nvPr/>
        </p:nvSpPr>
        <p:spPr>
          <a:xfrm>
            <a:off x="1905120" y="4764240"/>
            <a:ext cx="285732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ttangolo 11"/>
          <p:cNvSpPr/>
          <p:nvPr/>
        </p:nvSpPr>
        <p:spPr>
          <a:xfrm>
            <a:off x="3054240" y="5059440"/>
            <a:ext cx="54000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uppo 17"/>
          <p:cNvGrpSpPr/>
          <p:nvPr/>
        </p:nvGrpSpPr>
        <p:grpSpPr>
          <a:xfrm>
            <a:off x="1297080" y="750960"/>
            <a:ext cx="460440" cy="3733920"/>
            <a:chOff x="1297080" y="750960"/>
            <a:chExt cx="460440" cy="3733920"/>
          </a:xfrm>
        </p:grpSpPr>
        <p:sp>
          <p:nvSpPr>
            <p:cNvPr id="322" name="CasellaDiTesto 18"/>
            <p:cNvSpPr/>
            <p:nvPr/>
          </p:nvSpPr>
          <p:spPr>
            <a:xfrm>
              <a:off x="1297080" y="417780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CasellaDiTesto 19"/>
            <p:cNvSpPr/>
            <p:nvPr/>
          </p:nvSpPr>
          <p:spPr>
            <a:xfrm>
              <a:off x="1297080" y="360216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CasellaDiTesto 20"/>
            <p:cNvSpPr/>
            <p:nvPr/>
          </p:nvSpPr>
          <p:spPr>
            <a:xfrm>
              <a:off x="1297080" y="304848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CasellaDiTesto 21"/>
            <p:cNvSpPr/>
            <p:nvPr/>
          </p:nvSpPr>
          <p:spPr>
            <a:xfrm>
              <a:off x="1297080" y="247284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CasellaDiTesto 22"/>
            <p:cNvSpPr/>
            <p:nvPr/>
          </p:nvSpPr>
          <p:spPr>
            <a:xfrm>
              <a:off x="1297080" y="190980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CasellaDiTesto 23"/>
            <p:cNvSpPr/>
            <p:nvPr/>
          </p:nvSpPr>
          <p:spPr>
            <a:xfrm>
              <a:off x="1297080" y="133416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CasellaDiTesto 24"/>
            <p:cNvSpPr/>
            <p:nvPr/>
          </p:nvSpPr>
          <p:spPr>
            <a:xfrm>
              <a:off x="1297080" y="750960"/>
              <a:ext cx="460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0" lang="it-IT" sz="1400" spc="-1" strike="noStrike" baseline="30000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9" name="Picture 4" descr=""/>
          <p:cNvPicPr/>
          <p:nvPr/>
        </p:nvPicPr>
        <p:blipFill>
          <a:blip r:embed="rId1"/>
          <a:srcRect l="4695" t="0" r="0" b="0"/>
          <a:stretch/>
        </p:blipFill>
        <p:spPr>
          <a:xfrm>
            <a:off x="1411200" y="517680"/>
            <a:ext cx="6650280" cy="419724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1130400" y="44132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29"/>
          <p:cNvSpPr/>
          <p:nvPr/>
        </p:nvSpPr>
        <p:spPr>
          <a:xfrm>
            <a:off x="1130400" y="658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130400" y="12841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1130400" y="190980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1130400" y="253692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35"/>
          <p:cNvSpPr/>
          <p:nvPr/>
        </p:nvSpPr>
        <p:spPr>
          <a:xfrm>
            <a:off x="1130400" y="317016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36"/>
          <p:cNvSpPr/>
          <p:nvPr/>
        </p:nvSpPr>
        <p:spPr>
          <a:xfrm>
            <a:off x="1130400" y="3795840"/>
            <a:ext cx="6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6"/>
          <p:cNvSpPr/>
          <p:nvPr/>
        </p:nvSpPr>
        <p:spPr>
          <a:xfrm rot="16200000">
            <a:off x="-257400" y="241956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uminescenza (unità arbitrari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ttangolo 11"/>
          <p:cNvSpPr/>
          <p:nvPr/>
        </p:nvSpPr>
        <p:spPr>
          <a:xfrm>
            <a:off x="4106880" y="53546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ttangolo 11"/>
          <p:cNvSpPr/>
          <p:nvPr/>
        </p:nvSpPr>
        <p:spPr>
          <a:xfrm>
            <a:off x="6164280" y="50594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ttangolo 11"/>
          <p:cNvSpPr/>
          <p:nvPr/>
        </p:nvSpPr>
        <p:spPr>
          <a:xfrm>
            <a:off x="7207200" y="5354640"/>
            <a:ext cx="539640" cy="19512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ttangolo 9"/>
          <p:cNvSpPr/>
          <p:nvPr/>
        </p:nvSpPr>
        <p:spPr>
          <a:xfrm>
            <a:off x="5005440" y="5649840"/>
            <a:ext cx="2859120" cy="195480"/>
          </a:xfrm>
          <a:prstGeom prst="rect">
            <a:avLst/>
          </a:prstGeom>
          <a:solidFill>
            <a:srgbClr val="01e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 37"/>
          <p:cNvGrpSpPr/>
          <p:nvPr/>
        </p:nvGrpSpPr>
        <p:grpSpPr>
          <a:xfrm>
            <a:off x="4278240" y="2998800"/>
            <a:ext cx="3274920" cy="650880"/>
            <a:chOff x="4278240" y="2998800"/>
            <a:chExt cx="3274920" cy="650880"/>
          </a:xfrm>
        </p:grpSpPr>
        <p:grpSp>
          <p:nvGrpSpPr>
            <p:cNvPr id="343" name="Group 26"/>
            <p:cNvGrpSpPr/>
            <p:nvPr/>
          </p:nvGrpSpPr>
          <p:grpSpPr>
            <a:xfrm>
              <a:off x="4278240" y="3490560"/>
              <a:ext cx="3274920" cy="159120"/>
              <a:chOff x="4278240" y="3490560"/>
              <a:chExt cx="3274920" cy="159120"/>
            </a:xfrm>
          </p:grpSpPr>
          <p:sp>
            <p:nvSpPr>
              <p:cNvPr id="344" name="Straight Connector 23"/>
              <p:cNvSpPr/>
              <p:nvPr/>
            </p:nvSpPr>
            <p:spPr>
              <a:xfrm>
                <a:off x="4278240" y="3490560"/>
                <a:ext cx="3274920" cy="0"/>
              </a:xfrm>
              <a:prstGeom prst="line">
                <a:avLst/>
              </a:prstGeom>
              <a:ln w="25560">
                <a:solidFill>
                  <a:srgbClr val="ff2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Straight Connector 25"/>
              <p:cNvSpPr/>
              <p:nvPr/>
            </p:nvSpPr>
            <p:spPr>
              <a:xfrm>
                <a:off x="4286160" y="3490560"/>
                <a:ext cx="0" cy="159120"/>
              </a:xfrm>
              <a:prstGeom prst="line">
                <a:avLst/>
              </a:prstGeom>
              <a:ln w="25560">
                <a:solidFill>
                  <a:srgbClr val="ff2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Straight Connector 53"/>
              <p:cNvSpPr/>
              <p:nvPr/>
            </p:nvSpPr>
            <p:spPr>
              <a:xfrm>
                <a:off x="7545240" y="3490560"/>
                <a:ext cx="0" cy="159120"/>
              </a:xfrm>
              <a:prstGeom prst="line">
                <a:avLst/>
              </a:prstGeom>
              <a:ln w="25560">
                <a:solidFill>
                  <a:srgbClr val="ff2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TextBox 27"/>
            <p:cNvSpPr/>
            <p:nvPr/>
          </p:nvSpPr>
          <p:spPr>
            <a:xfrm>
              <a:off x="4294080" y="2998800"/>
              <a:ext cx="32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600" spc="-1" strike="noStrike">
                  <a:solidFill>
                    <a:srgbClr val="ff2600"/>
                  </a:solidFill>
                  <a:latin typeface="Calibri"/>
                </a:rPr>
                <a:t>Controlli negativi biologic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ttangolo 22"/>
          <p:cNvSpPr/>
          <p:nvPr/>
        </p:nvSpPr>
        <p:spPr>
          <a:xfrm>
            <a:off x="3241080" y="32220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ossibili controlli tecni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CasellaDiTesto 2"/>
          <p:cNvSpPr/>
          <p:nvPr/>
        </p:nvSpPr>
        <p:spPr>
          <a:xfrm>
            <a:off x="1547640" y="53751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trollo positivo: aggiungere luciferasi alla miscela di re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trollo negativo: non trasfettare il vettore con la lucifera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0" name="Gruppo 12"/>
          <p:cNvGrpSpPr/>
          <p:nvPr/>
        </p:nvGrpSpPr>
        <p:grpSpPr>
          <a:xfrm>
            <a:off x="1465200" y="1119240"/>
            <a:ext cx="6425280" cy="4057560"/>
            <a:chOff x="1465200" y="1119240"/>
            <a:chExt cx="6425280" cy="4057560"/>
          </a:xfrm>
        </p:grpSpPr>
        <p:grpSp>
          <p:nvGrpSpPr>
            <p:cNvPr id="351" name="Gruppo 6"/>
            <p:cNvGrpSpPr/>
            <p:nvPr/>
          </p:nvGrpSpPr>
          <p:grpSpPr>
            <a:xfrm>
              <a:off x="1465200" y="1119240"/>
              <a:ext cx="6232680" cy="4057560"/>
              <a:chOff x="1465200" y="1119240"/>
              <a:chExt cx="6232680" cy="4057560"/>
            </a:xfrm>
          </p:grpSpPr>
          <p:pic>
            <p:nvPicPr>
              <p:cNvPr id="352" name="Immagine 3" descr="Luciferase assay.jpg"/>
              <p:cNvPicPr/>
              <p:nvPr/>
            </p:nvPicPr>
            <p:blipFill>
              <a:blip r:embed="rId1"/>
              <a:srcRect l="0" t="0" r="0" b="8021"/>
              <a:stretch/>
            </p:blipFill>
            <p:spPr>
              <a:xfrm>
                <a:off x="1465200" y="1119240"/>
                <a:ext cx="6214680" cy="400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Figura a mano libera 4"/>
              <p:cNvSpPr/>
              <p:nvPr/>
            </p:nvSpPr>
            <p:spPr>
              <a:xfrm>
                <a:off x="5243760" y="2414520"/>
                <a:ext cx="2454120" cy="817560"/>
              </a:xfrm>
              <a:custGeom>
                <a:avLst/>
                <a:gdLst/>
                <a:ahLst/>
                <a:rect l="l" t="t" r="r" b="b"/>
                <a:pathLst>
                  <a:path w="2453473" h="817861">
                    <a:moveTo>
                      <a:pt x="0" y="798617"/>
                    </a:moveTo>
                    <a:lnTo>
                      <a:pt x="48107" y="0"/>
                    </a:lnTo>
                    <a:lnTo>
                      <a:pt x="2453473" y="0"/>
                    </a:lnTo>
                    <a:lnTo>
                      <a:pt x="2453473" y="817861"/>
                    </a:lnTo>
                    <a:lnTo>
                      <a:pt x="0" y="7986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igura a mano libera 5"/>
              <p:cNvSpPr/>
              <p:nvPr/>
            </p:nvSpPr>
            <p:spPr>
              <a:xfrm>
                <a:off x="4648320" y="3656160"/>
                <a:ext cx="2030400" cy="1520640"/>
              </a:xfrm>
              <a:custGeom>
                <a:avLst/>
                <a:gdLst/>
                <a:ahLst/>
                <a:rect l="l" t="t" r="r" b="b"/>
                <a:pathLst>
                  <a:path w="2030129" h="1520258">
                    <a:moveTo>
                      <a:pt x="0" y="0"/>
                    </a:moveTo>
                    <a:lnTo>
                      <a:pt x="0" y="192438"/>
                    </a:lnTo>
                    <a:lnTo>
                      <a:pt x="365615" y="279035"/>
                    </a:lnTo>
                    <a:lnTo>
                      <a:pt x="365615" y="683154"/>
                    </a:lnTo>
                    <a:lnTo>
                      <a:pt x="683124" y="712019"/>
                    </a:lnTo>
                    <a:lnTo>
                      <a:pt x="673502" y="1520258"/>
                    </a:lnTo>
                    <a:lnTo>
                      <a:pt x="2030129" y="1510636"/>
                    </a:lnTo>
                    <a:lnTo>
                      <a:pt x="20108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Freccia circolare a destra 7"/>
            <p:cNvSpPr/>
            <p:nvPr/>
          </p:nvSpPr>
          <p:spPr>
            <a:xfrm rot="19521000">
              <a:off x="2001240" y="3794040"/>
              <a:ext cx="596880" cy="1193760"/>
            </a:xfrm>
            <a:custGeom>
              <a:avLst/>
              <a:gdLst>
                <a:gd name="textAreaLeft" fmla="*/ 79920 w 596880"/>
                <a:gd name="textAreaRight" fmla="*/ 516960 w 596880"/>
                <a:gd name="textAreaTop" fmla="*/ 242280 h 1193760"/>
                <a:gd name="textAreaBottom" fmla="*/ 876600 h 11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775" stAng="-5400000" swAng="-5400000"/>
                  <a:lnTo>
                    <a:pt x="0" y="11475"/>
                  </a:lnTo>
                  <a:arcTo wR="21600" hR="8775" stAng="10800000" swAng="-3453591"/>
                  <a:lnTo>
                    <a:pt x="16200" y="21321"/>
                  </a:lnTo>
                  <a:lnTo>
                    <a:pt x="21600" y="18899"/>
                  </a:lnTo>
                  <a:lnTo>
                    <a:pt x="16200" y="15919"/>
                  </a:lnTo>
                  <a:lnTo>
                    <a:pt x="16200" y="17270"/>
                  </a:lnTo>
                  <a:arcTo wR="21600" hR="8775" stAng="7346409" swAng="3236432"/>
                  <a:lnTo>
                    <a:pt x="257" y="10125"/>
                  </a:lnTo>
                  <a:arcTo wR="21600" hR="8775" stAng="-10582841" swAng="5182841"/>
                  <a:close/>
                </a:path>
                <a:path fill="darkenLess" w="21600" h="21600">
                  <a:moveTo>
                    <a:pt x="21600" y="0"/>
                  </a:moveTo>
                  <a:arcTo wR="21600" hR="8775" stAng="-5400000" swAng="-5400000"/>
                  <a:lnTo>
                    <a:pt x="0" y="8775"/>
                  </a:lnTo>
                  <a:arcTo wR="21600" hR="8775" stAng="10800000" swAng="-217159"/>
                  <a:lnTo>
                    <a:pt x="257" y="10125"/>
                  </a:lnTo>
                  <a:arcTo wR="21600" hR="8775" stAng="-10582841" swAng="5182841"/>
                  <a:close/>
                </a:path>
              </a:pathLst>
            </a:custGeom>
            <a:solidFill>
              <a:srgbClr val="31859c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6" name="Connettore 2 9"/>
            <p:cNvCxnSpPr/>
            <p:nvPr/>
          </p:nvCxnSpPr>
          <p:spPr>
            <a:xfrm>
              <a:off x="5243760" y="4471920"/>
              <a:ext cx="1348560" cy="1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7" name="CasellaDiTesto 10"/>
            <p:cNvSpPr/>
            <p:nvPr/>
          </p:nvSpPr>
          <p:spPr>
            <a:xfrm>
              <a:off x="6758640" y="4214520"/>
              <a:ext cx="113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Lettura 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luminometr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Immagine 1" descr="Yamanaka Fig 6.jpg"/>
          <p:cNvPicPr/>
          <p:nvPr/>
        </p:nvPicPr>
        <p:blipFill>
          <a:blip r:embed="rId1"/>
          <a:stretch/>
        </p:blipFill>
        <p:spPr>
          <a:xfrm>
            <a:off x="1603440" y="50760"/>
            <a:ext cx="593712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CasellaDiTesto 1"/>
          <p:cNvSpPr/>
          <p:nvPr/>
        </p:nvSpPr>
        <p:spPr>
          <a:xfrm>
            <a:off x="601560" y="1558800"/>
            <a:ext cx="7940880" cy="43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Esaminare sempre una variabile per volta, mantenendo rigorosamente costanti tutte le altre condizioni sperimental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Ci possono essere variabili non ovvie o nascoste: nessun esperimento può considerarsi definitiv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I controlli, positivi e negativi, costituiscono parti essenziali di un esperimento scientif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I controlli possono riferirsi ad aspetti tecnici o biologici del sistema speriment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Il controllo positivo verifica il buon funzionamento dell’esperimento e convalida i risultati negativ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Il controllo negativo verifica la specificità dei risultati e fornisce una misura dell’eventuale segnale di fondo negli esperimenti quantitativ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CasellaDiTesto 5"/>
          <p:cNvSpPr/>
          <p:nvPr/>
        </p:nvSpPr>
        <p:spPr>
          <a:xfrm>
            <a:off x="619200" y="345960"/>
            <a:ext cx="7905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Calibri"/>
              </a:rPr>
              <a:t>Punti notev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tangolo 3"/>
          <p:cNvSpPr/>
          <p:nvPr/>
        </p:nvSpPr>
        <p:spPr>
          <a:xfrm>
            <a:off x="6719760" y="61736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1800" spc="-1" strike="noStrike" baseline="30000">
                <a:solidFill>
                  <a:srgbClr val="000000"/>
                </a:solidFill>
                <a:latin typeface="Arial"/>
              </a:rPr>
              <a:t>Science 282:1145–1147, 198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magine 1" descr="Human ES cells.jpg"/>
          <p:cNvPicPr/>
          <p:nvPr/>
        </p:nvPicPr>
        <p:blipFill>
          <a:blip r:embed="rId1"/>
          <a:stretch/>
        </p:blipFill>
        <p:spPr>
          <a:xfrm>
            <a:off x="1360440" y="749160"/>
            <a:ext cx="64231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magine 1" descr="Frogs.jpg"/>
          <p:cNvPicPr/>
          <p:nvPr/>
        </p:nvPicPr>
        <p:blipFill>
          <a:blip r:embed="rId1"/>
          <a:stretch/>
        </p:blipFill>
        <p:spPr>
          <a:xfrm>
            <a:off x="237960" y="2349360"/>
            <a:ext cx="8668080" cy="2028960"/>
          </a:xfrm>
          <a:prstGeom prst="rect">
            <a:avLst/>
          </a:prstGeom>
          <a:ln w="0">
            <a:noFill/>
          </a:ln>
        </p:spPr>
      </p:pic>
      <p:sp>
        <p:nvSpPr>
          <p:cNvPr id="53" name="CasellaDiTesto 2"/>
          <p:cNvSpPr/>
          <p:nvPr/>
        </p:nvSpPr>
        <p:spPr>
          <a:xfrm>
            <a:off x="619200" y="318960"/>
            <a:ext cx="79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iprogrammazione di cellule somatiche tramite trapianto nucle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(John Gurdon, 196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sellaDiTesto 1"/>
          <p:cNvSpPr/>
          <p:nvPr/>
        </p:nvSpPr>
        <p:spPr>
          <a:xfrm>
            <a:off x="6993000" y="62802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o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asellaDiTesto 2"/>
          <p:cNvSpPr/>
          <p:nvPr/>
        </p:nvSpPr>
        <p:spPr>
          <a:xfrm>
            <a:off x="619200" y="318960"/>
            <a:ext cx="79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iprogrammazione di cellule somatiche </a:t>
            </a:r>
            <a:r>
              <a:rPr b="0" lang="it-IT" sz="1800" spc="-1" strike="noStrike">
                <a:solidFill>
                  <a:srgbClr val="0000ff"/>
                </a:solidFill>
                <a:latin typeface="Calibri"/>
              </a:rPr>
              <a:t>di mammifer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ramite trapianto nucle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(Ian Wilmut, 199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magine 4" descr="Dolly cloning process.jpg"/>
          <p:cNvPicPr/>
          <p:nvPr/>
        </p:nvPicPr>
        <p:blipFill>
          <a:blip r:embed="rId1"/>
          <a:srcRect l="0" t="8854" r="0" b="0"/>
          <a:stretch/>
        </p:blipFill>
        <p:spPr>
          <a:xfrm>
            <a:off x="66600" y="1417680"/>
            <a:ext cx="4299120" cy="2998800"/>
          </a:xfrm>
          <a:prstGeom prst="rect">
            <a:avLst/>
          </a:prstGeom>
          <a:ln w="0">
            <a:noFill/>
          </a:ln>
        </p:spPr>
      </p:pic>
      <p:pic>
        <p:nvPicPr>
          <p:cNvPr id="57" name="Immagine 3" descr="Dolly the sheep.jpg"/>
          <p:cNvPicPr/>
          <p:nvPr/>
        </p:nvPicPr>
        <p:blipFill>
          <a:blip r:embed="rId2"/>
          <a:stretch/>
        </p:blipFill>
        <p:spPr>
          <a:xfrm>
            <a:off x="4303800" y="3354480"/>
            <a:ext cx="46735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uppo 47"/>
          <p:cNvGrpSpPr/>
          <p:nvPr/>
        </p:nvGrpSpPr>
        <p:grpSpPr>
          <a:xfrm>
            <a:off x="863640" y="2090880"/>
            <a:ext cx="1981080" cy="882360"/>
            <a:chOff x="863640" y="2090880"/>
            <a:chExt cx="1981080" cy="882360"/>
          </a:xfrm>
        </p:grpSpPr>
        <p:sp>
          <p:nvSpPr>
            <p:cNvPr id="59" name="Freeform 10"/>
            <p:cNvSpPr/>
            <p:nvPr/>
          </p:nvSpPr>
          <p:spPr>
            <a:xfrm>
              <a:off x="863640" y="2090880"/>
              <a:ext cx="1981080" cy="882360"/>
            </a:xfrm>
            <a:custGeom>
              <a:avLst/>
              <a:gdLst/>
              <a:ahLst/>
              <a:rect l="l" t="t" r="r" b="b"/>
              <a:pathLst>
                <a:path w="664" h="328">
                  <a:moveTo>
                    <a:pt x="0" y="288"/>
                  </a:moveTo>
                  <a:cubicBezTo>
                    <a:pt x="16" y="282"/>
                    <a:pt x="32" y="277"/>
                    <a:pt x="48" y="272"/>
                  </a:cubicBezTo>
                  <a:cubicBezTo>
                    <a:pt x="56" y="269"/>
                    <a:pt x="72" y="264"/>
                    <a:pt x="72" y="264"/>
                  </a:cubicBezTo>
                  <a:cubicBezTo>
                    <a:pt x="92" y="233"/>
                    <a:pt x="120" y="219"/>
                    <a:pt x="144" y="192"/>
                  </a:cubicBezTo>
                  <a:cubicBezTo>
                    <a:pt x="173" y="156"/>
                    <a:pt x="182" y="136"/>
                    <a:pt x="224" y="112"/>
                  </a:cubicBezTo>
                  <a:cubicBezTo>
                    <a:pt x="277" y="31"/>
                    <a:pt x="397" y="11"/>
                    <a:pt x="488" y="0"/>
                  </a:cubicBezTo>
                  <a:cubicBezTo>
                    <a:pt x="533" y="2"/>
                    <a:pt x="578" y="3"/>
                    <a:pt x="624" y="8"/>
                  </a:cubicBezTo>
                  <a:cubicBezTo>
                    <a:pt x="637" y="9"/>
                    <a:pt x="664" y="2"/>
                    <a:pt x="664" y="16"/>
                  </a:cubicBezTo>
                  <a:cubicBezTo>
                    <a:pt x="664" y="29"/>
                    <a:pt x="637" y="20"/>
                    <a:pt x="624" y="24"/>
                  </a:cubicBezTo>
                  <a:cubicBezTo>
                    <a:pt x="592" y="31"/>
                    <a:pt x="560" y="51"/>
                    <a:pt x="536" y="72"/>
                  </a:cubicBezTo>
                  <a:cubicBezTo>
                    <a:pt x="474" y="124"/>
                    <a:pt x="527" y="80"/>
                    <a:pt x="488" y="136"/>
                  </a:cubicBezTo>
                  <a:cubicBezTo>
                    <a:pt x="457" y="178"/>
                    <a:pt x="469" y="141"/>
                    <a:pt x="432" y="184"/>
                  </a:cubicBezTo>
                  <a:cubicBezTo>
                    <a:pt x="399" y="220"/>
                    <a:pt x="401" y="238"/>
                    <a:pt x="368" y="264"/>
                  </a:cubicBezTo>
                  <a:cubicBezTo>
                    <a:pt x="321" y="300"/>
                    <a:pt x="324" y="294"/>
                    <a:pt x="272" y="312"/>
                  </a:cubicBezTo>
                  <a:cubicBezTo>
                    <a:pt x="264" y="314"/>
                    <a:pt x="248" y="320"/>
                    <a:pt x="248" y="320"/>
                  </a:cubicBezTo>
                  <a:cubicBezTo>
                    <a:pt x="148" y="315"/>
                    <a:pt x="81" y="328"/>
                    <a:pt x="0" y="28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1638360" y="2433600"/>
              <a:ext cx="215640" cy="23796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Ovale 46"/>
          <p:cNvSpPr/>
          <p:nvPr/>
        </p:nvSpPr>
        <p:spPr>
          <a:xfrm>
            <a:off x="1371600" y="4021200"/>
            <a:ext cx="763560" cy="76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1747800" y="4218120"/>
            <a:ext cx="216000" cy="237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sellaDiTesto 49"/>
          <p:cNvSpPr/>
          <p:nvPr/>
        </p:nvSpPr>
        <p:spPr>
          <a:xfrm>
            <a:off x="896760" y="3059280"/>
            <a:ext cx="191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ellula somat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asellaDiTesto 51"/>
          <p:cNvSpPr/>
          <p:nvPr/>
        </p:nvSpPr>
        <p:spPr>
          <a:xfrm>
            <a:off x="795240" y="4900680"/>
            <a:ext cx="191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ellula staminale embrion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uppo 62"/>
          <p:cNvGrpSpPr/>
          <p:nvPr/>
        </p:nvGrpSpPr>
        <p:grpSpPr>
          <a:xfrm>
            <a:off x="3657600" y="3247920"/>
            <a:ext cx="1981080" cy="970200"/>
            <a:chOff x="3657600" y="3247920"/>
            <a:chExt cx="1981080" cy="970200"/>
          </a:xfrm>
        </p:grpSpPr>
        <p:grpSp>
          <p:nvGrpSpPr>
            <p:cNvPr id="66" name="Gruppo 53"/>
            <p:cNvGrpSpPr/>
            <p:nvPr/>
          </p:nvGrpSpPr>
          <p:grpSpPr>
            <a:xfrm>
              <a:off x="3657600" y="3247920"/>
              <a:ext cx="1981080" cy="882720"/>
              <a:chOff x="3657600" y="3247920"/>
              <a:chExt cx="1981080" cy="882720"/>
            </a:xfrm>
          </p:grpSpPr>
          <p:sp>
            <p:nvSpPr>
              <p:cNvPr id="67" name="Freeform 10"/>
              <p:cNvSpPr/>
              <p:nvPr/>
            </p:nvSpPr>
            <p:spPr>
              <a:xfrm>
                <a:off x="3657600" y="3247920"/>
                <a:ext cx="1981080" cy="882720"/>
              </a:xfrm>
              <a:custGeom>
                <a:avLst/>
                <a:gdLst/>
                <a:ahLst/>
                <a:rect l="l" t="t" r="r" b="b"/>
                <a:pathLst>
                  <a:path w="664" h="328">
                    <a:moveTo>
                      <a:pt x="0" y="288"/>
                    </a:moveTo>
                    <a:cubicBezTo>
                      <a:pt x="16" y="282"/>
                      <a:pt x="32" y="277"/>
                      <a:pt x="48" y="272"/>
                    </a:cubicBezTo>
                    <a:cubicBezTo>
                      <a:pt x="56" y="269"/>
                      <a:pt x="72" y="264"/>
                      <a:pt x="72" y="264"/>
                    </a:cubicBezTo>
                    <a:cubicBezTo>
                      <a:pt x="92" y="233"/>
                      <a:pt x="120" y="219"/>
                      <a:pt x="144" y="192"/>
                    </a:cubicBezTo>
                    <a:cubicBezTo>
                      <a:pt x="173" y="156"/>
                      <a:pt x="182" y="136"/>
                      <a:pt x="224" y="112"/>
                    </a:cubicBezTo>
                    <a:cubicBezTo>
                      <a:pt x="277" y="31"/>
                      <a:pt x="397" y="11"/>
                      <a:pt x="488" y="0"/>
                    </a:cubicBezTo>
                    <a:cubicBezTo>
                      <a:pt x="533" y="2"/>
                      <a:pt x="578" y="3"/>
                      <a:pt x="624" y="8"/>
                    </a:cubicBezTo>
                    <a:cubicBezTo>
                      <a:pt x="637" y="9"/>
                      <a:pt x="664" y="2"/>
                      <a:pt x="664" y="16"/>
                    </a:cubicBezTo>
                    <a:cubicBezTo>
                      <a:pt x="664" y="29"/>
                      <a:pt x="637" y="20"/>
                      <a:pt x="624" y="24"/>
                    </a:cubicBezTo>
                    <a:cubicBezTo>
                      <a:pt x="592" y="31"/>
                      <a:pt x="560" y="51"/>
                      <a:pt x="536" y="72"/>
                    </a:cubicBezTo>
                    <a:cubicBezTo>
                      <a:pt x="474" y="124"/>
                      <a:pt x="527" y="80"/>
                      <a:pt x="488" y="136"/>
                    </a:cubicBezTo>
                    <a:cubicBezTo>
                      <a:pt x="457" y="178"/>
                      <a:pt x="469" y="141"/>
                      <a:pt x="432" y="184"/>
                    </a:cubicBezTo>
                    <a:cubicBezTo>
                      <a:pt x="399" y="220"/>
                      <a:pt x="401" y="238"/>
                      <a:pt x="368" y="264"/>
                    </a:cubicBezTo>
                    <a:cubicBezTo>
                      <a:pt x="321" y="300"/>
                      <a:pt x="324" y="294"/>
                      <a:pt x="272" y="312"/>
                    </a:cubicBezTo>
                    <a:cubicBezTo>
                      <a:pt x="264" y="314"/>
                      <a:pt x="248" y="320"/>
                      <a:pt x="248" y="320"/>
                    </a:cubicBezTo>
                    <a:cubicBezTo>
                      <a:pt x="148" y="315"/>
                      <a:pt x="81" y="328"/>
                      <a:pt x="0" y="288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Oval 11"/>
              <p:cNvSpPr/>
              <p:nvPr/>
            </p:nvSpPr>
            <p:spPr>
              <a:xfrm>
                <a:off x="4432320" y="3590640"/>
                <a:ext cx="215640" cy="237960"/>
              </a:xfrm>
              <a:prstGeom prst="ellipse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" name="Gruppo 59"/>
            <p:cNvGrpSpPr/>
            <p:nvPr/>
          </p:nvGrpSpPr>
          <p:grpSpPr>
            <a:xfrm>
              <a:off x="4874760" y="3454200"/>
              <a:ext cx="763920" cy="763920"/>
              <a:chOff x="4874760" y="3454200"/>
              <a:chExt cx="763920" cy="763920"/>
            </a:xfrm>
          </p:grpSpPr>
          <p:sp>
            <p:nvSpPr>
              <p:cNvPr id="70" name="Ovale 60"/>
              <p:cNvSpPr/>
              <p:nvPr/>
            </p:nvSpPr>
            <p:spPr>
              <a:xfrm>
                <a:off x="4874760" y="3454200"/>
                <a:ext cx="763920" cy="763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5251680" y="3650400"/>
                <a:ext cx="216000" cy="2379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" name="Rettangolo 52"/>
            <p:cNvSpPr/>
            <p:nvPr/>
          </p:nvSpPr>
          <p:spPr>
            <a:xfrm>
              <a:off x="4813200" y="3454200"/>
              <a:ext cx="4222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3" name="Connettore 2 17409"/>
          <p:cNvCxnSpPr/>
          <p:nvPr/>
        </p:nvCxnSpPr>
        <p:spPr>
          <a:xfrm>
            <a:off x="2951280" y="2886120"/>
            <a:ext cx="707040" cy="481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Connettore 2 66"/>
          <p:cNvCxnSpPr/>
          <p:nvPr/>
        </p:nvCxnSpPr>
        <p:spPr>
          <a:xfrm flipV="1">
            <a:off x="2470320" y="4115880"/>
            <a:ext cx="918000" cy="231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Connettore 2 69"/>
          <p:cNvCxnSpPr/>
          <p:nvPr/>
        </p:nvCxnSpPr>
        <p:spPr>
          <a:xfrm flipV="1">
            <a:off x="5951520" y="3591720"/>
            <a:ext cx="829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Gruppo 17414"/>
          <p:cNvGrpSpPr/>
          <p:nvPr/>
        </p:nvGrpSpPr>
        <p:grpSpPr>
          <a:xfrm>
            <a:off x="7151760" y="3114720"/>
            <a:ext cx="1073160" cy="1073160"/>
            <a:chOff x="7151760" y="3114720"/>
            <a:chExt cx="1073160" cy="1073160"/>
          </a:xfrm>
        </p:grpSpPr>
        <p:sp>
          <p:nvSpPr>
            <p:cNvPr id="77" name="Ovale 73"/>
            <p:cNvSpPr/>
            <p:nvPr/>
          </p:nvSpPr>
          <p:spPr>
            <a:xfrm>
              <a:off x="7151760" y="3114720"/>
              <a:ext cx="1073160" cy="10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7805520" y="3585960"/>
              <a:ext cx="215640" cy="237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7432920" y="3416400"/>
              <a:ext cx="215640" cy="237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CasellaDiTesto 78"/>
          <p:cNvSpPr/>
          <p:nvPr/>
        </p:nvSpPr>
        <p:spPr>
          <a:xfrm>
            <a:off x="3691080" y="4302000"/>
            <a:ext cx="19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Fusione cellula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sellaDiTesto 79"/>
          <p:cNvSpPr/>
          <p:nvPr/>
        </p:nvSpPr>
        <p:spPr>
          <a:xfrm>
            <a:off x="6689880" y="4302000"/>
            <a:ext cx="19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terocario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asellaDiTesto 2"/>
          <p:cNvSpPr/>
          <p:nvPr/>
        </p:nvSpPr>
        <p:spPr>
          <a:xfrm>
            <a:off x="619200" y="318960"/>
            <a:ext cx="79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iprogrammazione di cellule somatiche tramite fusione cellul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(Takashi Tada, 200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4"/>
          <p:cNvSpPr/>
          <p:nvPr/>
        </p:nvSpPr>
        <p:spPr>
          <a:xfrm>
            <a:off x="3017880" y="3255840"/>
            <a:ext cx="99072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5"/>
          <p:cNvSpPr/>
          <p:nvPr/>
        </p:nvSpPr>
        <p:spPr>
          <a:xfrm>
            <a:off x="3405240" y="3427560"/>
            <a:ext cx="108000" cy="120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2484360" y="3789360"/>
            <a:ext cx="99072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9"/>
          <p:cNvSpPr/>
          <p:nvPr/>
        </p:nvSpPr>
        <p:spPr>
          <a:xfrm>
            <a:off x="2871720" y="3960720"/>
            <a:ext cx="108000" cy="120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3398760" y="3560760"/>
            <a:ext cx="99072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3786120" y="3732120"/>
            <a:ext cx="108000" cy="120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2"/>
          <p:cNvSpPr/>
          <p:nvPr/>
        </p:nvSpPr>
        <p:spPr>
          <a:xfrm>
            <a:off x="2865600" y="4094280"/>
            <a:ext cx="99036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3"/>
          <p:cNvSpPr/>
          <p:nvPr/>
        </p:nvSpPr>
        <p:spPr>
          <a:xfrm>
            <a:off x="3252960" y="4265640"/>
            <a:ext cx="107640" cy="120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6"/>
          <p:cNvSpPr/>
          <p:nvPr/>
        </p:nvSpPr>
        <p:spPr>
          <a:xfrm>
            <a:off x="7991640" y="3560760"/>
            <a:ext cx="99036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17"/>
          <p:cNvSpPr/>
          <p:nvPr/>
        </p:nvSpPr>
        <p:spPr>
          <a:xfrm>
            <a:off x="8379000" y="3732120"/>
            <a:ext cx="10764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9"/>
          <p:cNvSpPr/>
          <p:nvPr/>
        </p:nvSpPr>
        <p:spPr>
          <a:xfrm>
            <a:off x="7077240" y="4246560"/>
            <a:ext cx="99036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0"/>
          <p:cNvSpPr/>
          <p:nvPr/>
        </p:nvSpPr>
        <p:spPr>
          <a:xfrm>
            <a:off x="7464600" y="4417920"/>
            <a:ext cx="10764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21"/>
          <p:cNvSpPr/>
          <p:nvPr/>
        </p:nvSpPr>
        <p:spPr>
          <a:xfrm>
            <a:off x="6238800" y="2798640"/>
            <a:ext cx="2743200" cy="1870200"/>
          </a:xfrm>
          <a:custGeom>
            <a:avLst/>
            <a:gdLst/>
            <a:ahLst/>
            <a:rect l="l" t="t" r="r" b="b"/>
            <a:pathLst>
              <a:path w="2167" h="1476">
                <a:moveTo>
                  <a:pt x="295" y="1108"/>
                </a:moveTo>
                <a:cubicBezTo>
                  <a:pt x="433" y="1061"/>
                  <a:pt x="584" y="1004"/>
                  <a:pt x="703" y="916"/>
                </a:cubicBezTo>
                <a:cubicBezTo>
                  <a:pt x="768" y="866"/>
                  <a:pt x="829" y="803"/>
                  <a:pt x="895" y="756"/>
                </a:cubicBezTo>
                <a:cubicBezTo>
                  <a:pt x="965" y="705"/>
                  <a:pt x="1033" y="665"/>
                  <a:pt x="1103" y="612"/>
                </a:cubicBezTo>
                <a:cubicBezTo>
                  <a:pt x="1162" y="566"/>
                  <a:pt x="1230" y="501"/>
                  <a:pt x="1287" y="452"/>
                </a:cubicBezTo>
                <a:cubicBezTo>
                  <a:pt x="1371" y="377"/>
                  <a:pt x="1318" y="398"/>
                  <a:pt x="1375" y="380"/>
                </a:cubicBezTo>
                <a:cubicBezTo>
                  <a:pt x="1547" y="246"/>
                  <a:pt x="1736" y="113"/>
                  <a:pt x="1951" y="60"/>
                </a:cubicBezTo>
                <a:cubicBezTo>
                  <a:pt x="1959" y="52"/>
                  <a:pt x="1967" y="44"/>
                  <a:pt x="1975" y="36"/>
                </a:cubicBezTo>
                <a:cubicBezTo>
                  <a:pt x="1983" y="25"/>
                  <a:pt x="1986" y="0"/>
                  <a:pt x="1999" y="4"/>
                </a:cubicBezTo>
                <a:cubicBezTo>
                  <a:pt x="2017" y="9"/>
                  <a:pt x="2011" y="49"/>
                  <a:pt x="2031" y="52"/>
                </a:cubicBezTo>
                <a:cubicBezTo>
                  <a:pt x="2055" y="54"/>
                  <a:pt x="2079" y="57"/>
                  <a:pt x="2103" y="60"/>
                </a:cubicBezTo>
                <a:cubicBezTo>
                  <a:pt x="2095" y="65"/>
                  <a:pt x="2080" y="66"/>
                  <a:pt x="2079" y="76"/>
                </a:cubicBezTo>
                <a:cubicBezTo>
                  <a:pt x="2074" y="105"/>
                  <a:pt x="2121" y="123"/>
                  <a:pt x="2135" y="132"/>
                </a:cubicBezTo>
                <a:cubicBezTo>
                  <a:pt x="2127" y="140"/>
                  <a:pt x="2112" y="144"/>
                  <a:pt x="2111" y="156"/>
                </a:cubicBezTo>
                <a:cubicBezTo>
                  <a:pt x="2108" y="170"/>
                  <a:pt x="2156" y="228"/>
                  <a:pt x="2167" y="244"/>
                </a:cubicBezTo>
                <a:cubicBezTo>
                  <a:pt x="2125" y="252"/>
                  <a:pt x="2089" y="261"/>
                  <a:pt x="2047" y="268"/>
                </a:cubicBezTo>
                <a:cubicBezTo>
                  <a:pt x="2017" y="277"/>
                  <a:pt x="1997" y="292"/>
                  <a:pt x="1967" y="300"/>
                </a:cubicBezTo>
                <a:cubicBezTo>
                  <a:pt x="1927" y="331"/>
                  <a:pt x="1887" y="355"/>
                  <a:pt x="1839" y="372"/>
                </a:cubicBezTo>
                <a:cubicBezTo>
                  <a:pt x="1796" y="414"/>
                  <a:pt x="1736" y="433"/>
                  <a:pt x="1687" y="468"/>
                </a:cubicBezTo>
                <a:cubicBezTo>
                  <a:pt x="1642" y="499"/>
                  <a:pt x="1681" y="482"/>
                  <a:pt x="1647" y="524"/>
                </a:cubicBezTo>
                <a:cubicBezTo>
                  <a:pt x="1640" y="531"/>
                  <a:pt x="1630" y="533"/>
                  <a:pt x="1623" y="540"/>
                </a:cubicBezTo>
                <a:cubicBezTo>
                  <a:pt x="1584" y="572"/>
                  <a:pt x="1544" y="606"/>
                  <a:pt x="1511" y="644"/>
                </a:cubicBezTo>
                <a:cubicBezTo>
                  <a:pt x="1482" y="675"/>
                  <a:pt x="1456" y="705"/>
                  <a:pt x="1423" y="732"/>
                </a:cubicBezTo>
                <a:cubicBezTo>
                  <a:pt x="1407" y="743"/>
                  <a:pt x="1375" y="764"/>
                  <a:pt x="1375" y="764"/>
                </a:cubicBezTo>
                <a:cubicBezTo>
                  <a:pt x="1321" y="844"/>
                  <a:pt x="1404" y="731"/>
                  <a:pt x="1327" y="796"/>
                </a:cubicBezTo>
                <a:cubicBezTo>
                  <a:pt x="1317" y="803"/>
                  <a:pt x="1319" y="819"/>
                  <a:pt x="1311" y="828"/>
                </a:cubicBezTo>
                <a:cubicBezTo>
                  <a:pt x="1302" y="836"/>
                  <a:pt x="1288" y="836"/>
                  <a:pt x="1279" y="844"/>
                </a:cubicBezTo>
                <a:cubicBezTo>
                  <a:pt x="1266" y="853"/>
                  <a:pt x="1259" y="867"/>
                  <a:pt x="1247" y="876"/>
                </a:cubicBezTo>
                <a:cubicBezTo>
                  <a:pt x="1216" y="896"/>
                  <a:pt x="1180" y="909"/>
                  <a:pt x="1151" y="932"/>
                </a:cubicBezTo>
                <a:cubicBezTo>
                  <a:pt x="993" y="1050"/>
                  <a:pt x="798" y="1226"/>
                  <a:pt x="599" y="1260"/>
                </a:cubicBezTo>
                <a:cubicBezTo>
                  <a:pt x="577" y="1270"/>
                  <a:pt x="558" y="1287"/>
                  <a:pt x="535" y="1292"/>
                </a:cubicBezTo>
                <a:cubicBezTo>
                  <a:pt x="513" y="1296"/>
                  <a:pt x="491" y="1299"/>
                  <a:pt x="471" y="1308"/>
                </a:cubicBezTo>
                <a:cubicBezTo>
                  <a:pt x="396" y="1341"/>
                  <a:pt x="450" y="1325"/>
                  <a:pt x="391" y="1340"/>
                </a:cubicBezTo>
                <a:cubicBezTo>
                  <a:pt x="363" y="1358"/>
                  <a:pt x="334" y="1369"/>
                  <a:pt x="303" y="1380"/>
                </a:cubicBezTo>
                <a:cubicBezTo>
                  <a:pt x="295" y="1388"/>
                  <a:pt x="288" y="1397"/>
                  <a:pt x="279" y="1404"/>
                </a:cubicBezTo>
                <a:cubicBezTo>
                  <a:pt x="271" y="1408"/>
                  <a:pt x="261" y="1406"/>
                  <a:pt x="255" y="1412"/>
                </a:cubicBezTo>
                <a:cubicBezTo>
                  <a:pt x="244" y="1420"/>
                  <a:pt x="240" y="1434"/>
                  <a:pt x="231" y="1444"/>
                </a:cubicBezTo>
                <a:cubicBezTo>
                  <a:pt x="218" y="1456"/>
                  <a:pt x="204" y="1465"/>
                  <a:pt x="191" y="1476"/>
                </a:cubicBezTo>
                <a:cubicBezTo>
                  <a:pt x="185" y="1465"/>
                  <a:pt x="185" y="1449"/>
                  <a:pt x="175" y="1444"/>
                </a:cubicBezTo>
                <a:cubicBezTo>
                  <a:pt x="102" y="1407"/>
                  <a:pt x="68" y="1454"/>
                  <a:pt x="119" y="1404"/>
                </a:cubicBezTo>
                <a:cubicBezTo>
                  <a:pt x="86" y="1338"/>
                  <a:pt x="47" y="1333"/>
                  <a:pt x="175" y="1380"/>
                </a:cubicBezTo>
                <a:cubicBezTo>
                  <a:pt x="191" y="1372"/>
                  <a:pt x="215" y="1372"/>
                  <a:pt x="223" y="1356"/>
                </a:cubicBezTo>
                <a:cubicBezTo>
                  <a:pt x="227" y="1346"/>
                  <a:pt x="200" y="1352"/>
                  <a:pt x="191" y="1348"/>
                </a:cubicBezTo>
                <a:cubicBezTo>
                  <a:pt x="179" y="1342"/>
                  <a:pt x="170" y="1330"/>
                  <a:pt x="159" y="1324"/>
                </a:cubicBezTo>
                <a:cubicBezTo>
                  <a:pt x="134" y="1310"/>
                  <a:pt x="103" y="1312"/>
                  <a:pt x="79" y="1300"/>
                </a:cubicBezTo>
                <a:cubicBezTo>
                  <a:pt x="66" y="1293"/>
                  <a:pt x="105" y="1305"/>
                  <a:pt x="119" y="1308"/>
                </a:cubicBezTo>
                <a:cubicBezTo>
                  <a:pt x="153" y="1302"/>
                  <a:pt x="189" y="1303"/>
                  <a:pt x="223" y="1292"/>
                </a:cubicBezTo>
                <a:cubicBezTo>
                  <a:pt x="261" y="1279"/>
                  <a:pt x="223" y="1244"/>
                  <a:pt x="215" y="1236"/>
                </a:cubicBezTo>
                <a:cubicBezTo>
                  <a:pt x="175" y="1196"/>
                  <a:pt x="136" y="1151"/>
                  <a:pt x="87" y="1124"/>
                </a:cubicBezTo>
                <a:cubicBezTo>
                  <a:pt x="69" y="1114"/>
                  <a:pt x="14" y="1091"/>
                  <a:pt x="7" y="1076"/>
                </a:cubicBezTo>
                <a:cubicBezTo>
                  <a:pt x="0" y="1063"/>
                  <a:pt x="33" y="1087"/>
                  <a:pt x="47" y="1092"/>
                </a:cubicBezTo>
                <a:cubicBezTo>
                  <a:pt x="116" y="1117"/>
                  <a:pt x="94" y="1107"/>
                  <a:pt x="191" y="1116"/>
                </a:cubicBezTo>
                <a:cubicBezTo>
                  <a:pt x="225" y="1127"/>
                  <a:pt x="274" y="1149"/>
                  <a:pt x="295" y="110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6892920" y="417024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23"/>
          <p:cNvSpPr/>
          <p:nvPr/>
        </p:nvSpPr>
        <p:spPr>
          <a:xfrm>
            <a:off x="7229520" y="401796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24"/>
          <p:cNvSpPr/>
          <p:nvPr/>
        </p:nvSpPr>
        <p:spPr>
          <a:xfrm>
            <a:off x="7534440" y="3789360"/>
            <a:ext cx="10764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25"/>
          <p:cNvSpPr/>
          <p:nvPr/>
        </p:nvSpPr>
        <p:spPr>
          <a:xfrm>
            <a:off x="7883640" y="348444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26"/>
          <p:cNvSpPr/>
          <p:nvPr/>
        </p:nvSpPr>
        <p:spPr>
          <a:xfrm>
            <a:off x="8188200" y="3214800"/>
            <a:ext cx="108000" cy="11736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9"/>
          <p:cNvSpPr/>
          <p:nvPr/>
        </p:nvSpPr>
        <p:spPr>
          <a:xfrm>
            <a:off x="5154480" y="3255840"/>
            <a:ext cx="99072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5541840" y="342756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3"/>
          <p:cNvSpPr/>
          <p:nvPr/>
        </p:nvSpPr>
        <p:spPr>
          <a:xfrm>
            <a:off x="4621320" y="3789360"/>
            <a:ext cx="99036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4"/>
          <p:cNvSpPr/>
          <p:nvPr/>
        </p:nvSpPr>
        <p:spPr>
          <a:xfrm>
            <a:off x="5008680" y="396072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5"/>
          <p:cNvSpPr/>
          <p:nvPr/>
        </p:nvSpPr>
        <p:spPr>
          <a:xfrm>
            <a:off x="5535720" y="3560760"/>
            <a:ext cx="99036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5923080" y="373212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37"/>
          <p:cNvSpPr/>
          <p:nvPr/>
        </p:nvSpPr>
        <p:spPr>
          <a:xfrm>
            <a:off x="5002200" y="4094280"/>
            <a:ext cx="990720" cy="441360"/>
          </a:xfrm>
          <a:custGeom>
            <a:avLst/>
            <a:gdLst/>
            <a:ahLst/>
            <a:rect l="l" t="t" r="r" b="b"/>
            <a:pathLst>
              <a:path w="664" h="328">
                <a:moveTo>
                  <a:pt x="0" y="288"/>
                </a:moveTo>
                <a:cubicBezTo>
                  <a:pt x="16" y="282"/>
                  <a:pt x="32" y="277"/>
                  <a:pt x="48" y="272"/>
                </a:cubicBezTo>
                <a:cubicBezTo>
                  <a:pt x="56" y="269"/>
                  <a:pt x="72" y="264"/>
                  <a:pt x="72" y="264"/>
                </a:cubicBezTo>
                <a:cubicBezTo>
                  <a:pt x="92" y="233"/>
                  <a:pt x="120" y="219"/>
                  <a:pt x="144" y="192"/>
                </a:cubicBezTo>
                <a:cubicBezTo>
                  <a:pt x="173" y="156"/>
                  <a:pt x="182" y="136"/>
                  <a:pt x="224" y="112"/>
                </a:cubicBezTo>
                <a:cubicBezTo>
                  <a:pt x="277" y="31"/>
                  <a:pt x="397" y="11"/>
                  <a:pt x="488" y="0"/>
                </a:cubicBezTo>
                <a:cubicBezTo>
                  <a:pt x="533" y="2"/>
                  <a:pt x="578" y="3"/>
                  <a:pt x="624" y="8"/>
                </a:cubicBezTo>
                <a:cubicBezTo>
                  <a:pt x="637" y="9"/>
                  <a:pt x="664" y="2"/>
                  <a:pt x="664" y="16"/>
                </a:cubicBezTo>
                <a:cubicBezTo>
                  <a:pt x="664" y="29"/>
                  <a:pt x="637" y="20"/>
                  <a:pt x="624" y="24"/>
                </a:cubicBezTo>
                <a:cubicBezTo>
                  <a:pt x="592" y="31"/>
                  <a:pt x="560" y="51"/>
                  <a:pt x="536" y="72"/>
                </a:cubicBezTo>
                <a:cubicBezTo>
                  <a:pt x="474" y="124"/>
                  <a:pt x="527" y="80"/>
                  <a:pt x="488" y="136"/>
                </a:cubicBezTo>
                <a:cubicBezTo>
                  <a:pt x="457" y="178"/>
                  <a:pt x="469" y="141"/>
                  <a:pt x="432" y="184"/>
                </a:cubicBezTo>
                <a:cubicBezTo>
                  <a:pt x="399" y="220"/>
                  <a:pt x="401" y="238"/>
                  <a:pt x="368" y="264"/>
                </a:cubicBezTo>
                <a:cubicBezTo>
                  <a:pt x="321" y="300"/>
                  <a:pt x="324" y="294"/>
                  <a:pt x="272" y="312"/>
                </a:cubicBezTo>
                <a:cubicBezTo>
                  <a:pt x="264" y="314"/>
                  <a:pt x="248" y="320"/>
                  <a:pt x="248" y="320"/>
                </a:cubicBezTo>
                <a:cubicBezTo>
                  <a:pt x="148" y="315"/>
                  <a:pt x="81" y="328"/>
                  <a:pt x="0" y="28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38"/>
          <p:cNvSpPr/>
          <p:nvPr/>
        </p:nvSpPr>
        <p:spPr>
          <a:xfrm>
            <a:off x="5389560" y="4265640"/>
            <a:ext cx="108000" cy="120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42"/>
          <p:cNvSpPr/>
          <p:nvPr/>
        </p:nvSpPr>
        <p:spPr>
          <a:xfrm>
            <a:off x="4178160" y="38656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43"/>
          <p:cNvSpPr/>
          <p:nvPr/>
        </p:nvSpPr>
        <p:spPr>
          <a:xfrm>
            <a:off x="6372360" y="38656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uppo 45"/>
          <p:cNvGrpSpPr/>
          <p:nvPr/>
        </p:nvGrpSpPr>
        <p:grpSpPr>
          <a:xfrm>
            <a:off x="928800" y="2971440"/>
            <a:ext cx="752400" cy="849240"/>
            <a:chOff x="928800" y="2971440"/>
            <a:chExt cx="752400" cy="849240"/>
          </a:xfrm>
        </p:grpSpPr>
        <p:sp>
          <p:nvSpPr>
            <p:cNvPr id="112" name="Figura a mano libera 43"/>
            <p:cNvSpPr/>
            <p:nvPr/>
          </p:nvSpPr>
          <p:spPr>
            <a:xfrm flipH="1" flipV="1">
              <a:off x="928800" y="2971080"/>
              <a:ext cx="752400" cy="849240"/>
            </a:xfrm>
            <a:custGeom>
              <a:avLst/>
              <a:gdLst/>
              <a:ahLst/>
              <a:rect l="l" t="t" r="r" b="b"/>
              <a:pathLst>
                <a:path w="940093" h="1062804">
                  <a:moveTo>
                    <a:pt x="661282" y="60242"/>
                  </a:moveTo>
                  <a:lnTo>
                    <a:pt x="661282" y="60242"/>
                  </a:lnTo>
                  <a:cubicBezTo>
                    <a:pt x="616970" y="73535"/>
                    <a:pt x="572859" y="88378"/>
                    <a:pt x="527601" y="98435"/>
                  </a:cubicBezTo>
                  <a:cubicBezTo>
                    <a:pt x="507989" y="102793"/>
                    <a:pt x="471688" y="107294"/>
                    <a:pt x="451212" y="117531"/>
                  </a:cubicBezTo>
                  <a:cubicBezTo>
                    <a:pt x="440948" y="122663"/>
                    <a:pt x="433053" y="131966"/>
                    <a:pt x="422566" y="136627"/>
                  </a:cubicBezTo>
                  <a:cubicBezTo>
                    <a:pt x="404171" y="144802"/>
                    <a:pt x="365274" y="155724"/>
                    <a:pt x="365274" y="155724"/>
                  </a:cubicBezTo>
                  <a:cubicBezTo>
                    <a:pt x="431106" y="177667"/>
                    <a:pt x="408332" y="160586"/>
                    <a:pt x="441663" y="193917"/>
                  </a:cubicBezTo>
                  <a:cubicBezTo>
                    <a:pt x="432114" y="203465"/>
                    <a:pt x="423270" y="213773"/>
                    <a:pt x="413017" y="222561"/>
                  </a:cubicBezTo>
                  <a:cubicBezTo>
                    <a:pt x="400934" y="232917"/>
                    <a:pt x="385396" y="239312"/>
                    <a:pt x="374823" y="251206"/>
                  </a:cubicBezTo>
                  <a:cubicBezTo>
                    <a:pt x="310310" y="323781"/>
                    <a:pt x="367496" y="298207"/>
                    <a:pt x="307983" y="318043"/>
                  </a:cubicBezTo>
                  <a:cubicBezTo>
                    <a:pt x="301617" y="324409"/>
                    <a:pt x="296937" y="333114"/>
                    <a:pt x="288885" y="337140"/>
                  </a:cubicBezTo>
                  <a:cubicBezTo>
                    <a:pt x="277147" y="343009"/>
                    <a:pt x="263309" y="343083"/>
                    <a:pt x="250691" y="346688"/>
                  </a:cubicBezTo>
                  <a:cubicBezTo>
                    <a:pt x="241013" y="349453"/>
                    <a:pt x="231594" y="353053"/>
                    <a:pt x="222045" y="356236"/>
                  </a:cubicBezTo>
                  <a:cubicBezTo>
                    <a:pt x="188714" y="389567"/>
                    <a:pt x="211488" y="372486"/>
                    <a:pt x="145656" y="394429"/>
                  </a:cubicBezTo>
                  <a:lnTo>
                    <a:pt x="117010" y="403977"/>
                  </a:lnTo>
                  <a:cubicBezTo>
                    <a:pt x="129742" y="407160"/>
                    <a:pt x="142162" y="412076"/>
                    <a:pt x="155205" y="413525"/>
                  </a:cubicBezTo>
                  <a:cubicBezTo>
                    <a:pt x="199605" y="418458"/>
                    <a:pt x="251714" y="398294"/>
                    <a:pt x="288885" y="423074"/>
                  </a:cubicBezTo>
                  <a:cubicBezTo>
                    <a:pt x="307611" y="435558"/>
                    <a:pt x="254646" y="452811"/>
                    <a:pt x="241142" y="470815"/>
                  </a:cubicBezTo>
                  <a:lnTo>
                    <a:pt x="212496" y="509008"/>
                  </a:lnTo>
                  <a:cubicBezTo>
                    <a:pt x="209313" y="518556"/>
                    <a:pt x="207836" y="528854"/>
                    <a:pt x="202948" y="537652"/>
                  </a:cubicBezTo>
                  <a:cubicBezTo>
                    <a:pt x="191801" y="557715"/>
                    <a:pt x="164753" y="594941"/>
                    <a:pt x="164753" y="594941"/>
                  </a:cubicBezTo>
                  <a:cubicBezTo>
                    <a:pt x="161570" y="604489"/>
                    <a:pt x="160093" y="614788"/>
                    <a:pt x="155205" y="623586"/>
                  </a:cubicBezTo>
                  <a:cubicBezTo>
                    <a:pt x="139509" y="651837"/>
                    <a:pt x="115594" y="688341"/>
                    <a:pt x="88364" y="709520"/>
                  </a:cubicBezTo>
                  <a:cubicBezTo>
                    <a:pt x="70247" y="723611"/>
                    <a:pt x="50170" y="734982"/>
                    <a:pt x="31073" y="747713"/>
                  </a:cubicBezTo>
                  <a:cubicBezTo>
                    <a:pt x="21524" y="754078"/>
                    <a:pt x="-8706" y="769592"/>
                    <a:pt x="2427" y="766809"/>
                  </a:cubicBezTo>
                  <a:cubicBezTo>
                    <a:pt x="15158" y="763626"/>
                    <a:pt x="28333" y="761869"/>
                    <a:pt x="40621" y="757261"/>
                  </a:cubicBezTo>
                  <a:cubicBezTo>
                    <a:pt x="53949" y="752263"/>
                    <a:pt x="65312" y="742666"/>
                    <a:pt x="78816" y="738165"/>
                  </a:cubicBezTo>
                  <a:cubicBezTo>
                    <a:pt x="94213" y="733033"/>
                    <a:pt x="110745" y="732265"/>
                    <a:pt x="126559" y="728616"/>
                  </a:cubicBezTo>
                  <a:cubicBezTo>
                    <a:pt x="152133" y="722714"/>
                    <a:pt x="178048" y="717820"/>
                    <a:pt x="202948" y="709520"/>
                  </a:cubicBezTo>
                  <a:lnTo>
                    <a:pt x="260240" y="690423"/>
                  </a:lnTo>
                  <a:lnTo>
                    <a:pt x="241142" y="747713"/>
                  </a:lnTo>
                  <a:cubicBezTo>
                    <a:pt x="237959" y="757261"/>
                    <a:pt x="237177" y="767983"/>
                    <a:pt x="231594" y="776357"/>
                  </a:cubicBezTo>
                  <a:lnTo>
                    <a:pt x="193399" y="833647"/>
                  </a:lnTo>
                  <a:cubicBezTo>
                    <a:pt x="190216" y="843195"/>
                    <a:pt x="189029" y="853661"/>
                    <a:pt x="183851" y="862291"/>
                  </a:cubicBezTo>
                  <a:cubicBezTo>
                    <a:pt x="179219" y="870011"/>
                    <a:pt x="168779" y="873336"/>
                    <a:pt x="164753" y="881388"/>
                  </a:cubicBezTo>
                  <a:cubicBezTo>
                    <a:pt x="155750" y="899392"/>
                    <a:pt x="154658" y="920673"/>
                    <a:pt x="145656" y="938677"/>
                  </a:cubicBezTo>
                  <a:cubicBezTo>
                    <a:pt x="139290" y="951408"/>
                    <a:pt x="132166" y="963787"/>
                    <a:pt x="126559" y="976870"/>
                  </a:cubicBezTo>
                  <a:cubicBezTo>
                    <a:pt x="122594" y="986121"/>
                    <a:pt x="121511" y="996512"/>
                    <a:pt x="117010" y="1005514"/>
                  </a:cubicBezTo>
                  <a:cubicBezTo>
                    <a:pt x="111878" y="1015778"/>
                    <a:pt x="103045" y="1023895"/>
                    <a:pt x="97913" y="1034159"/>
                  </a:cubicBezTo>
                  <a:cubicBezTo>
                    <a:pt x="93412" y="1043161"/>
                    <a:pt x="78299" y="1062804"/>
                    <a:pt x="88364" y="1062804"/>
                  </a:cubicBezTo>
                  <a:cubicBezTo>
                    <a:pt x="101868" y="1062804"/>
                    <a:pt x="108365" y="1044533"/>
                    <a:pt x="117010" y="1034159"/>
                  </a:cubicBezTo>
                  <a:cubicBezTo>
                    <a:pt x="124357" y="1025343"/>
                    <a:pt x="128938" y="1014475"/>
                    <a:pt x="136107" y="1005514"/>
                  </a:cubicBezTo>
                  <a:cubicBezTo>
                    <a:pt x="159795" y="975906"/>
                    <a:pt x="154705" y="996965"/>
                    <a:pt x="174302" y="957773"/>
                  </a:cubicBezTo>
                  <a:cubicBezTo>
                    <a:pt x="178803" y="948771"/>
                    <a:pt x="176734" y="936246"/>
                    <a:pt x="183851" y="929129"/>
                  </a:cubicBezTo>
                  <a:cubicBezTo>
                    <a:pt x="190968" y="922012"/>
                    <a:pt x="203698" y="924468"/>
                    <a:pt x="212496" y="919580"/>
                  </a:cubicBezTo>
                  <a:cubicBezTo>
                    <a:pt x="232560" y="908434"/>
                    <a:pt x="249259" y="891652"/>
                    <a:pt x="269788" y="881388"/>
                  </a:cubicBezTo>
                  <a:cubicBezTo>
                    <a:pt x="282520" y="875022"/>
                    <a:pt x="295624" y="869353"/>
                    <a:pt x="307983" y="862291"/>
                  </a:cubicBezTo>
                  <a:cubicBezTo>
                    <a:pt x="317947" y="856598"/>
                    <a:pt x="326365" y="848327"/>
                    <a:pt x="336629" y="843195"/>
                  </a:cubicBezTo>
                  <a:cubicBezTo>
                    <a:pt x="345631" y="838694"/>
                    <a:pt x="355726" y="836830"/>
                    <a:pt x="365274" y="833647"/>
                  </a:cubicBezTo>
                  <a:cubicBezTo>
                    <a:pt x="399313" y="799610"/>
                    <a:pt x="368611" y="826285"/>
                    <a:pt x="422566" y="795454"/>
                  </a:cubicBezTo>
                  <a:cubicBezTo>
                    <a:pt x="432530" y="789760"/>
                    <a:pt x="440947" y="781489"/>
                    <a:pt x="451212" y="776357"/>
                  </a:cubicBezTo>
                  <a:cubicBezTo>
                    <a:pt x="460215" y="771856"/>
                    <a:pt x="470607" y="770774"/>
                    <a:pt x="479858" y="766809"/>
                  </a:cubicBezTo>
                  <a:cubicBezTo>
                    <a:pt x="492941" y="761202"/>
                    <a:pt x="504836" y="752999"/>
                    <a:pt x="518052" y="747713"/>
                  </a:cubicBezTo>
                  <a:cubicBezTo>
                    <a:pt x="536743" y="740237"/>
                    <a:pt x="575344" y="728616"/>
                    <a:pt x="575344" y="728616"/>
                  </a:cubicBezTo>
                  <a:cubicBezTo>
                    <a:pt x="578527" y="719068"/>
                    <a:pt x="582452" y="709736"/>
                    <a:pt x="584893" y="699972"/>
                  </a:cubicBezTo>
                  <a:cubicBezTo>
                    <a:pt x="590342" y="678175"/>
                    <a:pt x="593075" y="645416"/>
                    <a:pt x="603990" y="623586"/>
                  </a:cubicBezTo>
                  <a:cubicBezTo>
                    <a:pt x="611494" y="608578"/>
                    <a:pt x="644519" y="566848"/>
                    <a:pt x="651733" y="556749"/>
                  </a:cubicBezTo>
                  <a:cubicBezTo>
                    <a:pt x="666193" y="536507"/>
                    <a:pt x="670270" y="523751"/>
                    <a:pt x="689928" y="509008"/>
                  </a:cubicBezTo>
                  <a:cubicBezTo>
                    <a:pt x="708290" y="495237"/>
                    <a:pt x="725445" y="478073"/>
                    <a:pt x="747219" y="470815"/>
                  </a:cubicBezTo>
                  <a:cubicBezTo>
                    <a:pt x="786752" y="457637"/>
                    <a:pt x="767490" y="466849"/>
                    <a:pt x="804511" y="442170"/>
                  </a:cubicBezTo>
                  <a:cubicBezTo>
                    <a:pt x="807694" y="432622"/>
                    <a:pt x="818561" y="422527"/>
                    <a:pt x="814060" y="413525"/>
                  </a:cubicBezTo>
                  <a:cubicBezTo>
                    <a:pt x="809559" y="404523"/>
                    <a:pt x="794417" y="408478"/>
                    <a:pt x="785414" y="403977"/>
                  </a:cubicBezTo>
                  <a:cubicBezTo>
                    <a:pt x="775150" y="398845"/>
                    <a:pt x="766317" y="391246"/>
                    <a:pt x="756768" y="384881"/>
                  </a:cubicBezTo>
                  <a:cubicBezTo>
                    <a:pt x="753585" y="375333"/>
                    <a:pt x="751720" y="365238"/>
                    <a:pt x="747219" y="356236"/>
                  </a:cubicBezTo>
                  <a:cubicBezTo>
                    <a:pt x="742087" y="345972"/>
                    <a:pt x="729389" y="338997"/>
                    <a:pt x="728122" y="327592"/>
                  </a:cubicBezTo>
                  <a:cubicBezTo>
                    <a:pt x="724051" y="290948"/>
                    <a:pt x="736123" y="267463"/>
                    <a:pt x="756768" y="241658"/>
                  </a:cubicBezTo>
                  <a:cubicBezTo>
                    <a:pt x="762392" y="234628"/>
                    <a:pt x="770463" y="229763"/>
                    <a:pt x="775865" y="222561"/>
                  </a:cubicBezTo>
                  <a:cubicBezTo>
                    <a:pt x="789636" y="204200"/>
                    <a:pt x="797831" y="181501"/>
                    <a:pt x="814060" y="165272"/>
                  </a:cubicBezTo>
                  <a:cubicBezTo>
                    <a:pt x="823609" y="155724"/>
                    <a:pt x="834857" y="147615"/>
                    <a:pt x="842706" y="136627"/>
                  </a:cubicBezTo>
                  <a:cubicBezTo>
                    <a:pt x="850979" y="125045"/>
                    <a:pt x="853908" y="110278"/>
                    <a:pt x="861803" y="98435"/>
                  </a:cubicBezTo>
                  <a:cubicBezTo>
                    <a:pt x="866797" y="90945"/>
                    <a:pt x="875276" y="86368"/>
                    <a:pt x="880900" y="79338"/>
                  </a:cubicBezTo>
                  <a:cubicBezTo>
                    <a:pt x="888069" y="70377"/>
                    <a:pt x="892828" y="59655"/>
                    <a:pt x="899997" y="50694"/>
                  </a:cubicBezTo>
                  <a:cubicBezTo>
                    <a:pt x="905621" y="43664"/>
                    <a:pt x="913471" y="38627"/>
                    <a:pt x="919095" y="31597"/>
                  </a:cubicBezTo>
                  <a:cubicBezTo>
                    <a:pt x="926264" y="22636"/>
                    <a:pt x="946307" y="11067"/>
                    <a:pt x="938192" y="2953"/>
                  </a:cubicBezTo>
                  <a:cubicBezTo>
                    <a:pt x="928912" y="-6326"/>
                    <a:pt x="912616" y="8896"/>
                    <a:pt x="899997" y="12501"/>
                  </a:cubicBezTo>
                  <a:cubicBezTo>
                    <a:pt x="864205" y="22727"/>
                    <a:pt x="874201" y="24135"/>
                    <a:pt x="833157" y="31597"/>
                  </a:cubicBezTo>
                  <a:cubicBezTo>
                    <a:pt x="811014" y="35623"/>
                    <a:pt x="788460" y="37119"/>
                    <a:pt x="766317" y="41145"/>
                  </a:cubicBezTo>
                  <a:cubicBezTo>
                    <a:pt x="753405" y="43493"/>
                    <a:pt x="741034" y="48346"/>
                    <a:pt x="728122" y="50694"/>
                  </a:cubicBezTo>
                  <a:cubicBezTo>
                    <a:pt x="705979" y="54720"/>
                    <a:pt x="672422" y="58651"/>
                    <a:pt x="661282" y="60242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5"/>
            <p:cNvSpPr/>
            <p:nvPr/>
          </p:nvSpPr>
          <p:spPr>
            <a:xfrm flipH="1" flipV="1">
              <a:off x="1267200" y="3408120"/>
              <a:ext cx="87120" cy="95040"/>
            </a:xfrm>
            <a:prstGeom prst="ellipse">
              <a:avLst/>
            </a:prstGeom>
            <a:solidFill>
              <a:srgbClr val="595959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uppo 46"/>
          <p:cNvGrpSpPr/>
          <p:nvPr/>
        </p:nvGrpSpPr>
        <p:grpSpPr>
          <a:xfrm>
            <a:off x="1625400" y="2958840"/>
            <a:ext cx="750600" cy="849240"/>
            <a:chOff x="1625400" y="2958840"/>
            <a:chExt cx="750600" cy="849240"/>
          </a:xfrm>
        </p:grpSpPr>
        <p:sp>
          <p:nvSpPr>
            <p:cNvPr id="115" name="Figura a mano libera 47"/>
            <p:cNvSpPr/>
            <p:nvPr/>
          </p:nvSpPr>
          <p:spPr>
            <a:xfrm flipH="1" flipV="1">
              <a:off x="1625040" y="2958480"/>
              <a:ext cx="750600" cy="849240"/>
            </a:xfrm>
            <a:custGeom>
              <a:avLst/>
              <a:gdLst/>
              <a:ahLst/>
              <a:rect l="l" t="t" r="r" b="b"/>
              <a:pathLst>
                <a:path w="940093" h="1062804">
                  <a:moveTo>
                    <a:pt x="661282" y="60242"/>
                  </a:moveTo>
                  <a:lnTo>
                    <a:pt x="661282" y="60242"/>
                  </a:lnTo>
                  <a:cubicBezTo>
                    <a:pt x="616970" y="73535"/>
                    <a:pt x="572859" y="88378"/>
                    <a:pt x="527601" y="98435"/>
                  </a:cubicBezTo>
                  <a:cubicBezTo>
                    <a:pt x="507989" y="102793"/>
                    <a:pt x="471688" y="107294"/>
                    <a:pt x="451212" y="117531"/>
                  </a:cubicBezTo>
                  <a:cubicBezTo>
                    <a:pt x="440948" y="122663"/>
                    <a:pt x="433053" y="131966"/>
                    <a:pt x="422566" y="136627"/>
                  </a:cubicBezTo>
                  <a:cubicBezTo>
                    <a:pt x="404171" y="144802"/>
                    <a:pt x="365274" y="155724"/>
                    <a:pt x="365274" y="155724"/>
                  </a:cubicBezTo>
                  <a:cubicBezTo>
                    <a:pt x="431106" y="177667"/>
                    <a:pt x="408332" y="160586"/>
                    <a:pt x="441663" y="193917"/>
                  </a:cubicBezTo>
                  <a:cubicBezTo>
                    <a:pt x="432114" y="203465"/>
                    <a:pt x="423270" y="213773"/>
                    <a:pt x="413017" y="222561"/>
                  </a:cubicBezTo>
                  <a:cubicBezTo>
                    <a:pt x="400934" y="232917"/>
                    <a:pt x="385396" y="239312"/>
                    <a:pt x="374823" y="251206"/>
                  </a:cubicBezTo>
                  <a:cubicBezTo>
                    <a:pt x="310310" y="323781"/>
                    <a:pt x="367496" y="298207"/>
                    <a:pt x="307983" y="318043"/>
                  </a:cubicBezTo>
                  <a:cubicBezTo>
                    <a:pt x="301617" y="324409"/>
                    <a:pt x="296937" y="333114"/>
                    <a:pt x="288885" y="337140"/>
                  </a:cubicBezTo>
                  <a:cubicBezTo>
                    <a:pt x="277147" y="343009"/>
                    <a:pt x="263309" y="343083"/>
                    <a:pt x="250691" y="346688"/>
                  </a:cubicBezTo>
                  <a:cubicBezTo>
                    <a:pt x="241013" y="349453"/>
                    <a:pt x="231594" y="353053"/>
                    <a:pt x="222045" y="356236"/>
                  </a:cubicBezTo>
                  <a:cubicBezTo>
                    <a:pt x="188714" y="389567"/>
                    <a:pt x="211488" y="372486"/>
                    <a:pt x="145656" y="394429"/>
                  </a:cubicBezTo>
                  <a:lnTo>
                    <a:pt x="117010" y="403977"/>
                  </a:lnTo>
                  <a:cubicBezTo>
                    <a:pt x="129742" y="407160"/>
                    <a:pt x="142162" y="412076"/>
                    <a:pt x="155205" y="413525"/>
                  </a:cubicBezTo>
                  <a:cubicBezTo>
                    <a:pt x="199605" y="418458"/>
                    <a:pt x="251714" y="398294"/>
                    <a:pt x="288885" y="423074"/>
                  </a:cubicBezTo>
                  <a:cubicBezTo>
                    <a:pt x="307611" y="435558"/>
                    <a:pt x="254646" y="452811"/>
                    <a:pt x="241142" y="470815"/>
                  </a:cubicBezTo>
                  <a:lnTo>
                    <a:pt x="212496" y="509008"/>
                  </a:lnTo>
                  <a:cubicBezTo>
                    <a:pt x="209313" y="518556"/>
                    <a:pt x="207836" y="528854"/>
                    <a:pt x="202948" y="537652"/>
                  </a:cubicBezTo>
                  <a:cubicBezTo>
                    <a:pt x="191801" y="557715"/>
                    <a:pt x="164753" y="594941"/>
                    <a:pt x="164753" y="594941"/>
                  </a:cubicBezTo>
                  <a:cubicBezTo>
                    <a:pt x="161570" y="604489"/>
                    <a:pt x="160093" y="614788"/>
                    <a:pt x="155205" y="623586"/>
                  </a:cubicBezTo>
                  <a:cubicBezTo>
                    <a:pt x="139509" y="651837"/>
                    <a:pt x="115594" y="688341"/>
                    <a:pt x="88364" y="709520"/>
                  </a:cubicBezTo>
                  <a:cubicBezTo>
                    <a:pt x="70247" y="723611"/>
                    <a:pt x="50170" y="734982"/>
                    <a:pt x="31073" y="747713"/>
                  </a:cubicBezTo>
                  <a:cubicBezTo>
                    <a:pt x="21524" y="754078"/>
                    <a:pt x="-8706" y="769592"/>
                    <a:pt x="2427" y="766809"/>
                  </a:cubicBezTo>
                  <a:cubicBezTo>
                    <a:pt x="15158" y="763626"/>
                    <a:pt x="28333" y="761869"/>
                    <a:pt x="40621" y="757261"/>
                  </a:cubicBezTo>
                  <a:cubicBezTo>
                    <a:pt x="53949" y="752263"/>
                    <a:pt x="65312" y="742666"/>
                    <a:pt x="78816" y="738165"/>
                  </a:cubicBezTo>
                  <a:cubicBezTo>
                    <a:pt x="94213" y="733033"/>
                    <a:pt x="110745" y="732265"/>
                    <a:pt x="126559" y="728616"/>
                  </a:cubicBezTo>
                  <a:cubicBezTo>
                    <a:pt x="152133" y="722714"/>
                    <a:pt x="178048" y="717820"/>
                    <a:pt x="202948" y="709520"/>
                  </a:cubicBezTo>
                  <a:lnTo>
                    <a:pt x="260240" y="690423"/>
                  </a:lnTo>
                  <a:lnTo>
                    <a:pt x="241142" y="747713"/>
                  </a:lnTo>
                  <a:cubicBezTo>
                    <a:pt x="237959" y="757261"/>
                    <a:pt x="237177" y="767983"/>
                    <a:pt x="231594" y="776357"/>
                  </a:cubicBezTo>
                  <a:lnTo>
                    <a:pt x="193399" y="833647"/>
                  </a:lnTo>
                  <a:cubicBezTo>
                    <a:pt x="190216" y="843195"/>
                    <a:pt x="189029" y="853661"/>
                    <a:pt x="183851" y="862291"/>
                  </a:cubicBezTo>
                  <a:cubicBezTo>
                    <a:pt x="179219" y="870011"/>
                    <a:pt x="168779" y="873336"/>
                    <a:pt x="164753" y="881388"/>
                  </a:cubicBezTo>
                  <a:cubicBezTo>
                    <a:pt x="155750" y="899392"/>
                    <a:pt x="154658" y="920673"/>
                    <a:pt x="145656" y="938677"/>
                  </a:cubicBezTo>
                  <a:cubicBezTo>
                    <a:pt x="139290" y="951408"/>
                    <a:pt x="132166" y="963787"/>
                    <a:pt x="126559" y="976870"/>
                  </a:cubicBezTo>
                  <a:cubicBezTo>
                    <a:pt x="122594" y="986121"/>
                    <a:pt x="121511" y="996512"/>
                    <a:pt x="117010" y="1005514"/>
                  </a:cubicBezTo>
                  <a:cubicBezTo>
                    <a:pt x="111878" y="1015778"/>
                    <a:pt x="103045" y="1023895"/>
                    <a:pt x="97913" y="1034159"/>
                  </a:cubicBezTo>
                  <a:cubicBezTo>
                    <a:pt x="93412" y="1043161"/>
                    <a:pt x="78299" y="1062804"/>
                    <a:pt x="88364" y="1062804"/>
                  </a:cubicBezTo>
                  <a:cubicBezTo>
                    <a:pt x="101868" y="1062804"/>
                    <a:pt x="108365" y="1044533"/>
                    <a:pt x="117010" y="1034159"/>
                  </a:cubicBezTo>
                  <a:cubicBezTo>
                    <a:pt x="124357" y="1025343"/>
                    <a:pt x="128938" y="1014475"/>
                    <a:pt x="136107" y="1005514"/>
                  </a:cubicBezTo>
                  <a:cubicBezTo>
                    <a:pt x="159795" y="975906"/>
                    <a:pt x="154705" y="996965"/>
                    <a:pt x="174302" y="957773"/>
                  </a:cubicBezTo>
                  <a:cubicBezTo>
                    <a:pt x="178803" y="948771"/>
                    <a:pt x="176734" y="936246"/>
                    <a:pt x="183851" y="929129"/>
                  </a:cubicBezTo>
                  <a:cubicBezTo>
                    <a:pt x="190968" y="922012"/>
                    <a:pt x="203698" y="924468"/>
                    <a:pt x="212496" y="919580"/>
                  </a:cubicBezTo>
                  <a:cubicBezTo>
                    <a:pt x="232560" y="908434"/>
                    <a:pt x="249259" y="891652"/>
                    <a:pt x="269788" y="881388"/>
                  </a:cubicBezTo>
                  <a:cubicBezTo>
                    <a:pt x="282520" y="875022"/>
                    <a:pt x="295624" y="869353"/>
                    <a:pt x="307983" y="862291"/>
                  </a:cubicBezTo>
                  <a:cubicBezTo>
                    <a:pt x="317947" y="856598"/>
                    <a:pt x="326365" y="848327"/>
                    <a:pt x="336629" y="843195"/>
                  </a:cubicBezTo>
                  <a:cubicBezTo>
                    <a:pt x="345631" y="838694"/>
                    <a:pt x="355726" y="836830"/>
                    <a:pt x="365274" y="833647"/>
                  </a:cubicBezTo>
                  <a:cubicBezTo>
                    <a:pt x="399313" y="799610"/>
                    <a:pt x="368611" y="826285"/>
                    <a:pt x="422566" y="795454"/>
                  </a:cubicBezTo>
                  <a:cubicBezTo>
                    <a:pt x="432530" y="789760"/>
                    <a:pt x="440947" y="781489"/>
                    <a:pt x="451212" y="776357"/>
                  </a:cubicBezTo>
                  <a:cubicBezTo>
                    <a:pt x="460215" y="771856"/>
                    <a:pt x="470607" y="770774"/>
                    <a:pt x="479858" y="766809"/>
                  </a:cubicBezTo>
                  <a:cubicBezTo>
                    <a:pt x="492941" y="761202"/>
                    <a:pt x="504836" y="752999"/>
                    <a:pt x="518052" y="747713"/>
                  </a:cubicBezTo>
                  <a:cubicBezTo>
                    <a:pt x="536743" y="740237"/>
                    <a:pt x="575344" y="728616"/>
                    <a:pt x="575344" y="728616"/>
                  </a:cubicBezTo>
                  <a:cubicBezTo>
                    <a:pt x="578527" y="719068"/>
                    <a:pt x="582452" y="709736"/>
                    <a:pt x="584893" y="699972"/>
                  </a:cubicBezTo>
                  <a:cubicBezTo>
                    <a:pt x="590342" y="678175"/>
                    <a:pt x="593075" y="645416"/>
                    <a:pt x="603990" y="623586"/>
                  </a:cubicBezTo>
                  <a:cubicBezTo>
                    <a:pt x="611494" y="608578"/>
                    <a:pt x="644519" y="566848"/>
                    <a:pt x="651733" y="556749"/>
                  </a:cubicBezTo>
                  <a:cubicBezTo>
                    <a:pt x="666193" y="536507"/>
                    <a:pt x="670270" y="523751"/>
                    <a:pt x="689928" y="509008"/>
                  </a:cubicBezTo>
                  <a:cubicBezTo>
                    <a:pt x="708290" y="495237"/>
                    <a:pt x="725445" y="478073"/>
                    <a:pt x="747219" y="470815"/>
                  </a:cubicBezTo>
                  <a:cubicBezTo>
                    <a:pt x="786752" y="457637"/>
                    <a:pt x="767490" y="466849"/>
                    <a:pt x="804511" y="442170"/>
                  </a:cubicBezTo>
                  <a:cubicBezTo>
                    <a:pt x="807694" y="432622"/>
                    <a:pt x="818561" y="422527"/>
                    <a:pt x="814060" y="413525"/>
                  </a:cubicBezTo>
                  <a:cubicBezTo>
                    <a:pt x="809559" y="404523"/>
                    <a:pt x="794417" y="408478"/>
                    <a:pt x="785414" y="403977"/>
                  </a:cubicBezTo>
                  <a:cubicBezTo>
                    <a:pt x="775150" y="398845"/>
                    <a:pt x="766317" y="391246"/>
                    <a:pt x="756768" y="384881"/>
                  </a:cubicBezTo>
                  <a:cubicBezTo>
                    <a:pt x="753585" y="375333"/>
                    <a:pt x="751720" y="365238"/>
                    <a:pt x="747219" y="356236"/>
                  </a:cubicBezTo>
                  <a:cubicBezTo>
                    <a:pt x="742087" y="345972"/>
                    <a:pt x="729389" y="338997"/>
                    <a:pt x="728122" y="327592"/>
                  </a:cubicBezTo>
                  <a:cubicBezTo>
                    <a:pt x="724051" y="290948"/>
                    <a:pt x="736123" y="267463"/>
                    <a:pt x="756768" y="241658"/>
                  </a:cubicBezTo>
                  <a:cubicBezTo>
                    <a:pt x="762392" y="234628"/>
                    <a:pt x="770463" y="229763"/>
                    <a:pt x="775865" y="222561"/>
                  </a:cubicBezTo>
                  <a:cubicBezTo>
                    <a:pt x="789636" y="204200"/>
                    <a:pt x="797831" y="181501"/>
                    <a:pt x="814060" y="165272"/>
                  </a:cubicBezTo>
                  <a:cubicBezTo>
                    <a:pt x="823609" y="155724"/>
                    <a:pt x="834857" y="147615"/>
                    <a:pt x="842706" y="136627"/>
                  </a:cubicBezTo>
                  <a:cubicBezTo>
                    <a:pt x="850979" y="125045"/>
                    <a:pt x="853908" y="110278"/>
                    <a:pt x="861803" y="98435"/>
                  </a:cubicBezTo>
                  <a:cubicBezTo>
                    <a:pt x="866797" y="90945"/>
                    <a:pt x="875276" y="86368"/>
                    <a:pt x="880900" y="79338"/>
                  </a:cubicBezTo>
                  <a:cubicBezTo>
                    <a:pt x="888069" y="70377"/>
                    <a:pt x="892828" y="59655"/>
                    <a:pt x="899997" y="50694"/>
                  </a:cubicBezTo>
                  <a:cubicBezTo>
                    <a:pt x="905621" y="43664"/>
                    <a:pt x="913471" y="38627"/>
                    <a:pt x="919095" y="31597"/>
                  </a:cubicBezTo>
                  <a:cubicBezTo>
                    <a:pt x="926264" y="22636"/>
                    <a:pt x="946307" y="11067"/>
                    <a:pt x="938192" y="2953"/>
                  </a:cubicBezTo>
                  <a:cubicBezTo>
                    <a:pt x="928912" y="-6326"/>
                    <a:pt x="912616" y="8896"/>
                    <a:pt x="899997" y="12501"/>
                  </a:cubicBezTo>
                  <a:cubicBezTo>
                    <a:pt x="864205" y="22727"/>
                    <a:pt x="874201" y="24135"/>
                    <a:pt x="833157" y="31597"/>
                  </a:cubicBezTo>
                  <a:cubicBezTo>
                    <a:pt x="811014" y="35623"/>
                    <a:pt x="788460" y="37119"/>
                    <a:pt x="766317" y="41145"/>
                  </a:cubicBezTo>
                  <a:cubicBezTo>
                    <a:pt x="753405" y="43493"/>
                    <a:pt x="741034" y="48346"/>
                    <a:pt x="728122" y="50694"/>
                  </a:cubicBezTo>
                  <a:cubicBezTo>
                    <a:pt x="705979" y="54720"/>
                    <a:pt x="672422" y="58651"/>
                    <a:pt x="661282" y="60242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Oval 5"/>
            <p:cNvSpPr/>
            <p:nvPr/>
          </p:nvSpPr>
          <p:spPr>
            <a:xfrm flipH="1" flipV="1">
              <a:off x="1963440" y="3395520"/>
              <a:ext cx="85680" cy="95040"/>
            </a:xfrm>
            <a:prstGeom prst="ellipse">
              <a:avLst/>
            </a:prstGeom>
            <a:solidFill>
              <a:srgbClr val="595959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uppo 49"/>
          <p:cNvGrpSpPr/>
          <p:nvPr/>
        </p:nvGrpSpPr>
        <p:grpSpPr>
          <a:xfrm>
            <a:off x="928800" y="3655800"/>
            <a:ext cx="752400" cy="849240"/>
            <a:chOff x="928800" y="3655800"/>
            <a:chExt cx="752400" cy="849240"/>
          </a:xfrm>
        </p:grpSpPr>
        <p:sp>
          <p:nvSpPr>
            <p:cNvPr id="118" name="Figura a mano libera 50"/>
            <p:cNvSpPr/>
            <p:nvPr/>
          </p:nvSpPr>
          <p:spPr>
            <a:xfrm flipH="1" flipV="1">
              <a:off x="928800" y="3655440"/>
              <a:ext cx="752400" cy="849240"/>
            </a:xfrm>
            <a:custGeom>
              <a:avLst/>
              <a:gdLst/>
              <a:ahLst/>
              <a:rect l="l" t="t" r="r" b="b"/>
              <a:pathLst>
                <a:path w="940093" h="1062804">
                  <a:moveTo>
                    <a:pt x="661282" y="60242"/>
                  </a:moveTo>
                  <a:lnTo>
                    <a:pt x="661282" y="60242"/>
                  </a:lnTo>
                  <a:cubicBezTo>
                    <a:pt x="616970" y="73535"/>
                    <a:pt x="572859" y="88378"/>
                    <a:pt x="527601" y="98435"/>
                  </a:cubicBezTo>
                  <a:cubicBezTo>
                    <a:pt x="507989" y="102793"/>
                    <a:pt x="471688" y="107294"/>
                    <a:pt x="451212" y="117531"/>
                  </a:cubicBezTo>
                  <a:cubicBezTo>
                    <a:pt x="440948" y="122663"/>
                    <a:pt x="433053" y="131966"/>
                    <a:pt x="422566" y="136627"/>
                  </a:cubicBezTo>
                  <a:cubicBezTo>
                    <a:pt x="404171" y="144802"/>
                    <a:pt x="365274" y="155724"/>
                    <a:pt x="365274" y="155724"/>
                  </a:cubicBezTo>
                  <a:cubicBezTo>
                    <a:pt x="431106" y="177667"/>
                    <a:pt x="408332" y="160586"/>
                    <a:pt x="441663" y="193917"/>
                  </a:cubicBezTo>
                  <a:cubicBezTo>
                    <a:pt x="432114" y="203465"/>
                    <a:pt x="423270" y="213773"/>
                    <a:pt x="413017" y="222561"/>
                  </a:cubicBezTo>
                  <a:cubicBezTo>
                    <a:pt x="400934" y="232917"/>
                    <a:pt x="385396" y="239312"/>
                    <a:pt x="374823" y="251206"/>
                  </a:cubicBezTo>
                  <a:cubicBezTo>
                    <a:pt x="310310" y="323781"/>
                    <a:pt x="367496" y="298207"/>
                    <a:pt x="307983" y="318043"/>
                  </a:cubicBezTo>
                  <a:cubicBezTo>
                    <a:pt x="301617" y="324409"/>
                    <a:pt x="296937" y="333114"/>
                    <a:pt x="288885" y="337140"/>
                  </a:cubicBezTo>
                  <a:cubicBezTo>
                    <a:pt x="277147" y="343009"/>
                    <a:pt x="263309" y="343083"/>
                    <a:pt x="250691" y="346688"/>
                  </a:cubicBezTo>
                  <a:cubicBezTo>
                    <a:pt x="241013" y="349453"/>
                    <a:pt x="231594" y="353053"/>
                    <a:pt x="222045" y="356236"/>
                  </a:cubicBezTo>
                  <a:cubicBezTo>
                    <a:pt x="188714" y="389567"/>
                    <a:pt x="211488" y="372486"/>
                    <a:pt x="145656" y="394429"/>
                  </a:cubicBezTo>
                  <a:lnTo>
                    <a:pt x="117010" y="403977"/>
                  </a:lnTo>
                  <a:cubicBezTo>
                    <a:pt x="129742" y="407160"/>
                    <a:pt x="142162" y="412076"/>
                    <a:pt x="155205" y="413525"/>
                  </a:cubicBezTo>
                  <a:cubicBezTo>
                    <a:pt x="199605" y="418458"/>
                    <a:pt x="251714" y="398294"/>
                    <a:pt x="288885" y="423074"/>
                  </a:cubicBezTo>
                  <a:cubicBezTo>
                    <a:pt x="307611" y="435558"/>
                    <a:pt x="254646" y="452811"/>
                    <a:pt x="241142" y="470815"/>
                  </a:cubicBezTo>
                  <a:lnTo>
                    <a:pt x="212496" y="509008"/>
                  </a:lnTo>
                  <a:cubicBezTo>
                    <a:pt x="209313" y="518556"/>
                    <a:pt x="207836" y="528854"/>
                    <a:pt x="202948" y="537652"/>
                  </a:cubicBezTo>
                  <a:cubicBezTo>
                    <a:pt x="191801" y="557715"/>
                    <a:pt x="164753" y="594941"/>
                    <a:pt x="164753" y="594941"/>
                  </a:cubicBezTo>
                  <a:cubicBezTo>
                    <a:pt x="161570" y="604489"/>
                    <a:pt x="160093" y="614788"/>
                    <a:pt x="155205" y="623586"/>
                  </a:cubicBezTo>
                  <a:cubicBezTo>
                    <a:pt x="139509" y="651837"/>
                    <a:pt x="115594" y="688341"/>
                    <a:pt x="88364" y="709520"/>
                  </a:cubicBezTo>
                  <a:cubicBezTo>
                    <a:pt x="70247" y="723611"/>
                    <a:pt x="50170" y="734982"/>
                    <a:pt x="31073" y="747713"/>
                  </a:cubicBezTo>
                  <a:cubicBezTo>
                    <a:pt x="21524" y="754078"/>
                    <a:pt x="-8706" y="769592"/>
                    <a:pt x="2427" y="766809"/>
                  </a:cubicBezTo>
                  <a:cubicBezTo>
                    <a:pt x="15158" y="763626"/>
                    <a:pt x="28333" y="761869"/>
                    <a:pt x="40621" y="757261"/>
                  </a:cubicBezTo>
                  <a:cubicBezTo>
                    <a:pt x="53949" y="752263"/>
                    <a:pt x="65312" y="742666"/>
                    <a:pt x="78816" y="738165"/>
                  </a:cubicBezTo>
                  <a:cubicBezTo>
                    <a:pt x="94213" y="733033"/>
                    <a:pt x="110745" y="732265"/>
                    <a:pt x="126559" y="728616"/>
                  </a:cubicBezTo>
                  <a:cubicBezTo>
                    <a:pt x="152133" y="722714"/>
                    <a:pt x="178048" y="717820"/>
                    <a:pt x="202948" y="709520"/>
                  </a:cubicBezTo>
                  <a:lnTo>
                    <a:pt x="260240" y="690423"/>
                  </a:lnTo>
                  <a:lnTo>
                    <a:pt x="241142" y="747713"/>
                  </a:lnTo>
                  <a:cubicBezTo>
                    <a:pt x="237959" y="757261"/>
                    <a:pt x="237177" y="767983"/>
                    <a:pt x="231594" y="776357"/>
                  </a:cubicBezTo>
                  <a:lnTo>
                    <a:pt x="193399" y="833647"/>
                  </a:lnTo>
                  <a:cubicBezTo>
                    <a:pt x="190216" y="843195"/>
                    <a:pt x="189029" y="853661"/>
                    <a:pt x="183851" y="862291"/>
                  </a:cubicBezTo>
                  <a:cubicBezTo>
                    <a:pt x="179219" y="870011"/>
                    <a:pt x="168779" y="873336"/>
                    <a:pt x="164753" y="881388"/>
                  </a:cubicBezTo>
                  <a:cubicBezTo>
                    <a:pt x="155750" y="899392"/>
                    <a:pt x="154658" y="920673"/>
                    <a:pt x="145656" y="938677"/>
                  </a:cubicBezTo>
                  <a:cubicBezTo>
                    <a:pt x="139290" y="951408"/>
                    <a:pt x="132166" y="963787"/>
                    <a:pt x="126559" y="976870"/>
                  </a:cubicBezTo>
                  <a:cubicBezTo>
                    <a:pt x="122594" y="986121"/>
                    <a:pt x="121511" y="996512"/>
                    <a:pt x="117010" y="1005514"/>
                  </a:cubicBezTo>
                  <a:cubicBezTo>
                    <a:pt x="111878" y="1015778"/>
                    <a:pt x="103045" y="1023895"/>
                    <a:pt x="97913" y="1034159"/>
                  </a:cubicBezTo>
                  <a:cubicBezTo>
                    <a:pt x="93412" y="1043161"/>
                    <a:pt x="78299" y="1062804"/>
                    <a:pt x="88364" y="1062804"/>
                  </a:cubicBezTo>
                  <a:cubicBezTo>
                    <a:pt x="101868" y="1062804"/>
                    <a:pt x="108365" y="1044533"/>
                    <a:pt x="117010" y="1034159"/>
                  </a:cubicBezTo>
                  <a:cubicBezTo>
                    <a:pt x="124357" y="1025343"/>
                    <a:pt x="128938" y="1014475"/>
                    <a:pt x="136107" y="1005514"/>
                  </a:cubicBezTo>
                  <a:cubicBezTo>
                    <a:pt x="159795" y="975906"/>
                    <a:pt x="154705" y="996965"/>
                    <a:pt x="174302" y="957773"/>
                  </a:cubicBezTo>
                  <a:cubicBezTo>
                    <a:pt x="178803" y="948771"/>
                    <a:pt x="176734" y="936246"/>
                    <a:pt x="183851" y="929129"/>
                  </a:cubicBezTo>
                  <a:cubicBezTo>
                    <a:pt x="190968" y="922012"/>
                    <a:pt x="203698" y="924468"/>
                    <a:pt x="212496" y="919580"/>
                  </a:cubicBezTo>
                  <a:cubicBezTo>
                    <a:pt x="232560" y="908434"/>
                    <a:pt x="249259" y="891652"/>
                    <a:pt x="269788" y="881388"/>
                  </a:cubicBezTo>
                  <a:cubicBezTo>
                    <a:pt x="282520" y="875022"/>
                    <a:pt x="295624" y="869353"/>
                    <a:pt x="307983" y="862291"/>
                  </a:cubicBezTo>
                  <a:cubicBezTo>
                    <a:pt x="317947" y="856598"/>
                    <a:pt x="326365" y="848327"/>
                    <a:pt x="336629" y="843195"/>
                  </a:cubicBezTo>
                  <a:cubicBezTo>
                    <a:pt x="345631" y="838694"/>
                    <a:pt x="355726" y="836830"/>
                    <a:pt x="365274" y="833647"/>
                  </a:cubicBezTo>
                  <a:cubicBezTo>
                    <a:pt x="399313" y="799610"/>
                    <a:pt x="368611" y="826285"/>
                    <a:pt x="422566" y="795454"/>
                  </a:cubicBezTo>
                  <a:cubicBezTo>
                    <a:pt x="432530" y="789760"/>
                    <a:pt x="440947" y="781489"/>
                    <a:pt x="451212" y="776357"/>
                  </a:cubicBezTo>
                  <a:cubicBezTo>
                    <a:pt x="460215" y="771856"/>
                    <a:pt x="470607" y="770774"/>
                    <a:pt x="479858" y="766809"/>
                  </a:cubicBezTo>
                  <a:cubicBezTo>
                    <a:pt x="492941" y="761202"/>
                    <a:pt x="504836" y="752999"/>
                    <a:pt x="518052" y="747713"/>
                  </a:cubicBezTo>
                  <a:cubicBezTo>
                    <a:pt x="536743" y="740237"/>
                    <a:pt x="575344" y="728616"/>
                    <a:pt x="575344" y="728616"/>
                  </a:cubicBezTo>
                  <a:cubicBezTo>
                    <a:pt x="578527" y="719068"/>
                    <a:pt x="582452" y="709736"/>
                    <a:pt x="584893" y="699972"/>
                  </a:cubicBezTo>
                  <a:cubicBezTo>
                    <a:pt x="590342" y="678175"/>
                    <a:pt x="593075" y="645416"/>
                    <a:pt x="603990" y="623586"/>
                  </a:cubicBezTo>
                  <a:cubicBezTo>
                    <a:pt x="611494" y="608578"/>
                    <a:pt x="644519" y="566848"/>
                    <a:pt x="651733" y="556749"/>
                  </a:cubicBezTo>
                  <a:cubicBezTo>
                    <a:pt x="666193" y="536507"/>
                    <a:pt x="670270" y="523751"/>
                    <a:pt x="689928" y="509008"/>
                  </a:cubicBezTo>
                  <a:cubicBezTo>
                    <a:pt x="708290" y="495237"/>
                    <a:pt x="725445" y="478073"/>
                    <a:pt x="747219" y="470815"/>
                  </a:cubicBezTo>
                  <a:cubicBezTo>
                    <a:pt x="786752" y="457637"/>
                    <a:pt x="767490" y="466849"/>
                    <a:pt x="804511" y="442170"/>
                  </a:cubicBezTo>
                  <a:cubicBezTo>
                    <a:pt x="807694" y="432622"/>
                    <a:pt x="818561" y="422527"/>
                    <a:pt x="814060" y="413525"/>
                  </a:cubicBezTo>
                  <a:cubicBezTo>
                    <a:pt x="809559" y="404523"/>
                    <a:pt x="794417" y="408478"/>
                    <a:pt x="785414" y="403977"/>
                  </a:cubicBezTo>
                  <a:cubicBezTo>
                    <a:pt x="775150" y="398845"/>
                    <a:pt x="766317" y="391246"/>
                    <a:pt x="756768" y="384881"/>
                  </a:cubicBezTo>
                  <a:cubicBezTo>
                    <a:pt x="753585" y="375333"/>
                    <a:pt x="751720" y="365238"/>
                    <a:pt x="747219" y="356236"/>
                  </a:cubicBezTo>
                  <a:cubicBezTo>
                    <a:pt x="742087" y="345972"/>
                    <a:pt x="729389" y="338997"/>
                    <a:pt x="728122" y="327592"/>
                  </a:cubicBezTo>
                  <a:cubicBezTo>
                    <a:pt x="724051" y="290948"/>
                    <a:pt x="736123" y="267463"/>
                    <a:pt x="756768" y="241658"/>
                  </a:cubicBezTo>
                  <a:cubicBezTo>
                    <a:pt x="762392" y="234628"/>
                    <a:pt x="770463" y="229763"/>
                    <a:pt x="775865" y="222561"/>
                  </a:cubicBezTo>
                  <a:cubicBezTo>
                    <a:pt x="789636" y="204200"/>
                    <a:pt x="797831" y="181501"/>
                    <a:pt x="814060" y="165272"/>
                  </a:cubicBezTo>
                  <a:cubicBezTo>
                    <a:pt x="823609" y="155724"/>
                    <a:pt x="834857" y="147615"/>
                    <a:pt x="842706" y="136627"/>
                  </a:cubicBezTo>
                  <a:cubicBezTo>
                    <a:pt x="850979" y="125045"/>
                    <a:pt x="853908" y="110278"/>
                    <a:pt x="861803" y="98435"/>
                  </a:cubicBezTo>
                  <a:cubicBezTo>
                    <a:pt x="866797" y="90945"/>
                    <a:pt x="875276" y="86368"/>
                    <a:pt x="880900" y="79338"/>
                  </a:cubicBezTo>
                  <a:cubicBezTo>
                    <a:pt x="888069" y="70377"/>
                    <a:pt x="892828" y="59655"/>
                    <a:pt x="899997" y="50694"/>
                  </a:cubicBezTo>
                  <a:cubicBezTo>
                    <a:pt x="905621" y="43664"/>
                    <a:pt x="913471" y="38627"/>
                    <a:pt x="919095" y="31597"/>
                  </a:cubicBezTo>
                  <a:cubicBezTo>
                    <a:pt x="926264" y="22636"/>
                    <a:pt x="946307" y="11067"/>
                    <a:pt x="938192" y="2953"/>
                  </a:cubicBezTo>
                  <a:cubicBezTo>
                    <a:pt x="928912" y="-6326"/>
                    <a:pt x="912616" y="8896"/>
                    <a:pt x="899997" y="12501"/>
                  </a:cubicBezTo>
                  <a:cubicBezTo>
                    <a:pt x="864205" y="22727"/>
                    <a:pt x="874201" y="24135"/>
                    <a:pt x="833157" y="31597"/>
                  </a:cubicBezTo>
                  <a:cubicBezTo>
                    <a:pt x="811014" y="35623"/>
                    <a:pt x="788460" y="37119"/>
                    <a:pt x="766317" y="41145"/>
                  </a:cubicBezTo>
                  <a:cubicBezTo>
                    <a:pt x="753405" y="43493"/>
                    <a:pt x="741034" y="48346"/>
                    <a:pt x="728122" y="50694"/>
                  </a:cubicBezTo>
                  <a:cubicBezTo>
                    <a:pt x="705979" y="54720"/>
                    <a:pt x="672422" y="58651"/>
                    <a:pt x="661282" y="60242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5"/>
            <p:cNvSpPr/>
            <p:nvPr/>
          </p:nvSpPr>
          <p:spPr>
            <a:xfrm flipH="1" flipV="1">
              <a:off x="1267200" y="4092480"/>
              <a:ext cx="87120" cy="95040"/>
            </a:xfrm>
            <a:prstGeom prst="ellipse">
              <a:avLst/>
            </a:prstGeom>
            <a:solidFill>
              <a:srgbClr val="595959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uppo 52"/>
          <p:cNvGrpSpPr/>
          <p:nvPr/>
        </p:nvGrpSpPr>
        <p:grpSpPr>
          <a:xfrm>
            <a:off x="266760" y="3632040"/>
            <a:ext cx="752400" cy="849600"/>
            <a:chOff x="266760" y="3632040"/>
            <a:chExt cx="752400" cy="849600"/>
          </a:xfrm>
        </p:grpSpPr>
        <p:sp>
          <p:nvSpPr>
            <p:cNvPr id="121" name="Figura a mano libera 53"/>
            <p:cNvSpPr/>
            <p:nvPr/>
          </p:nvSpPr>
          <p:spPr>
            <a:xfrm flipH="1" flipV="1">
              <a:off x="266400" y="3632040"/>
              <a:ext cx="752400" cy="849600"/>
            </a:xfrm>
            <a:custGeom>
              <a:avLst/>
              <a:gdLst/>
              <a:ahLst/>
              <a:rect l="l" t="t" r="r" b="b"/>
              <a:pathLst>
                <a:path w="940093" h="1062804">
                  <a:moveTo>
                    <a:pt x="661282" y="60242"/>
                  </a:moveTo>
                  <a:lnTo>
                    <a:pt x="661282" y="60242"/>
                  </a:lnTo>
                  <a:cubicBezTo>
                    <a:pt x="616970" y="73535"/>
                    <a:pt x="572859" y="88378"/>
                    <a:pt x="527601" y="98435"/>
                  </a:cubicBezTo>
                  <a:cubicBezTo>
                    <a:pt x="507989" y="102793"/>
                    <a:pt x="471688" y="107294"/>
                    <a:pt x="451212" y="117531"/>
                  </a:cubicBezTo>
                  <a:cubicBezTo>
                    <a:pt x="440948" y="122663"/>
                    <a:pt x="433053" y="131966"/>
                    <a:pt x="422566" y="136627"/>
                  </a:cubicBezTo>
                  <a:cubicBezTo>
                    <a:pt x="404171" y="144802"/>
                    <a:pt x="365274" y="155724"/>
                    <a:pt x="365274" y="155724"/>
                  </a:cubicBezTo>
                  <a:cubicBezTo>
                    <a:pt x="431106" y="177667"/>
                    <a:pt x="408332" y="160586"/>
                    <a:pt x="441663" y="193917"/>
                  </a:cubicBezTo>
                  <a:cubicBezTo>
                    <a:pt x="432114" y="203465"/>
                    <a:pt x="423270" y="213773"/>
                    <a:pt x="413017" y="222561"/>
                  </a:cubicBezTo>
                  <a:cubicBezTo>
                    <a:pt x="400934" y="232917"/>
                    <a:pt x="385396" y="239312"/>
                    <a:pt x="374823" y="251206"/>
                  </a:cubicBezTo>
                  <a:cubicBezTo>
                    <a:pt x="310310" y="323781"/>
                    <a:pt x="367496" y="298207"/>
                    <a:pt x="307983" y="318043"/>
                  </a:cubicBezTo>
                  <a:cubicBezTo>
                    <a:pt x="301617" y="324409"/>
                    <a:pt x="296937" y="333114"/>
                    <a:pt x="288885" y="337140"/>
                  </a:cubicBezTo>
                  <a:cubicBezTo>
                    <a:pt x="277147" y="343009"/>
                    <a:pt x="263309" y="343083"/>
                    <a:pt x="250691" y="346688"/>
                  </a:cubicBezTo>
                  <a:cubicBezTo>
                    <a:pt x="241013" y="349453"/>
                    <a:pt x="231594" y="353053"/>
                    <a:pt x="222045" y="356236"/>
                  </a:cubicBezTo>
                  <a:cubicBezTo>
                    <a:pt x="188714" y="389567"/>
                    <a:pt x="211488" y="372486"/>
                    <a:pt x="145656" y="394429"/>
                  </a:cubicBezTo>
                  <a:lnTo>
                    <a:pt x="117010" y="403977"/>
                  </a:lnTo>
                  <a:cubicBezTo>
                    <a:pt x="129742" y="407160"/>
                    <a:pt x="142162" y="412076"/>
                    <a:pt x="155205" y="413525"/>
                  </a:cubicBezTo>
                  <a:cubicBezTo>
                    <a:pt x="199605" y="418458"/>
                    <a:pt x="251714" y="398294"/>
                    <a:pt x="288885" y="423074"/>
                  </a:cubicBezTo>
                  <a:cubicBezTo>
                    <a:pt x="307611" y="435558"/>
                    <a:pt x="254646" y="452811"/>
                    <a:pt x="241142" y="470815"/>
                  </a:cubicBezTo>
                  <a:lnTo>
                    <a:pt x="212496" y="509008"/>
                  </a:lnTo>
                  <a:cubicBezTo>
                    <a:pt x="209313" y="518556"/>
                    <a:pt x="207836" y="528854"/>
                    <a:pt x="202948" y="537652"/>
                  </a:cubicBezTo>
                  <a:cubicBezTo>
                    <a:pt x="191801" y="557715"/>
                    <a:pt x="164753" y="594941"/>
                    <a:pt x="164753" y="594941"/>
                  </a:cubicBezTo>
                  <a:cubicBezTo>
                    <a:pt x="161570" y="604489"/>
                    <a:pt x="160093" y="614788"/>
                    <a:pt x="155205" y="623586"/>
                  </a:cubicBezTo>
                  <a:cubicBezTo>
                    <a:pt x="139509" y="651837"/>
                    <a:pt x="115594" y="688341"/>
                    <a:pt x="88364" y="709520"/>
                  </a:cubicBezTo>
                  <a:cubicBezTo>
                    <a:pt x="70247" y="723611"/>
                    <a:pt x="50170" y="734982"/>
                    <a:pt x="31073" y="747713"/>
                  </a:cubicBezTo>
                  <a:cubicBezTo>
                    <a:pt x="21524" y="754078"/>
                    <a:pt x="-8706" y="769592"/>
                    <a:pt x="2427" y="766809"/>
                  </a:cubicBezTo>
                  <a:cubicBezTo>
                    <a:pt x="15158" y="763626"/>
                    <a:pt x="28333" y="761869"/>
                    <a:pt x="40621" y="757261"/>
                  </a:cubicBezTo>
                  <a:cubicBezTo>
                    <a:pt x="53949" y="752263"/>
                    <a:pt x="65312" y="742666"/>
                    <a:pt x="78816" y="738165"/>
                  </a:cubicBezTo>
                  <a:cubicBezTo>
                    <a:pt x="94213" y="733033"/>
                    <a:pt x="110745" y="732265"/>
                    <a:pt x="126559" y="728616"/>
                  </a:cubicBezTo>
                  <a:cubicBezTo>
                    <a:pt x="152133" y="722714"/>
                    <a:pt x="178048" y="717820"/>
                    <a:pt x="202948" y="709520"/>
                  </a:cubicBezTo>
                  <a:lnTo>
                    <a:pt x="260240" y="690423"/>
                  </a:lnTo>
                  <a:lnTo>
                    <a:pt x="241142" y="747713"/>
                  </a:lnTo>
                  <a:cubicBezTo>
                    <a:pt x="237959" y="757261"/>
                    <a:pt x="237177" y="767983"/>
                    <a:pt x="231594" y="776357"/>
                  </a:cubicBezTo>
                  <a:lnTo>
                    <a:pt x="193399" y="833647"/>
                  </a:lnTo>
                  <a:cubicBezTo>
                    <a:pt x="190216" y="843195"/>
                    <a:pt x="189029" y="853661"/>
                    <a:pt x="183851" y="862291"/>
                  </a:cubicBezTo>
                  <a:cubicBezTo>
                    <a:pt x="179219" y="870011"/>
                    <a:pt x="168779" y="873336"/>
                    <a:pt x="164753" y="881388"/>
                  </a:cubicBezTo>
                  <a:cubicBezTo>
                    <a:pt x="155750" y="899392"/>
                    <a:pt x="154658" y="920673"/>
                    <a:pt x="145656" y="938677"/>
                  </a:cubicBezTo>
                  <a:cubicBezTo>
                    <a:pt x="139290" y="951408"/>
                    <a:pt x="132166" y="963787"/>
                    <a:pt x="126559" y="976870"/>
                  </a:cubicBezTo>
                  <a:cubicBezTo>
                    <a:pt x="122594" y="986121"/>
                    <a:pt x="121511" y="996512"/>
                    <a:pt x="117010" y="1005514"/>
                  </a:cubicBezTo>
                  <a:cubicBezTo>
                    <a:pt x="111878" y="1015778"/>
                    <a:pt x="103045" y="1023895"/>
                    <a:pt x="97913" y="1034159"/>
                  </a:cubicBezTo>
                  <a:cubicBezTo>
                    <a:pt x="93412" y="1043161"/>
                    <a:pt x="78299" y="1062804"/>
                    <a:pt x="88364" y="1062804"/>
                  </a:cubicBezTo>
                  <a:cubicBezTo>
                    <a:pt x="101868" y="1062804"/>
                    <a:pt x="108365" y="1044533"/>
                    <a:pt x="117010" y="1034159"/>
                  </a:cubicBezTo>
                  <a:cubicBezTo>
                    <a:pt x="124357" y="1025343"/>
                    <a:pt x="128938" y="1014475"/>
                    <a:pt x="136107" y="1005514"/>
                  </a:cubicBezTo>
                  <a:cubicBezTo>
                    <a:pt x="159795" y="975906"/>
                    <a:pt x="154705" y="996965"/>
                    <a:pt x="174302" y="957773"/>
                  </a:cubicBezTo>
                  <a:cubicBezTo>
                    <a:pt x="178803" y="948771"/>
                    <a:pt x="176734" y="936246"/>
                    <a:pt x="183851" y="929129"/>
                  </a:cubicBezTo>
                  <a:cubicBezTo>
                    <a:pt x="190968" y="922012"/>
                    <a:pt x="203698" y="924468"/>
                    <a:pt x="212496" y="919580"/>
                  </a:cubicBezTo>
                  <a:cubicBezTo>
                    <a:pt x="232560" y="908434"/>
                    <a:pt x="249259" y="891652"/>
                    <a:pt x="269788" y="881388"/>
                  </a:cubicBezTo>
                  <a:cubicBezTo>
                    <a:pt x="282520" y="875022"/>
                    <a:pt x="295624" y="869353"/>
                    <a:pt x="307983" y="862291"/>
                  </a:cubicBezTo>
                  <a:cubicBezTo>
                    <a:pt x="317947" y="856598"/>
                    <a:pt x="326365" y="848327"/>
                    <a:pt x="336629" y="843195"/>
                  </a:cubicBezTo>
                  <a:cubicBezTo>
                    <a:pt x="345631" y="838694"/>
                    <a:pt x="355726" y="836830"/>
                    <a:pt x="365274" y="833647"/>
                  </a:cubicBezTo>
                  <a:cubicBezTo>
                    <a:pt x="399313" y="799610"/>
                    <a:pt x="368611" y="826285"/>
                    <a:pt x="422566" y="795454"/>
                  </a:cubicBezTo>
                  <a:cubicBezTo>
                    <a:pt x="432530" y="789760"/>
                    <a:pt x="440947" y="781489"/>
                    <a:pt x="451212" y="776357"/>
                  </a:cubicBezTo>
                  <a:cubicBezTo>
                    <a:pt x="460215" y="771856"/>
                    <a:pt x="470607" y="770774"/>
                    <a:pt x="479858" y="766809"/>
                  </a:cubicBezTo>
                  <a:cubicBezTo>
                    <a:pt x="492941" y="761202"/>
                    <a:pt x="504836" y="752999"/>
                    <a:pt x="518052" y="747713"/>
                  </a:cubicBezTo>
                  <a:cubicBezTo>
                    <a:pt x="536743" y="740237"/>
                    <a:pt x="575344" y="728616"/>
                    <a:pt x="575344" y="728616"/>
                  </a:cubicBezTo>
                  <a:cubicBezTo>
                    <a:pt x="578527" y="719068"/>
                    <a:pt x="582452" y="709736"/>
                    <a:pt x="584893" y="699972"/>
                  </a:cubicBezTo>
                  <a:cubicBezTo>
                    <a:pt x="590342" y="678175"/>
                    <a:pt x="593075" y="645416"/>
                    <a:pt x="603990" y="623586"/>
                  </a:cubicBezTo>
                  <a:cubicBezTo>
                    <a:pt x="611494" y="608578"/>
                    <a:pt x="644519" y="566848"/>
                    <a:pt x="651733" y="556749"/>
                  </a:cubicBezTo>
                  <a:cubicBezTo>
                    <a:pt x="666193" y="536507"/>
                    <a:pt x="670270" y="523751"/>
                    <a:pt x="689928" y="509008"/>
                  </a:cubicBezTo>
                  <a:cubicBezTo>
                    <a:pt x="708290" y="495237"/>
                    <a:pt x="725445" y="478073"/>
                    <a:pt x="747219" y="470815"/>
                  </a:cubicBezTo>
                  <a:cubicBezTo>
                    <a:pt x="786752" y="457637"/>
                    <a:pt x="767490" y="466849"/>
                    <a:pt x="804511" y="442170"/>
                  </a:cubicBezTo>
                  <a:cubicBezTo>
                    <a:pt x="807694" y="432622"/>
                    <a:pt x="818561" y="422527"/>
                    <a:pt x="814060" y="413525"/>
                  </a:cubicBezTo>
                  <a:cubicBezTo>
                    <a:pt x="809559" y="404523"/>
                    <a:pt x="794417" y="408478"/>
                    <a:pt x="785414" y="403977"/>
                  </a:cubicBezTo>
                  <a:cubicBezTo>
                    <a:pt x="775150" y="398845"/>
                    <a:pt x="766317" y="391246"/>
                    <a:pt x="756768" y="384881"/>
                  </a:cubicBezTo>
                  <a:cubicBezTo>
                    <a:pt x="753585" y="375333"/>
                    <a:pt x="751720" y="365238"/>
                    <a:pt x="747219" y="356236"/>
                  </a:cubicBezTo>
                  <a:cubicBezTo>
                    <a:pt x="742087" y="345972"/>
                    <a:pt x="729389" y="338997"/>
                    <a:pt x="728122" y="327592"/>
                  </a:cubicBezTo>
                  <a:cubicBezTo>
                    <a:pt x="724051" y="290948"/>
                    <a:pt x="736123" y="267463"/>
                    <a:pt x="756768" y="241658"/>
                  </a:cubicBezTo>
                  <a:cubicBezTo>
                    <a:pt x="762392" y="234628"/>
                    <a:pt x="770463" y="229763"/>
                    <a:pt x="775865" y="222561"/>
                  </a:cubicBezTo>
                  <a:cubicBezTo>
                    <a:pt x="789636" y="204200"/>
                    <a:pt x="797831" y="181501"/>
                    <a:pt x="814060" y="165272"/>
                  </a:cubicBezTo>
                  <a:cubicBezTo>
                    <a:pt x="823609" y="155724"/>
                    <a:pt x="834857" y="147615"/>
                    <a:pt x="842706" y="136627"/>
                  </a:cubicBezTo>
                  <a:cubicBezTo>
                    <a:pt x="850979" y="125045"/>
                    <a:pt x="853908" y="110278"/>
                    <a:pt x="861803" y="98435"/>
                  </a:cubicBezTo>
                  <a:cubicBezTo>
                    <a:pt x="866797" y="90945"/>
                    <a:pt x="875276" y="86368"/>
                    <a:pt x="880900" y="79338"/>
                  </a:cubicBezTo>
                  <a:cubicBezTo>
                    <a:pt x="888069" y="70377"/>
                    <a:pt x="892828" y="59655"/>
                    <a:pt x="899997" y="50694"/>
                  </a:cubicBezTo>
                  <a:cubicBezTo>
                    <a:pt x="905621" y="43664"/>
                    <a:pt x="913471" y="38627"/>
                    <a:pt x="919095" y="31597"/>
                  </a:cubicBezTo>
                  <a:cubicBezTo>
                    <a:pt x="926264" y="22636"/>
                    <a:pt x="946307" y="11067"/>
                    <a:pt x="938192" y="2953"/>
                  </a:cubicBezTo>
                  <a:cubicBezTo>
                    <a:pt x="928912" y="-6326"/>
                    <a:pt x="912616" y="8896"/>
                    <a:pt x="899997" y="12501"/>
                  </a:cubicBezTo>
                  <a:cubicBezTo>
                    <a:pt x="864205" y="22727"/>
                    <a:pt x="874201" y="24135"/>
                    <a:pt x="833157" y="31597"/>
                  </a:cubicBezTo>
                  <a:cubicBezTo>
                    <a:pt x="811014" y="35623"/>
                    <a:pt x="788460" y="37119"/>
                    <a:pt x="766317" y="41145"/>
                  </a:cubicBezTo>
                  <a:cubicBezTo>
                    <a:pt x="753405" y="43493"/>
                    <a:pt x="741034" y="48346"/>
                    <a:pt x="728122" y="50694"/>
                  </a:cubicBezTo>
                  <a:cubicBezTo>
                    <a:pt x="705979" y="54720"/>
                    <a:pt x="672422" y="58651"/>
                    <a:pt x="661282" y="60242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 flipH="1" flipV="1">
              <a:off x="605160" y="4069080"/>
              <a:ext cx="87120" cy="95040"/>
            </a:xfrm>
            <a:prstGeom prst="ellipse">
              <a:avLst/>
            </a:prstGeom>
            <a:solidFill>
              <a:srgbClr val="595959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Line 42"/>
          <p:cNvSpPr/>
          <p:nvPr/>
        </p:nvSpPr>
        <p:spPr>
          <a:xfrm>
            <a:off x="2097000" y="38656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asellaDiTesto 2"/>
          <p:cNvSpPr/>
          <p:nvPr/>
        </p:nvSpPr>
        <p:spPr>
          <a:xfrm>
            <a:off x="619200" y="318960"/>
            <a:ext cx="79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versione di fibroblasti in mioblasti tramite l’espressione di un singolo g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(Andrew Lassar, 198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aetta 99"/>
          <p:cNvSpPr/>
          <p:nvPr/>
        </p:nvSpPr>
        <p:spPr>
          <a:xfrm flipH="1">
            <a:off x="2562120" y="2668680"/>
            <a:ext cx="455760" cy="9079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asellaDiTesto 100"/>
          <p:cNvSpPr/>
          <p:nvPr/>
        </p:nvSpPr>
        <p:spPr>
          <a:xfrm>
            <a:off x="2413080" y="220500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My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asellaDiTesto 101"/>
          <p:cNvSpPr/>
          <p:nvPr/>
        </p:nvSpPr>
        <p:spPr>
          <a:xfrm>
            <a:off x="596880" y="485316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Fibrobla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asellaDiTesto 102"/>
          <p:cNvSpPr/>
          <p:nvPr/>
        </p:nvSpPr>
        <p:spPr>
          <a:xfrm>
            <a:off x="2733840" y="485316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iobla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asellaDiTesto 103"/>
          <p:cNvSpPr/>
          <p:nvPr/>
        </p:nvSpPr>
        <p:spPr>
          <a:xfrm>
            <a:off x="4824360" y="485316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ioci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asellaDiTesto 104"/>
          <p:cNvSpPr/>
          <p:nvPr/>
        </p:nvSpPr>
        <p:spPr>
          <a:xfrm>
            <a:off x="7005600" y="4853160"/>
            <a:ext cx="14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Miotub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Yamanaka Fig 1.jpg"/>
          <p:cNvPicPr/>
          <p:nvPr/>
        </p:nvPicPr>
        <p:blipFill>
          <a:blip r:embed="rId1"/>
          <a:srcRect l="0" t="0" r="0" b="49521"/>
          <a:stretch/>
        </p:blipFill>
        <p:spPr>
          <a:xfrm>
            <a:off x="493560" y="1062000"/>
            <a:ext cx="8588520" cy="4708440"/>
          </a:xfrm>
          <a:prstGeom prst="rect">
            <a:avLst/>
          </a:prstGeom>
          <a:ln w="0">
            <a:noFill/>
          </a:ln>
        </p:spPr>
      </p:pic>
      <p:sp>
        <p:nvSpPr>
          <p:cNvPr id="132" name="CasellaDiTesto 3"/>
          <p:cNvSpPr/>
          <p:nvPr/>
        </p:nvSpPr>
        <p:spPr>
          <a:xfrm>
            <a:off x="6170760" y="3510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Calibri"/>
              </a:rPr>
              <a:t>Un esperimento deve isolare una sola variabile, detta </a:t>
            </a:r>
            <a:r>
              <a:rPr b="0" i="1" lang="it-IT" sz="1400" spc="-1" strike="noStrike">
                <a:solidFill>
                  <a:srgbClr val="0000ff"/>
                </a:solidFill>
                <a:latin typeface="Calibri"/>
              </a:rPr>
              <a:t>indipend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tangolo 22"/>
          <p:cNvSpPr/>
          <p:nvPr/>
        </p:nvSpPr>
        <p:spPr>
          <a:xfrm>
            <a:off x="2981160" y="60948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solare la variabile allo stud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asellaDiTesto 4"/>
          <p:cNvSpPr/>
          <p:nvPr/>
        </p:nvSpPr>
        <p:spPr>
          <a:xfrm>
            <a:off x="601560" y="1477800"/>
            <a:ext cx="794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Mantenere costanti tutte le condizioni, ad eccezione della variabile allo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601560" y="2852640"/>
            <a:ext cx="7940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tudio della proliferazione indotta dal fattore trascrizionale E2F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1"/>
          <p:cNvGrpSpPr/>
          <p:nvPr/>
        </p:nvGrpSpPr>
        <p:grpSpPr>
          <a:xfrm>
            <a:off x="1852560" y="4979880"/>
            <a:ext cx="3641760" cy="498600"/>
            <a:chOff x="1852560" y="4979880"/>
            <a:chExt cx="3641760" cy="498600"/>
          </a:xfrm>
        </p:grpSpPr>
        <p:grpSp>
          <p:nvGrpSpPr>
            <p:cNvPr id="137" name="Gruppo 14"/>
            <p:cNvGrpSpPr/>
            <p:nvPr/>
          </p:nvGrpSpPr>
          <p:grpSpPr>
            <a:xfrm>
              <a:off x="1852560" y="4979880"/>
              <a:ext cx="1412280" cy="493920"/>
              <a:chOff x="1852560" y="4979880"/>
              <a:chExt cx="1412280" cy="493920"/>
            </a:xfrm>
          </p:grpSpPr>
          <p:grpSp>
            <p:nvGrpSpPr>
              <p:cNvPr id="138" name="Gruppo 1"/>
              <p:cNvGrpSpPr/>
              <p:nvPr/>
            </p:nvGrpSpPr>
            <p:grpSpPr>
              <a:xfrm>
                <a:off x="1853640" y="4979880"/>
                <a:ext cx="1409760" cy="492840"/>
                <a:chOff x="1853640" y="4979880"/>
                <a:chExt cx="1409760" cy="492840"/>
              </a:xfrm>
            </p:grpSpPr>
            <p:sp>
              <p:nvSpPr>
                <p:cNvPr id="139" name="Oval 3"/>
                <p:cNvSpPr/>
                <p:nvPr/>
              </p:nvSpPr>
              <p:spPr>
                <a:xfrm>
                  <a:off x="1854000" y="4979880"/>
                  <a:ext cx="1409400" cy="135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Oval 4"/>
                <p:cNvSpPr/>
                <p:nvPr/>
              </p:nvSpPr>
              <p:spPr>
                <a:xfrm>
                  <a:off x="1853640" y="5337000"/>
                  <a:ext cx="1409400" cy="13572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Line 5"/>
                <p:cNvSpPr/>
                <p:nvPr/>
              </p:nvSpPr>
              <p:spPr>
                <a:xfrm>
                  <a:off x="1854000" y="5047920"/>
                  <a:ext cx="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Line 6"/>
                <p:cNvSpPr/>
                <p:nvPr/>
              </p:nvSpPr>
              <p:spPr>
                <a:xfrm>
                  <a:off x="3263400" y="5047920"/>
                  <a:ext cx="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3" name="AutoShape 7"/>
              <p:cNvSpPr/>
              <p:nvPr/>
            </p:nvSpPr>
            <p:spPr>
              <a:xfrm>
                <a:off x="1852560" y="5113080"/>
                <a:ext cx="1412280" cy="360720"/>
              </a:xfrm>
              <a:prstGeom prst="can">
                <a:avLst>
                  <a:gd name="adj" fmla="val 39259"/>
                </a:avLst>
              </a:prstGeom>
              <a:solidFill>
                <a:srgbClr val="ff71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4" name="Gruppo 1"/>
            <p:cNvGrpSpPr/>
            <p:nvPr/>
          </p:nvGrpSpPr>
          <p:grpSpPr>
            <a:xfrm>
              <a:off x="4108680" y="4979880"/>
              <a:ext cx="1385640" cy="498600"/>
              <a:chOff x="4108680" y="4979880"/>
              <a:chExt cx="1385640" cy="498600"/>
            </a:xfrm>
          </p:grpSpPr>
          <p:sp>
            <p:nvSpPr>
              <p:cNvPr id="145" name="Oval 3"/>
              <p:cNvSpPr/>
              <p:nvPr/>
            </p:nvSpPr>
            <p:spPr>
              <a:xfrm>
                <a:off x="4108680" y="4979880"/>
                <a:ext cx="138564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Oval 4"/>
              <p:cNvSpPr/>
              <p:nvPr/>
            </p:nvSpPr>
            <p:spPr>
              <a:xfrm>
                <a:off x="4108680" y="5337000"/>
                <a:ext cx="1385640" cy="135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5"/>
              <p:cNvSpPr/>
              <p:nvPr/>
            </p:nvSpPr>
            <p:spPr>
              <a:xfrm>
                <a:off x="4108680" y="504792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5494320" y="504792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AutoShape 7"/>
              <p:cNvSpPr/>
              <p:nvPr/>
            </p:nvSpPr>
            <p:spPr>
              <a:xfrm>
                <a:off x="4108680" y="5118120"/>
                <a:ext cx="1385640" cy="360360"/>
              </a:xfrm>
              <a:prstGeom prst="can">
                <a:avLst>
                  <a:gd name="adj" fmla="val 39259"/>
                </a:avLst>
              </a:prstGeom>
              <a:solidFill>
                <a:srgbClr val="ff71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0" name="Gruppo 35"/>
          <p:cNvGrpSpPr/>
          <p:nvPr/>
        </p:nvGrpSpPr>
        <p:grpSpPr>
          <a:xfrm>
            <a:off x="6340320" y="4979880"/>
            <a:ext cx="1413000" cy="493920"/>
            <a:chOff x="6340320" y="4979880"/>
            <a:chExt cx="1413000" cy="493920"/>
          </a:xfrm>
        </p:grpSpPr>
        <p:grpSp>
          <p:nvGrpSpPr>
            <p:cNvPr id="151" name="Gruppo 1"/>
            <p:cNvGrpSpPr/>
            <p:nvPr/>
          </p:nvGrpSpPr>
          <p:grpSpPr>
            <a:xfrm>
              <a:off x="6341400" y="4979880"/>
              <a:ext cx="1410840" cy="492840"/>
              <a:chOff x="6341400" y="4979880"/>
              <a:chExt cx="1410840" cy="492840"/>
            </a:xfrm>
          </p:grpSpPr>
          <p:sp>
            <p:nvSpPr>
              <p:cNvPr id="152" name="Oval 3"/>
              <p:cNvSpPr/>
              <p:nvPr/>
            </p:nvSpPr>
            <p:spPr>
              <a:xfrm>
                <a:off x="6341760" y="4979880"/>
                <a:ext cx="141048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Oval 4"/>
              <p:cNvSpPr/>
              <p:nvPr/>
            </p:nvSpPr>
            <p:spPr>
              <a:xfrm>
                <a:off x="6341400" y="5337000"/>
                <a:ext cx="1410840" cy="13572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5"/>
              <p:cNvSpPr/>
              <p:nvPr/>
            </p:nvSpPr>
            <p:spPr>
              <a:xfrm>
                <a:off x="6341760" y="5047920"/>
                <a:ext cx="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6"/>
              <p:cNvSpPr/>
              <p:nvPr/>
            </p:nvSpPr>
            <p:spPr>
              <a:xfrm>
                <a:off x="7752240" y="5047920"/>
                <a:ext cx="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" name="AutoShape 7"/>
            <p:cNvSpPr/>
            <p:nvPr/>
          </p:nvSpPr>
          <p:spPr>
            <a:xfrm>
              <a:off x="6340320" y="5113080"/>
              <a:ext cx="1413000" cy="360720"/>
            </a:xfrm>
            <a:prstGeom prst="can">
              <a:avLst>
                <a:gd name="adj" fmla="val 39259"/>
              </a:avLst>
            </a:prstGeom>
            <a:solidFill>
              <a:srgbClr val="ff71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uppo 45"/>
          <p:cNvGrpSpPr/>
          <p:nvPr/>
        </p:nvGrpSpPr>
        <p:grpSpPr>
          <a:xfrm>
            <a:off x="4457880" y="3884760"/>
            <a:ext cx="677520" cy="677880"/>
            <a:chOff x="4457880" y="3884760"/>
            <a:chExt cx="677520" cy="677880"/>
          </a:xfrm>
        </p:grpSpPr>
        <p:sp>
          <p:nvSpPr>
            <p:cNvPr id="158" name="Ovale 42"/>
            <p:cNvSpPr/>
            <p:nvPr/>
          </p:nvSpPr>
          <p:spPr>
            <a:xfrm>
              <a:off x="4457880" y="3884760"/>
              <a:ext cx="677520" cy="67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CasellaDiTesto 43"/>
            <p:cNvSpPr/>
            <p:nvPr/>
          </p:nvSpPr>
          <p:spPr>
            <a:xfrm>
              <a:off x="4503960" y="4069440"/>
              <a:ext cx="58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alibri"/>
                </a:rPr>
                <a:t>E2F-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CasellaDiTesto 46"/>
          <p:cNvSpPr/>
          <p:nvPr/>
        </p:nvSpPr>
        <p:spPr>
          <a:xfrm>
            <a:off x="601560" y="5794200"/>
            <a:ext cx="10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. di cellu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po 48 o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asellaDiTesto 51"/>
          <p:cNvSpPr/>
          <p:nvPr/>
        </p:nvSpPr>
        <p:spPr>
          <a:xfrm>
            <a:off x="2028960" y="5902200"/>
            <a:ext cx="10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it-IT" sz="1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CasellaDiTesto 52"/>
          <p:cNvSpPr/>
          <p:nvPr/>
        </p:nvSpPr>
        <p:spPr>
          <a:xfrm>
            <a:off x="4272120" y="5902200"/>
            <a:ext cx="106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2x10</a:t>
            </a:r>
            <a:r>
              <a:rPr b="0" lang="it-IT" sz="1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uppo 54"/>
          <p:cNvGrpSpPr/>
          <p:nvPr/>
        </p:nvGrpSpPr>
        <p:grpSpPr>
          <a:xfrm>
            <a:off x="6703920" y="3884760"/>
            <a:ext cx="677880" cy="677880"/>
            <a:chOff x="6703920" y="3884760"/>
            <a:chExt cx="677880" cy="677880"/>
          </a:xfrm>
        </p:grpSpPr>
        <p:sp>
          <p:nvSpPr>
            <p:cNvPr id="164" name="Ovale 55"/>
            <p:cNvSpPr/>
            <p:nvPr/>
          </p:nvSpPr>
          <p:spPr>
            <a:xfrm>
              <a:off x="6703920" y="3884760"/>
              <a:ext cx="677880" cy="67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CasellaDiTesto 56"/>
            <p:cNvSpPr/>
            <p:nvPr/>
          </p:nvSpPr>
          <p:spPr>
            <a:xfrm>
              <a:off x="6746400" y="4069440"/>
              <a:ext cx="1846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CasellaDiTesto 57"/>
          <p:cNvSpPr/>
          <p:nvPr/>
        </p:nvSpPr>
        <p:spPr>
          <a:xfrm>
            <a:off x="6518160" y="5902200"/>
            <a:ext cx="10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9x10</a:t>
            </a:r>
            <a:r>
              <a:rPr b="0" lang="it-IT" sz="14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1:19:00Z</dcterms:created>
  <dc:creator>Marco Crescenzi</dc:creator>
  <dc:description/>
  <dc:language>en-US</dc:language>
  <cp:lastModifiedBy>Crescenzi Marco</cp:lastModifiedBy>
  <cp:lastPrinted>2018-03-08T08:44:14Z</cp:lastPrinted>
  <dcterms:modified xsi:type="dcterms:W3CDTF">2020-10-20T11:47:22Z</dcterms:modified>
  <cp:revision>118</cp:revision>
  <dc:subject/>
  <dc:title>Presentazione di PowerPoint</dc:title>
</cp:coreProperties>
</file>