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3543-C8D9-4F61-BDB5-5694C3D52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BED2-8069-4849-B3C2-48EC772E7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6C3E-DF8D-4EB4-B4DC-A3608F735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48C-542B-4D5B-B642-5648261D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139B-EC50-4236-A677-85CD2681C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78BD-ADE3-4FAA-BBB1-BAC2953D0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lezione naturale delle teorie (p. 1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1453-982F-4923-BC22-7468977E3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F2A-5D33-40B7-BFCA-971649F5C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86AF-462A-43FC-A3F1-5F06698D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0312-7992-4DD8-A378-2FFB9759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4919-4998-470E-B9D5-746E3962C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38BC-1185-4DFA-A77C-BB64D7824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62BA-B8FB-44BE-81FB-7780B4B0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1DB9-BED9-435B-8C21-986D9E22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9D3C-08B6-4D04-9C71-7CE5147FA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DEA0-D85C-4EAB-956D-34883F5C6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CCEC-8579-4A27-AF3E-E36599BAC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3AAA-020B-4C9C-8AFF-B4C159D7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iste una asimmetria fra verificabilità e falsificabilità: la seconda è possibile, la prima no (La logica della scoperta scientifica, p. 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metodo della falsificazione è logico, quindi fondato su basi non dubitabili (p. 24-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D4D1-8618-4B4A-A8DD-5125D64AC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701800" y="533520"/>
            <a:ext cx="3741840" cy="25905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EF7-18FB-467F-A397-950D7117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795-EE6B-4C0A-98C8-BCC84913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850-91E0-4B3B-8290-CDD91B81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FDD-BDE8-4BA9-8863-84F8E179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C83-8E11-40E2-82CB-D952EB23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90B-8B4D-40D8-B524-6C328242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4E0-B3DD-4D6A-97E0-3328E392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6A7-1846-47D3-AB7B-ADFB0C40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2C3-B194-45AF-931C-364B201A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EEA-8E05-4819-9BDD-7531BF5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ECB-D5E5-4C7C-BEEF-C54920E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BD9-92B0-4B08-BC42-8C915E49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4D4C-44F7-4B58-8224-4C12BA912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3.jpeg"/><Relationship Id="rId13" Type="http://schemas.openxmlformats.org/officeDocument/2006/relationships/image" Target="../media/image1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1"/>
          <p:cNvSpPr/>
          <p:nvPr/>
        </p:nvSpPr>
        <p:spPr>
          <a:xfrm>
            <a:off x="1038240" y="252108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ndamenti epistemologici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472920" y="3174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67520" y="327960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181160" y="3460680"/>
            <a:ext cx="214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088000" y="297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622160" y="372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583000" y="3125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357640" y="3525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488120" y="2744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959280" y="3460680"/>
            <a:ext cx="2141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267520" y="2928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834080" y="3711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204960" y="3156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6659640" y="3460680"/>
            <a:ext cx="213984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196320" y="327024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2878200" y="411120"/>
            <a:ext cx="41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sificazio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Popper"/>
          <p:cNvPicPr/>
          <p:nvPr/>
        </p:nvPicPr>
        <p:blipFill>
          <a:blip r:embed="rId1"/>
          <a:stretch/>
        </p:blipFill>
        <p:spPr>
          <a:xfrm>
            <a:off x="5556240" y="1220760"/>
            <a:ext cx="3637080" cy="430848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1"/>
          <p:cNvSpPr/>
          <p:nvPr/>
        </p:nvSpPr>
        <p:spPr>
          <a:xfrm>
            <a:off x="620640" y="1119240"/>
            <a:ext cx="43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arl Poppe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02 –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1"/>
          <p:cNvSpPr/>
          <p:nvPr/>
        </p:nvSpPr>
        <p:spPr>
          <a:xfrm>
            <a:off x="592920" y="214776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Falsificazion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sellaDiTesto 1"/>
          <p:cNvSpPr/>
          <p:nvPr/>
        </p:nvSpPr>
        <p:spPr>
          <a:xfrm>
            <a:off x="620640" y="3174840"/>
            <a:ext cx="4556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teorie scientific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evo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ssere falsific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sellaDiTesto 5"/>
          <p:cNvSpPr/>
          <p:nvPr/>
        </p:nvSpPr>
        <p:spPr>
          <a:xfrm>
            <a:off x="620640" y="4562640"/>
            <a:ext cx="4556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esserlo,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evo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are predizioni verific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asellaDiTesto 2"/>
          <p:cNvSpPr/>
          <p:nvPr/>
        </p:nvSpPr>
        <p:spPr>
          <a:xfrm>
            <a:off x="1079640" y="3349800"/>
            <a:ext cx="774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anche formulassimo una teoria scientifica perfettamente aderente alla realtà, non potremmo saperlo, perché l’unica verifica logicamente accettabile sarebbe effettuare tutte le osservazioni e tutti gli esperimenti concepibili, il che è evidentemente imposs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1"/>
          <p:cNvSpPr/>
          <p:nvPr/>
        </p:nvSpPr>
        <p:spPr>
          <a:xfrm>
            <a:off x="555480" y="1496880"/>
            <a:ext cx="87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 la conoscenza umana rimane fallibile, conget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472920" y="3174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467520" y="327960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181160" y="3460680"/>
            <a:ext cx="214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088000" y="297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22160" y="372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83000" y="3125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357640" y="3525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488120" y="2744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959280" y="3460680"/>
            <a:ext cx="2141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67520" y="2928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834080" y="3711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197040" y="3174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6659640" y="3460680"/>
            <a:ext cx="2139840" cy="0"/>
          </a:xfrm>
          <a:prstGeom prst="line">
            <a:avLst/>
          </a:prstGeom>
          <a:ln w="190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6175800" y="325116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2878200" y="411120"/>
            <a:ext cx="41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sificazio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Mostrina 2"/>
          <p:cNvSpPr/>
          <p:nvPr/>
        </p:nvSpPr>
        <p:spPr>
          <a:xfrm>
            <a:off x="1324080" y="5060880"/>
            <a:ext cx="7318440" cy="376200"/>
          </a:xfrm>
          <a:custGeom>
            <a:avLst/>
            <a:gdLst>
              <a:gd name="textAreaLeft" fmla="*/ 0 w 7318440"/>
              <a:gd name="textAreaRight" fmla="*/ 7318800 w 731844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44" y="0"/>
                </a:lnTo>
                <a:lnTo>
                  <a:pt x="21600" y="10800"/>
                </a:lnTo>
                <a:lnTo>
                  <a:pt x="21044" y="21600"/>
                </a:lnTo>
                <a:lnTo>
                  <a:pt x="0" y="21600"/>
                </a:lnTo>
                <a:lnTo>
                  <a:pt x="556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CasellaDiTesto 1"/>
          <p:cNvSpPr/>
          <p:nvPr/>
        </p:nvSpPr>
        <p:spPr>
          <a:xfrm>
            <a:off x="550800" y="536400"/>
            <a:ext cx="88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cardiomiociti adulti sono terminalmente differenziati (postmitot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magine 2" descr="Anversa Title.jpg"/>
          <p:cNvPicPr/>
          <p:nvPr/>
        </p:nvPicPr>
        <p:blipFill>
          <a:blip r:embed="rId1"/>
          <a:stretch/>
        </p:blipFill>
        <p:spPr>
          <a:xfrm>
            <a:off x="341280" y="2158920"/>
            <a:ext cx="9225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mmagine 1" descr="Anversa figure.jpg"/>
          <p:cNvPicPr/>
          <p:nvPr/>
        </p:nvPicPr>
        <p:blipFill>
          <a:blip r:embed="rId1"/>
          <a:stretch/>
        </p:blipFill>
        <p:spPr>
          <a:xfrm>
            <a:off x="1031760" y="0"/>
            <a:ext cx="782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asellaDiTesto 1"/>
          <p:cNvSpPr/>
          <p:nvPr/>
        </p:nvSpPr>
        <p:spPr>
          <a:xfrm>
            <a:off x="555480" y="1496880"/>
            <a:ext cx="87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 la conoscenza umana rimane fallibile, congettu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sellaDiTesto 1"/>
          <p:cNvSpPr/>
          <p:nvPr/>
        </p:nvSpPr>
        <p:spPr>
          <a:xfrm>
            <a:off x="1058760" y="3840120"/>
            <a:ext cx="38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la matemat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asellaDiTesto 1"/>
          <p:cNvSpPr/>
          <p:nvPr/>
        </p:nvSpPr>
        <p:spPr>
          <a:xfrm>
            <a:off x="620640" y="1119240"/>
            <a:ext cx="43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urt Gödel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06 – 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1"/>
          <p:cNvSpPr/>
          <p:nvPr/>
        </p:nvSpPr>
        <p:spPr>
          <a:xfrm>
            <a:off x="620640" y="3857760"/>
            <a:ext cx="45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31: teoremi di incomple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magine 1" descr="Kurt_gödel.jpg"/>
          <p:cNvPicPr/>
          <p:nvPr/>
        </p:nvPicPr>
        <p:blipFill>
          <a:blip r:embed="rId1"/>
          <a:stretch/>
        </p:blipFill>
        <p:spPr>
          <a:xfrm>
            <a:off x="5796000" y="1220760"/>
            <a:ext cx="33987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vale 1"/>
          <p:cNvSpPr/>
          <p:nvPr/>
        </p:nvSpPr>
        <p:spPr>
          <a:xfrm>
            <a:off x="151128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e 3"/>
          <p:cNvSpPr/>
          <p:nvPr/>
        </p:nvSpPr>
        <p:spPr>
          <a:xfrm>
            <a:off x="198900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e 4"/>
          <p:cNvSpPr/>
          <p:nvPr/>
        </p:nvSpPr>
        <p:spPr>
          <a:xfrm>
            <a:off x="246528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e 5"/>
          <p:cNvSpPr/>
          <p:nvPr/>
        </p:nvSpPr>
        <p:spPr>
          <a:xfrm>
            <a:off x="294156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e 6"/>
          <p:cNvSpPr/>
          <p:nvPr/>
        </p:nvSpPr>
        <p:spPr>
          <a:xfrm>
            <a:off x="3417840" y="5354640"/>
            <a:ext cx="343080" cy="34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P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tangolo 2"/>
          <p:cNvSpPr/>
          <p:nvPr/>
        </p:nvSpPr>
        <p:spPr>
          <a:xfrm>
            <a:off x="1733400" y="4294080"/>
            <a:ext cx="443160" cy="44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ttangolo 8"/>
          <p:cNvSpPr/>
          <p:nvPr/>
        </p:nvSpPr>
        <p:spPr>
          <a:xfrm>
            <a:off x="3044880" y="4294080"/>
            <a:ext cx="442800" cy="44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ttangolo 9"/>
          <p:cNvSpPr/>
          <p:nvPr/>
        </p:nvSpPr>
        <p:spPr>
          <a:xfrm>
            <a:off x="2136600" y="3325680"/>
            <a:ext cx="443160" cy="44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tangolo 10"/>
          <p:cNvSpPr/>
          <p:nvPr/>
        </p:nvSpPr>
        <p:spPr>
          <a:xfrm>
            <a:off x="3689280" y="3325680"/>
            <a:ext cx="443160" cy="44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11"/>
          <p:cNvSpPr/>
          <p:nvPr/>
        </p:nvSpPr>
        <p:spPr>
          <a:xfrm>
            <a:off x="755640" y="3325680"/>
            <a:ext cx="444600" cy="44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2"/>
          <p:cNvSpPr/>
          <p:nvPr/>
        </p:nvSpPr>
        <p:spPr>
          <a:xfrm>
            <a:off x="2892600" y="2308320"/>
            <a:ext cx="444240" cy="442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tangolo 13"/>
          <p:cNvSpPr/>
          <p:nvPr/>
        </p:nvSpPr>
        <p:spPr>
          <a:xfrm>
            <a:off x="4505400" y="2308320"/>
            <a:ext cx="444600" cy="442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tangolo 14"/>
          <p:cNvSpPr/>
          <p:nvPr/>
        </p:nvSpPr>
        <p:spPr>
          <a:xfrm>
            <a:off x="90360" y="2308320"/>
            <a:ext cx="444600" cy="442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15"/>
          <p:cNvSpPr/>
          <p:nvPr/>
        </p:nvSpPr>
        <p:spPr>
          <a:xfrm>
            <a:off x="2268360" y="2308320"/>
            <a:ext cx="443160" cy="442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T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nettore 1 16"/>
          <p:cNvSpPr/>
          <p:nvPr/>
        </p:nvSpPr>
        <p:spPr>
          <a:xfrm flipV="1">
            <a:off x="1724040" y="4838760"/>
            <a:ext cx="1206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18"/>
          <p:cNvSpPr/>
          <p:nvPr/>
        </p:nvSpPr>
        <p:spPr>
          <a:xfrm>
            <a:off x="2036880" y="4818240"/>
            <a:ext cx="53316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nettore 1 20"/>
          <p:cNvSpPr/>
          <p:nvPr/>
        </p:nvSpPr>
        <p:spPr>
          <a:xfrm flipV="1">
            <a:off x="3105000" y="4838760"/>
            <a:ext cx="12096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nettore 1 21"/>
          <p:cNvSpPr/>
          <p:nvPr/>
        </p:nvSpPr>
        <p:spPr>
          <a:xfrm flipH="1" flipV="1">
            <a:off x="574200" y="2873520"/>
            <a:ext cx="120600" cy="3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onnettore 1 22"/>
          <p:cNvSpPr/>
          <p:nvPr/>
        </p:nvSpPr>
        <p:spPr>
          <a:xfrm flipH="1" flipV="1">
            <a:off x="3427200" y="4838760"/>
            <a:ext cx="1206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onnettore 1 23"/>
          <p:cNvSpPr/>
          <p:nvPr/>
        </p:nvSpPr>
        <p:spPr>
          <a:xfrm flipV="1">
            <a:off x="2085840" y="3849840"/>
            <a:ext cx="1224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nettore 1 24"/>
          <p:cNvSpPr/>
          <p:nvPr/>
        </p:nvSpPr>
        <p:spPr>
          <a:xfrm>
            <a:off x="2409840" y="3840120"/>
            <a:ext cx="58428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nettore 1 26"/>
          <p:cNvSpPr/>
          <p:nvPr/>
        </p:nvSpPr>
        <p:spPr>
          <a:xfrm flipV="1">
            <a:off x="1835280" y="3759120"/>
            <a:ext cx="1643040" cy="14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nettore 1 28"/>
          <p:cNvSpPr/>
          <p:nvPr/>
        </p:nvSpPr>
        <p:spPr>
          <a:xfrm flipV="1">
            <a:off x="3557520" y="3849840"/>
            <a:ext cx="1224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nettore 1 29"/>
          <p:cNvSpPr/>
          <p:nvPr/>
        </p:nvSpPr>
        <p:spPr>
          <a:xfrm flipV="1">
            <a:off x="1189080" y="2750760"/>
            <a:ext cx="987480" cy="4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nettore 1 19455"/>
          <p:cNvSpPr/>
          <p:nvPr/>
        </p:nvSpPr>
        <p:spPr>
          <a:xfrm flipV="1">
            <a:off x="1339920" y="2862360"/>
            <a:ext cx="15732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onnettore 1 19458"/>
          <p:cNvSpPr/>
          <p:nvPr/>
        </p:nvSpPr>
        <p:spPr>
          <a:xfrm flipH="1" flipV="1">
            <a:off x="3154320" y="2843280"/>
            <a:ext cx="525600" cy="3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ttore 1 19460"/>
          <p:cNvSpPr/>
          <p:nvPr/>
        </p:nvSpPr>
        <p:spPr>
          <a:xfrm flipV="1">
            <a:off x="2630520" y="2892600"/>
            <a:ext cx="342720" cy="28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nettore 1 19462"/>
          <p:cNvSpPr/>
          <p:nvPr/>
        </p:nvSpPr>
        <p:spPr>
          <a:xfrm flipH="1" flipV="1">
            <a:off x="926640" y="3890880"/>
            <a:ext cx="1119240" cy="13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nettore 1 19464"/>
          <p:cNvSpPr/>
          <p:nvPr/>
        </p:nvSpPr>
        <p:spPr>
          <a:xfrm flipH="1" flipV="1">
            <a:off x="1309680" y="3487680"/>
            <a:ext cx="73656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nettore 1 19466"/>
          <p:cNvSpPr/>
          <p:nvPr/>
        </p:nvSpPr>
        <p:spPr>
          <a:xfrm flipH="1" flipV="1">
            <a:off x="1239840" y="3839760"/>
            <a:ext cx="4032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nettore 1 19468"/>
          <p:cNvSpPr/>
          <p:nvPr/>
        </p:nvSpPr>
        <p:spPr>
          <a:xfrm flipV="1">
            <a:off x="4132440" y="2852280"/>
            <a:ext cx="47448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nettore 1 19470"/>
          <p:cNvSpPr/>
          <p:nvPr/>
        </p:nvSpPr>
        <p:spPr>
          <a:xfrm flipH="1" flipV="1">
            <a:off x="644040" y="2781360"/>
            <a:ext cx="1311480" cy="67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nnettore 1 19472"/>
          <p:cNvSpPr/>
          <p:nvPr/>
        </p:nvSpPr>
        <p:spPr>
          <a:xfrm flipV="1">
            <a:off x="2690640" y="2781360"/>
            <a:ext cx="169416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nettore 1 19474"/>
          <p:cNvSpPr/>
          <p:nvPr/>
        </p:nvSpPr>
        <p:spPr>
          <a:xfrm flipH="1" flipV="1">
            <a:off x="140760" y="1723680"/>
            <a:ext cx="141480" cy="392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nettore 1 19476"/>
          <p:cNvSpPr/>
          <p:nvPr/>
        </p:nvSpPr>
        <p:spPr>
          <a:xfrm flipV="1">
            <a:off x="484200" y="1420560"/>
            <a:ext cx="1724040" cy="66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nettore 1 19478"/>
          <p:cNvSpPr/>
          <p:nvPr/>
        </p:nvSpPr>
        <p:spPr>
          <a:xfrm flipH="1" flipV="1">
            <a:off x="1028520" y="1320840"/>
            <a:ext cx="1360440" cy="81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nettore 1 55"/>
          <p:cNvSpPr/>
          <p:nvPr/>
        </p:nvSpPr>
        <p:spPr>
          <a:xfrm flipV="1">
            <a:off x="2530440" y="1854360"/>
            <a:ext cx="343080" cy="282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nnettore 1 19480"/>
          <p:cNvSpPr/>
          <p:nvPr/>
        </p:nvSpPr>
        <p:spPr>
          <a:xfrm flipV="1">
            <a:off x="3246480" y="1531800"/>
            <a:ext cx="1812960" cy="59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nettore 1 19482"/>
          <p:cNvSpPr/>
          <p:nvPr/>
        </p:nvSpPr>
        <p:spPr>
          <a:xfrm flipH="1" flipV="1">
            <a:off x="3114720" y="1230120"/>
            <a:ext cx="1441440" cy="95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nettore 1 19484"/>
          <p:cNvSpPr/>
          <p:nvPr/>
        </p:nvSpPr>
        <p:spPr>
          <a:xfrm flipV="1">
            <a:off x="4838760" y="1371240"/>
            <a:ext cx="825480" cy="82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asellaDiTesto 19485"/>
          <p:cNvSpPr/>
          <p:nvPr/>
        </p:nvSpPr>
        <p:spPr>
          <a:xfrm>
            <a:off x="5568840" y="2419200"/>
            <a:ext cx="415152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o teorema di Göd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un sistema è congruente, non può essere compl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sellaDiTesto 63"/>
          <p:cNvSpPr/>
          <p:nvPr/>
        </p:nvSpPr>
        <p:spPr>
          <a:xfrm>
            <a:off x="5554800" y="4213080"/>
            <a:ext cx="418464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condo teorema di Göd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congruenza degli assiomi di un sistema non può essere provata all’interno del sistema st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73280" y="2455920"/>
            <a:ext cx="83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o ci fidiamo della scie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asellaDiTesto 1"/>
          <p:cNvSpPr/>
          <p:nvPr/>
        </p:nvSpPr>
        <p:spPr>
          <a:xfrm>
            <a:off x="1038240" y="2049480"/>
            <a:ext cx="7829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Induttivism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Bacon, 16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gge scientifica come risultato di un grande numero di osserv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1"/>
          <p:cNvSpPr/>
          <p:nvPr/>
        </p:nvSpPr>
        <p:spPr>
          <a:xfrm>
            <a:off x="1038240" y="4222800"/>
            <a:ext cx="78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Verificazionism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omte e positivisti, dal 18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ntativo di trovare il metodo attraverso il quale una legge scientifica può esser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verific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ioè dimostrata 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sellaDiTesto 1"/>
          <p:cNvSpPr/>
          <p:nvPr/>
        </p:nvSpPr>
        <p:spPr>
          <a:xfrm>
            <a:off x="488880" y="496800"/>
            <a:ext cx="89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ndamenti filosofici della scienza: epistem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Popper"/>
          <p:cNvPicPr/>
          <p:nvPr/>
        </p:nvPicPr>
        <p:blipFill>
          <a:blip r:embed="rId1"/>
          <a:stretch/>
        </p:blipFill>
        <p:spPr>
          <a:xfrm>
            <a:off x="5556240" y="1220760"/>
            <a:ext cx="3637080" cy="43084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1"/>
          <p:cNvSpPr/>
          <p:nvPr/>
        </p:nvSpPr>
        <p:spPr>
          <a:xfrm>
            <a:off x="566640" y="1119240"/>
            <a:ext cx="43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Karl Poppe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1902 –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1"/>
          <p:cNvSpPr/>
          <p:nvPr/>
        </p:nvSpPr>
        <p:spPr>
          <a:xfrm>
            <a:off x="539280" y="469116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Falsificazion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1"/>
          <p:cNvSpPr/>
          <p:nvPr/>
        </p:nvSpPr>
        <p:spPr>
          <a:xfrm>
            <a:off x="566640" y="2873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logica della scoperta scientific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1934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081080" y="151776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utazione dell’induttiv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white-swan"/>
          <p:cNvPicPr/>
          <p:nvPr/>
        </p:nvPicPr>
        <p:blipFill>
          <a:blip r:embed="rId1"/>
          <a:stretch/>
        </p:blipFill>
        <p:spPr>
          <a:xfrm>
            <a:off x="1081080" y="289404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white-swan"/>
          <p:cNvPicPr/>
          <p:nvPr/>
        </p:nvPicPr>
        <p:blipFill>
          <a:blip r:embed="rId2"/>
          <a:stretch/>
        </p:blipFill>
        <p:spPr>
          <a:xfrm>
            <a:off x="3570120" y="289404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white-swan"/>
          <p:cNvPicPr/>
          <p:nvPr/>
        </p:nvPicPr>
        <p:blipFill>
          <a:blip r:embed="rId3"/>
          <a:stretch/>
        </p:blipFill>
        <p:spPr>
          <a:xfrm>
            <a:off x="2325600" y="2894040"/>
            <a:ext cx="1005120" cy="565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white-swan"/>
          <p:cNvPicPr/>
          <p:nvPr/>
        </p:nvPicPr>
        <p:blipFill>
          <a:blip r:embed="rId4"/>
          <a:stretch/>
        </p:blipFill>
        <p:spPr>
          <a:xfrm>
            <a:off x="4815000" y="2894040"/>
            <a:ext cx="1006200" cy="565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white-swan"/>
          <p:cNvPicPr/>
          <p:nvPr/>
        </p:nvPicPr>
        <p:blipFill>
          <a:blip r:embed="rId5"/>
          <a:stretch/>
        </p:blipFill>
        <p:spPr>
          <a:xfrm>
            <a:off x="1081080" y="385272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white-swan"/>
          <p:cNvPicPr/>
          <p:nvPr/>
        </p:nvPicPr>
        <p:blipFill>
          <a:blip r:embed="rId6"/>
          <a:stretch/>
        </p:blipFill>
        <p:spPr>
          <a:xfrm>
            <a:off x="2325600" y="3852720"/>
            <a:ext cx="1005120" cy="56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white-swan"/>
          <p:cNvPicPr/>
          <p:nvPr/>
        </p:nvPicPr>
        <p:blipFill>
          <a:blip r:embed="rId7"/>
          <a:stretch/>
        </p:blipFill>
        <p:spPr>
          <a:xfrm>
            <a:off x="3570120" y="385272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white-swan"/>
          <p:cNvPicPr/>
          <p:nvPr/>
        </p:nvPicPr>
        <p:blipFill>
          <a:blip r:embed="rId8"/>
          <a:stretch/>
        </p:blipFill>
        <p:spPr>
          <a:xfrm>
            <a:off x="4815000" y="3852720"/>
            <a:ext cx="1006200" cy="56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ite-swan"/>
          <p:cNvPicPr/>
          <p:nvPr/>
        </p:nvPicPr>
        <p:blipFill>
          <a:blip r:embed="rId9"/>
          <a:stretch/>
        </p:blipFill>
        <p:spPr>
          <a:xfrm>
            <a:off x="1081080" y="481320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white-swan"/>
          <p:cNvPicPr/>
          <p:nvPr/>
        </p:nvPicPr>
        <p:blipFill>
          <a:blip r:embed="rId10"/>
          <a:stretch/>
        </p:blipFill>
        <p:spPr>
          <a:xfrm>
            <a:off x="2325600" y="4813200"/>
            <a:ext cx="1005120" cy="56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white-swan"/>
          <p:cNvPicPr/>
          <p:nvPr/>
        </p:nvPicPr>
        <p:blipFill>
          <a:blip r:embed="rId11"/>
          <a:stretch/>
        </p:blipFill>
        <p:spPr>
          <a:xfrm>
            <a:off x="3570120" y="4813200"/>
            <a:ext cx="100656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7" descr="black-swan"/>
          <p:cNvPicPr/>
          <p:nvPr/>
        </p:nvPicPr>
        <p:blipFill>
          <a:blip r:embed="rId12"/>
          <a:stretch/>
        </p:blipFill>
        <p:spPr>
          <a:xfrm>
            <a:off x="4792680" y="4808520"/>
            <a:ext cx="1028520" cy="56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Popper"/>
          <p:cNvPicPr/>
          <p:nvPr/>
        </p:nvPicPr>
        <p:blipFill>
          <a:blip r:embed="rId13"/>
          <a:stretch/>
        </p:blipFill>
        <p:spPr>
          <a:xfrm>
            <a:off x="7477200" y="3346560"/>
            <a:ext cx="1717560" cy="2031840"/>
          </a:xfrm>
          <a:prstGeom prst="rect">
            <a:avLst/>
          </a:prstGeom>
          <a:ln w="0">
            <a:noFill/>
          </a:ln>
        </p:spPr>
      </p:pic>
      <p:pic>
        <p:nvPicPr>
          <p:cNvPr id="71" name="Immagine 1" descr="aristotle.jpg"/>
          <p:cNvPicPr/>
          <p:nvPr/>
        </p:nvPicPr>
        <p:blipFill>
          <a:blip r:embed="rId14"/>
          <a:stretch/>
        </p:blipFill>
        <p:spPr>
          <a:xfrm>
            <a:off x="7477200" y="642960"/>
            <a:ext cx="17254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90612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sellaDiTesto 1"/>
          <p:cNvSpPr/>
          <p:nvPr/>
        </p:nvSpPr>
        <p:spPr>
          <a:xfrm>
            <a:off x="1079640" y="4384800"/>
            <a:ext cx="774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c’è modo di verificare una teoria (dimostrare che e’ vera in senso assoluto), perché non esiste un criterio di verità, né logico né empi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uppo 11"/>
          <p:cNvGrpSpPr/>
          <p:nvPr/>
        </p:nvGrpSpPr>
        <p:grpSpPr>
          <a:xfrm>
            <a:off x="4316040" y="1287360"/>
            <a:ext cx="1273680" cy="498600"/>
            <a:chOff x="4316040" y="1287360"/>
            <a:chExt cx="1273680" cy="498600"/>
          </a:xfrm>
        </p:grpSpPr>
        <p:cxnSp>
          <p:nvCxnSpPr>
            <p:cNvPr id="75" name="Connettore 2 6"/>
            <p:cNvCxnSpPr/>
            <p:nvPr/>
          </p:nvCxnSpPr>
          <p:spPr>
            <a:xfrm flipV="1">
              <a:off x="4316040" y="1776240"/>
              <a:ext cx="127404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76" name="CasellaDiTesto 7"/>
            <p:cNvSpPr/>
            <p:nvPr/>
          </p:nvSpPr>
          <p:spPr>
            <a:xfrm>
              <a:off x="4622040" y="1287360"/>
              <a:ext cx="6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uppo 10"/>
          <p:cNvGrpSpPr/>
          <p:nvPr/>
        </p:nvGrpSpPr>
        <p:grpSpPr>
          <a:xfrm>
            <a:off x="1987560" y="846000"/>
            <a:ext cx="2017800" cy="2513520"/>
            <a:chOff x="1987560" y="846000"/>
            <a:chExt cx="2017800" cy="2513520"/>
          </a:xfrm>
        </p:grpSpPr>
        <p:sp>
          <p:nvSpPr>
            <p:cNvPr id="78" name="Ovale 2"/>
            <p:cNvSpPr/>
            <p:nvPr/>
          </p:nvSpPr>
          <p:spPr>
            <a:xfrm>
              <a:off x="1987560" y="846000"/>
              <a:ext cx="2017800" cy="1863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CasellaDiTesto 8"/>
            <p:cNvSpPr/>
            <p:nvPr/>
          </p:nvSpPr>
          <p:spPr>
            <a:xfrm>
              <a:off x="2272680" y="299124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e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"/>
          <p:cNvGrpSpPr/>
          <p:nvPr/>
        </p:nvGrpSpPr>
        <p:grpSpPr>
          <a:xfrm>
            <a:off x="5900760" y="846000"/>
            <a:ext cx="2017800" cy="2513520"/>
            <a:chOff x="5900760" y="846000"/>
            <a:chExt cx="2017800" cy="2513520"/>
          </a:xfrm>
        </p:grpSpPr>
        <p:sp>
          <p:nvSpPr>
            <p:cNvPr id="81" name="Ovale 3"/>
            <p:cNvSpPr/>
            <p:nvPr/>
          </p:nvSpPr>
          <p:spPr>
            <a:xfrm>
              <a:off x="5900760" y="846000"/>
              <a:ext cx="2017800" cy="18637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CasellaDiTesto 9"/>
            <p:cNvSpPr/>
            <p:nvPr/>
          </p:nvSpPr>
          <p:spPr>
            <a:xfrm>
              <a:off x="6185880" y="299124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Realt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sellaDiTesto 1"/>
          <p:cNvSpPr/>
          <p:nvPr/>
        </p:nvSpPr>
        <p:spPr>
          <a:xfrm>
            <a:off x="919080" y="149688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teorie scientifiche non possono essere dimo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1"/>
          <p:cNvSpPr/>
          <p:nvPr/>
        </p:nvSpPr>
        <p:spPr>
          <a:xfrm>
            <a:off x="919080" y="379260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possono essere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falsifica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cioè dimostrate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3472920" y="31748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467520" y="3279600"/>
            <a:ext cx="31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878200" y="411120"/>
            <a:ext cx="41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sificazio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81160" y="3460680"/>
            <a:ext cx="214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088000" y="297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622160" y="372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83000" y="3125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357640" y="35258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488120" y="2744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3959280" y="3460680"/>
            <a:ext cx="2141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67520" y="2928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4834080" y="3711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4:59:32Z</dcterms:created>
  <dc:creator>Marco Crescenzi</dc:creator>
  <dc:description/>
  <dc:language>en-US</dc:language>
  <cp:lastModifiedBy>Crescenzi Marco</cp:lastModifiedBy>
  <cp:lastPrinted>2015-10-21T09:47:50Z</cp:lastPrinted>
  <dcterms:modified xsi:type="dcterms:W3CDTF">2021-04-19T09:51:59Z</dcterms:modified>
  <cp:revision>180</cp:revision>
  <dc:subject/>
  <dc:title>PowerPoint Presentation</dc:title>
</cp:coreProperties>
</file>