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43560" cy="34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0076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68032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9"/>
          </p:nvPr>
        </p:nvSpPr>
        <p:spPr>
          <a:xfrm>
            <a:off x="3886200" y="8686440"/>
            <a:ext cx="294336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D6B4D-5239-4891-8645-28B14D3FF64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D179B-D630-4E00-8230-DF486C5132E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D7004-D6D2-42A1-B62C-C29AE7FD409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02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2AEFD-55E3-4D1E-B7A1-4CA92165264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A67F7-31C7-4C77-9EF6-6B9EEE4B2CA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02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0ECCB-4455-4FDA-8465-9D8B9B46373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EAEA0-38D4-4FAD-9260-C1A4E77B67B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02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E6543-9FFC-449D-8830-B18861F10C7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FAEAD-CC8C-4114-8C06-0B98802058F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02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BFBB5-9284-4E3E-A158-1E63D5D392A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7CADD-4124-459F-9D30-BDC8C647D6A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02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4975D-5889-4D2A-B37A-57CA0DA50FC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02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86200" y="868680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8638B-5C55-41CB-99CA-189296AB00D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B0956-3E12-4C5D-B0CE-F7935798BAD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02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016E-3069-4045-AD22-849040D53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5FFD-DF45-42B1-B519-FC7D47C6F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948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2122-62F0-478C-8946-31F9C9554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2992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0300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2992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0300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0E3C-07ED-4811-AB3D-A21A9BB8B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3E667-0104-44BA-B61F-5446B8AE48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01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6285-9F84-419B-BAAB-AC4C136A5F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0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324F-8E3A-4C48-BF9C-E46BF5204A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9982-1DF0-4DF8-9FB8-7D735C3778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1CBEB-A27C-4C7D-A3F3-519FAE2189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01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8CF5-3EC0-4593-ADCA-9874601456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345C-32C2-4F15-ACD9-AF6977D6C0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01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DA12-7CDB-44DD-BF91-4026CA676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5948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6F42-6906-4645-A946-0CECA9A9A7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56D0-06FF-44D3-B15E-EDF7F30127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E9F8-008E-4EA1-848F-424CFBE5E0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5948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5CF7E-4954-4EEE-9EF2-1CB92BD015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2992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0300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2992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0300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2561-297C-4412-A64B-4D2BB04726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3BD3F-D1A1-4EE9-B371-38CD9F7A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01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6BF3D-66E9-4C55-8B2D-C0E46C7D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0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B3182-AD17-4D35-B15D-A5728C3C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FD386-30C7-4A19-8051-C17CEC8B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B04D5-FDD4-4932-A0C1-C90B7EBF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0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B5B2-03BA-4DEE-A693-3A4DA22D45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01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2EC61-8281-405A-BC6F-CFC88A62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2E32B-40FD-4E38-AC66-2B5B30A0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5948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D20B2-F9BC-4092-BB88-C663DF57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AF54F-78A0-4F21-B135-D5F2723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21FEF-095F-4523-91EA-E96AED81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5948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98BC4-D61F-4117-8316-10C57808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2992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0300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2992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0300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AC6E0-D5A4-428C-BBFE-7E3A5A43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75BB0-D4DF-4338-B1E1-4101DC36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01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A7990-F3C0-40D2-ABE5-17812C40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0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2D0F3-1551-45DB-869B-3402EF4D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AF07-DC44-45D7-A1BA-49B9D6C4A8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3E518-77EA-4B11-AB59-3A32F056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BEBDC-C016-4118-AFEB-64A653BE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01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F7518-F76C-4044-BE80-9E14081B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EF6C3-35D0-4B4A-B7F3-1B629D6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5948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4C7C2-4B0B-4BC5-9E32-4006E61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3EEC8-DF33-489C-AC8B-0896DA59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4B68C-568D-4D15-A543-F4234974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5948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2762A-540F-4ACF-B200-AD22E3F9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2992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0300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2992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0300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0E046-B2AE-4E66-B15A-007DAAB3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5BFA-69CF-418C-A3AB-31D10A1697D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01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0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01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5948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6840" y="419220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5948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01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529B-622A-4E99-AFEC-C033B5D40B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2992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03000" y="198072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684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2992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03000" y="4192200"/>
            <a:ext cx="2640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DB6A-F043-4BC5-8116-20C635CD5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9480" y="419220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92A0-0188-408B-A483-85C2898B7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480" y="1980720"/>
            <a:ext cx="4002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92200"/>
            <a:ext cx="820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7FED-25CF-4331-886E-D79D81475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218280"/>
            <a:ext cx="2105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30CA1-658C-43AE-B64E-6FECF32FF01A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542880"/>
            <a:chOff x="0" y="0"/>
            <a:chExt cx="9140760" cy="5428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028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27840" cy="27144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14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5000"/>
              <a:ext cx="141120" cy="137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0000"/>
              <a:ext cx="137880" cy="137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6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01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0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4543" dir="65676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8512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851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42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b4b1a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A34B8D-41F0-4AE0-8F1C-150B599946AC}" type="slidenum">
              <a:rPr b="0" lang="it-IT" sz="1200" spc="-1" strike="noStrike">
                <a:solidFill>
                  <a:srgbClr val="b4b1a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439560"/>
            <a:ext cx="77947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7947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3"/>
          </p:nvPr>
        </p:nvSpPr>
        <p:spPr>
          <a:xfrm>
            <a:off x="457200" y="6246360"/>
            <a:ext cx="211608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4"/>
          </p:nvPr>
        </p:nvSpPr>
        <p:spPr>
          <a:xfrm>
            <a:off x="3126960" y="6246360"/>
            <a:ext cx="288468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5"/>
          </p:nvPr>
        </p:nvSpPr>
        <p:spPr>
          <a:xfrm>
            <a:off x="6556320" y="6246360"/>
            <a:ext cx="211608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337230-74FC-40E4-978D-D4FDC739FF5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400" y="441000"/>
            <a:ext cx="779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6"/>
          </p:nvPr>
        </p:nvSpPr>
        <p:spPr>
          <a:xfrm>
            <a:off x="456840" y="624636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7"/>
          </p:nvPr>
        </p:nvSpPr>
        <p:spPr>
          <a:xfrm>
            <a:off x="3126960" y="6246360"/>
            <a:ext cx="28861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8"/>
          </p:nvPr>
        </p:nvSpPr>
        <p:spPr>
          <a:xfrm>
            <a:off x="6555960" y="624636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3E87E0-36EC-4D74-8ABA-475A8503319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44568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553080" y="6248520"/>
            <a:ext cx="21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8646A-533C-4C1F-8FF0-F0D6E8F33C5C}" type="slidenum">
              <a:rPr b="0" lang="it-IT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1676520"/>
            <a:ext cx="594360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Times New Roman"/>
              </a:rPr>
              <a:t>IL PACCHETTO IGIENE I PAR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600" spc="-1" strike="noStrike">
                <a:solidFill>
                  <a:srgbClr val="000080"/>
                </a:solidFill>
                <a:latin typeface="Times New Roman"/>
              </a:rPr>
              <a:t>DOTT.SSA ANTONELLA DE GREGORI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600" spc="-1" strike="noStrike">
                <a:solidFill>
                  <a:srgbClr val="000080"/>
                </a:solidFill>
                <a:latin typeface="Times New Roman"/>
              </a:rPr>
              <a:t>ASL LAT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600" spc="-1" strike="noStrike">
                <a:solidFill>
                  <a:srgbClr val="000080"/>
                </a:solidFill>
                <a:latin typeface="Times New Roman"/>
              </a:rPr>
              <a:t>IZS FIRENZE 30/05/1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1600200"/>
            <a:ext cx="297180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Crisi B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Crisi Dioss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2895480"/>
            <a:ext cx="2743200" cy="1556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Perdita di fiducia del consumat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21080" y="4648320"/>
            <a:ext cx="3474000" cy="1068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Spinta definitiva 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cambi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1752480"/>
            <a:ext cx="838440" cy="1143000"/>
          </a:xfrm>
          <a:custGeom>
            <a:avLst/>
            <a:gdLst>
              <a:gd name="textAreaLeft" fmla="*/ 122760 w 838440"/>
              <a:gd name="textAreaRight" fmla="*/ 715680 w 83844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3657600"/>
            <a:ext cx="838440" cy="1143000"/>
          </a:xfrm>
          <a:custGeom>
            <a:avLst/>
            <a:gdLst>
              <a:gd name="textAreaLeft" fmla="*/ 122760 w 838440"/>
              <a:gd name="textAreaRight" fmla="*/ 715680 w 83844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553080" y="6248520"/>
            <a:ext cx="21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D9B0A-56F1-4E25-9D7F-8B724CD0F484}" type="slidenum">
              <a:rPr b="0" lang="it-IT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revisione della normativa dal 1996 in po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1413000"/>
            <a:ext cx="8229600" cy="5016240"/>
          </a:xfrm>
          <a:prstGeom prst="rect">
            <a:avLst/>
          </a:pr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1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a diffusa disorganizzazione nell’esecuzione dei controlli ufficial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anche dimostrata dall’esito delle ispezioni comunitarie , che hanno evidenziato l’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capacit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a parte degli organismi di controllo di </a:t>
            </a:r>
            <a:r>
              <a:rPr b="0" lang="it-IT" sz="2400" spc="-1" strike="noStrike">
                <a:solidFill>
                  <a:srgbClr val="280099"/>
                </a:solidFill>
                <a:latin typeface="Comic Sans MS"/>
              </a:rPr>
              <a:t>garanti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a </a:t>
            </a:r>
            <a:r>
              <a:rPr b="0" lang="it-IT" sz="2400" spc="-1" strike="noStrike">
                <a:solidFill>
                  <a:srgbClr val="280099"/>
                </a:solidFill>
                <a:latin typeface="Comic Sans MS"/>
              </a:rPr>
              <a:t>piena e corretta applic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elle norme comunitarie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a nelle regole imposte all'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OS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MANCATO COINVOLGIMENTO DELLA PRODUZIONE PRIMAR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1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17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79640" y="360360"/>
            <a:ext cx="7854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80"/>
                </a:solidFill>
                <a:latin typeface="Arial"/>
                <a:ea typeface="Arial"/>
              </a:rPr>
              <a:t>ANALISI DELLA SITUAZIO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905120"/>
            <a:ext cx="82296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Problema dell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frammentazione dei controlli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segmenti produttivi considerati separat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Scarsa efficac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di una legislazione che punta al controllo del prodotto fin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Le grandi crisi hanno avuto origine da problemi connessi con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’alimentazione degli anim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79640" y="360360"/>
            <a:ext cx="7854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80"/>
                </a:solidFill>
                <a:latin typeface="Arial"/>
                <a:ea typeface="Arial"/>
              </a:rPr>
              <a:t>ANALISI DELLA SITUAZIO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600200"/>
            <a:ext cx="7772400" cy="57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assenza di norme specifiche per i prodotti di origine vege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produzione primaria non sufficientemente disciplin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esistenza di notevoli differenze nei sistemi di controllo dei vari Paesi e nel modo in cui la normativa comunitaria è applicata e fatta rispett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553080" y="6248520"/>
            <a:ext cx="21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9CDD2-5112-4BE1-92A1-CFAF61DFF478}" type="slidenum">
              <a:rPr b="0" lang="it-IT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revisione della normativa dal 1996 in poi…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120" y="1414440"/>
            <a:ext cx="8229600" cy="4886280"/>
          </a:xfrm>
          <a:prstGeom prst="rect">
            <a:avLst/>
          </a:pr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utto questo ha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0080"/>
                </a:solidFill>
                <a:latin typeface="Comic Sans MS"/>
              </a:rPr>
              <a:t>costretto il legisla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d effettuare una profonda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revis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ella normativa  in materia di sicurezza aliment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con la consapevolezza che i problemi di sicurezza alimentare </a:t>
            </a: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nascono o a monte rispetto al prodotto fini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 prima della trasformazi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37480" y="4859280"/>
            <a:ext cx="2700360" cy="1079640"/>
          </a:xfrm>
          <a:prstGeom prst="borderCallout2">
            <a:avLst>
              <a:gd name="adj1" fmla="val 18750"/>
              <a:gd name="adj2" fmla="val -8333"/>
              <a:gd name="adj3" fmla="val -3629"/>
              <a:gd name="adj4" fmla="val -8625"/>
              <a:gd name="adj5" fmla="val -48796"/>
              <a:gd name="adj6" fmla="val -1937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Times New Roman"/>
              </a:rPr>
              <a:t>PI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3333cc"/>
                </a:solidFill>
                <a:latin typeface="Times New Roman"/>
              </a:rPr>
              <a:t>COINVOLGIMENTO DEL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Times New Roman"/>
              </a:rPr>
              <a:t>PRODUZIONE PRIMARIA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80000" y="4859280"/>
            <a:ext cx="3600360" cy="1440000"/>
          </a:xfrm>
          <a:prstGeom prst="borderCallout2">
            <a:avLst>
              <a:gd name="adj1" fmla="val 18750"/>
              <a:gd name="adj2" fmla="val -8333"/>
              <a:gd name="adj3" fmla="val -1949"/>
              <a:gd name="adj4" fmla="val -287"/>
              <a:gd name="adj5" fmla="val -43060"/>
              <a:gd name="adj6" fmla="val -5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Times New Roman"/>
              </a:rPr>
              <a:t>RIORGANIZZAZIO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Times New Roman"/>
              </a:rPr>
              <a:t>DEI CONTROLLI UFFICIAL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Times New Roman"/>
              </a:rPr>
              <a:t>RIDEFINIZIONE DEGL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Times New Roman"/>
              </a:rPr>
              <a:t>STRUMENTI  MESS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Times New Roman"/>
              </a:rPr>
              <a:t>A DISPOSIZIONE DELLA A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9480" y="800280"/>
            <a:ext cx="77724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900" spc="-1" strike="noStrike">
                <a:solidFill>
                  <a:srgbClr val="000080"/>
                </a:solidFill>
                <a:latin typeface="Arial"/>
                <a:ea typeface="Arial"/>
              </a:rPr>
              <a:t>LIBRO BIANCO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l Libro Bianco </a:t>
            </a:r>
            <a:r>
              <a:rPr b="1" lang="it-IT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ha tracciato il percor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a seguire per garantire gli standard più elevati possibili di sicurezza alimentare, attraverso una serie di propost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80"/>
                </a:solidFill>
                <a:latin typeface="Arial"/>
                <a:ea typeface="Arial"/>
              </a:rPr>
              <a:t>PROPO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0720" y="1260360"/>
            <a:ext cx="773748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stituzione di un'Autorità alimentare europea indipendent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  <a:ea typeface="Arial"/>
              </a:rPr>
              <a:t>(EFSA): incaricata di elaborare pareri scientifici indipendenti su tutti gli spetti inerenti  la sicurezza alimentare, la gestione di sistemi di allarme rapido e la comunicazione dei rischi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20720" y="360360"/>
            <a:ext cx="82803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80"/>
                </a:solidFill>
                <a:latin typeface="Arial"/>
                <a:ea typeface="Arial"/>
              </a:rPr>
              <a:t>PROPO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676520"/>
            <a:ext cx="77724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creazione di un nuovo quadro giuridico che copra l'intera catena alimentare, "</a:t>
            </a:r>
            <a:r>
              <a:rPr b="1" lang="it-IT" sz="3200" spc="-1" strike="noStrike">
                <a:solidFill>
                  <a:srgbClr val="ff00ff"/>
                </a:solidFill>
                <a:latin typeface="Arial"/>
                <a:ea typeface="Arial"/>
              </a:rPr>
              <a:t>dai campi alla tavola“,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 compresa la produzione di mangimi per gli animali: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Strategia globale ed integrata !!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0000" y="360360"/>
            <a:ext cx="80344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900" spc="-1" strike="noStrike">
                <a:solidFill>
                  <a:srgbClr val="000080"/>
                </a:solidFill>
                <a:latin typeface="Arial"/>
                <a:ea typeface="Lucida Sans Unicode"/>
              </a:rPr>
              <a:t>Sicurezza alimentare e libro bianco 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79640" y="1260360"/>
            <a:ext cx="785484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19040" indent="-314280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’attuazione del principio </a:t>
            </a:r>
            <a:r>
              <a:rPr b="1" lang="it-IT" sz="2400" spc="-1" strike="noStrike">
                <a:solidFill>
                  <a:srgbClr val="ff00ff"/>
                </a:solidFill>
                <a:latin typeface="Arial"/>
                <a:ea typeface="Lucida Sans Unicode"/>
              </a:rPr>
              <a:t>della piena responsabilizzazion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 tutti gli operatori della filiera di alimenti e mangimi, ciascuno per la propria fase: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 definizione chiara dei ruol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’istituzione di un dialogo continuativo tra le Istituzioni, i consumatori e le altre parti coinvol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0000" y="179280"/>
            <a:ext cx="80344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900" spc="-1" strike="noStrike">
                <a:solidFill>
                  <a:srgbClr val="000080"/>
                </a:solidFill>
                <a:latin typeface="Arial"/>
                <a:ea typeface="Lucida Sans Unicode"/>
              </a:rPr>
              <a:t>Sicurezza alimentare e libro bianco 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79640" y="1619280"/>
            <a:ext cx="749916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11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11040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Times New Roman"/>
                <a:ea typeface="Lucida Sans Unicode"/>
              </a:rPr>
              <a:t>La rintracciabilità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dei </a:t>
            </a:r>
            <a:r>
              <a:rPr b="1" lang="it-IT" sz="3200" spc="-1" strike="noStrike">
                <a:solidFill>
                  <a:srgbClr val="000080"/>
                </a:solidFill>
                <a:latin typeface="Times New Roman"/>
                <a:ea typeface="Lucida Sans Unicode"/>
              </a:rPr>
              <a:t>mangimi,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egli </a:t>
            </a:r>
            <a:r>
              <a:rPr b="1" lang="it-IT" sz="3200" spc="-1" strike="noStrike">
                <a:solidFill>
                  <a:srgbClr val="000080"/>
                </a:solidFill>
                <a:latin typeface="Times New Roman"/>
                <a:ea typeface="Lucida Sans Unicode"/>
              </a:rPr>
              <a:t>alimenti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estinati agli esseri umani e dei loro </a:t>
            </a:r>
            <a:r>
              <a:rPr b="1" lang="it-IT" sz="3200" spc="-1" strike="noStrike">
                <a:solidFill>
                  <a:srgbClr val="000080"/>
                </a:solidFill>
                <a:latin typeface="Times New Roman"/>
                <a:ea typeface="Lucida Sans Unicode"/>
              </a:rPr>
              <a:t>ingredienti; degli imballagg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11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11040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Times New Roman"/>
                <a:ea typeface="Lucida Sans Unicode"/>
              </a:rPr>
              <a:t>l’analisi del rischi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(</a:t>
            </a:r>
            <a:r>
              <a:rPr b="1" lang="it-IT" sz="3200" spc="-1" strike="noStrike">
                <a:solidFill>
                  <a:srgbClr val="5e11a6"/>
                </a:solidFill>
                <a:latin typeface="Times New Roman"/>
                <a:ea typeface="Lucida Sans Unicode"/>
              </a:rPr>
              <a:t>valutazione, gestione e comunicazion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11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0000" y="1800360"/>
            <a:ext cx="665964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ima 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rlare di legislazione oggi nel 2019 a 13 ann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 distanza dall’applicazione  del Pacchetto Igiene, ad un passo dall’entrata in vigore del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REG. 625/17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È necessario capire ed avere la consapevolezza </a:t>
            </a:r>
            <a:r>
              <a:rPr b="0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del ruolo che oggi ass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la nostra figura profession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60360" y="539640"/>
            <a:ext cx="63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Introduzi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440000" y="539640"/>
            <a:ext cx="6300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5e11a6"/>
                </a:solidFill>
                <a:latin typeface="Times New Roman"/>
              </a:rPr>
              <a:t>L'ANALISI DEL RISCHIO ALLA BASE DELLA LEGISLAZIONE ALIMENT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252080" y="1619280"/>
            <a:ext cx="1095480" cy="1440000"/>
          </a:xfrm>
          <a:prstGeom prst="line">
            <a:avLst/>
          </a:prstGeom>
          <a:ln w="180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0360" y="3324240"/>
            <a:ext cx="197964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Valutazione del rischio s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Base scientifica: quali i pericoli ; quali le probabil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1440000"/>
            <a:ext cx="1440" cy="1619280"/>
          </a:xfrm>
          <a:prstGeom prst="line">
            <a:avLst/>
          </a:prstGeom>
          <a:ln w="180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9280" y="3060720"/>
            <a:ext cx="3419640" cy="3060720"/>
          </a:xfrm>
          <a:prstGeom prst="roundRect">
            <a:avLst>
              <a:gd name="adj" fmla="val 51"/>
            </a:avLst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Gestione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rischio consis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Nell'esamina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Alternative di interv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Con scelte adegu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di prevenzione e controllo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59640" y="2879640"/>
            <a:ext cx="21603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Comunicazione del rischio ( scambio di informazioni) fra le parti comunità scientifiche OSA e 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19640" y="1440000"/>
            <a:ext cx="1079640" cy="1260360"/>
          </a:xfrm>
          <a:prstGeom prst="line">
            <a:avLst/>
          </a:prstGeom>
          <a:ln w="14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553080" y="6248520"/>
            <a:ext cx="21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40B35-79D1-4C09-B240-537623A7CBA5}" type="slidenum">
              <a:rPr b="0" lang="it-IT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UN UTILE CONCONFRONTO FRA LE N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9280" y="1487520"/>
            <a:ext cx="8229600" cy="39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395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3956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PACCHETTO IGIENE RAPPRESENTA UNA VERA E PROPRIA RIVOLUZIONE </a:t>
            </a:r>
            <a:r>
              <a:rPr b="1" lang="it-IT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L “CORPUS IUR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“ ALIMENTARE, UNA SORTA DI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“</a:t>
            </a:r>
            <a:r>
              <a:rPr b="1" lang="it-IT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STO UNI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” CHE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R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395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3956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 </a:t>
            </a:r>
            <a:r>
              <a:rPr b="1" lang="it-IT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L D.L. 193/07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N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 DIRETTIV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TICALI E LA DIRETTIVA 93/43 /CE SULL’IGIENE DEI PRODOTTI ALIMENTARI (D.L. 155/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395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39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39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553080" y="6248520"/>
            <a:ext cx="21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3D0FA-6F52-44CF-B21E-8E3794E844FB}" type="slidenum">
              <a:rPr b="0" lang="it-IT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35160" y="539640"/>
            <a:ext cx="63244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mic Sans MS"/>
              </a:rPr>
              <a:t>REG. CE 178/02 : Principi generali di sicurezza aliment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1143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647720" y="1447920"/>
            <a:ext cx="2495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144792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15238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16002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2057400"/>
            <a:ext cx="274320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O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2133720"/>
            <a:ext cx="365760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UTORITA’ COMPET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2743200"/>
            <a:ext cx="1295280" cy="1798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Norme generali di igiene dei prodotti e della produzione di alimenti REG 852/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28800" y="2666880"/>
            <a:ext cx="1143000" cy="283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Norme specifich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s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ui mangimi (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REG 853/04 REG 183/04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) e sugli alimenti di origine anim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46386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5567400"/>
            <a:ext cx="16146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5562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5867280"/>
            <a:ext cx="2590920" cy="52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Norme relative ai criteri microbiologici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REG 2073/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2895480"/>
            <a:ext cx="1752840" cy="256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rme genarali sull’organiz zazione dei controlli ufficiali  su alimenti e mangimi REG 882/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2819520"/>
            <a:ext cx="19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48520" y="2971800"/>
            <a:ext cx="167616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rme specifiche sui controlli ufficiali su alimenti di origine animale REG 854/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25146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467240" y="2743200"/>
            <a:ext cx="150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274320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19640" y="5400720"/>
            <a:ext cx="2879640" cy="1260360"/>
          </a:xfrm>
          <a:prstGeom prst="wedgeEllipseCallout">
            <a:avLst>
              <a:gd name="adj1" fmla="val -27365"/>
              <a:gd name="adj2" fmla="val -6519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Dal 12/201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REG. CE 625/17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C1C8F-EBEF-4759-8D98-ABA332A0424D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072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9640" y="750960"/>
            <a:ext cx="77724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900" spc="-1" strike="noStrike">
                <a:solidFill>
                  <a:srgbClr val="000080"/>
                </a:solidFill>
                <a:latin typeface="Arial"/>
                <a:ea typeface="Lucida Sans Unicode"/>
              </a:rPr>
              <a:t>REGOLAMENTO 178/2002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1905120"/>
            <a:ext cx="7626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.U.C.E. L 31 del 01.02.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bilisce </a:t>
            </a:r>
            <a:r>
              <a:rPr b="0" lang="it-IT" sz="3200" spc="-1" strike="noStrike">
                <a:solidFill>
                  <a:srgbClr val="000080"/>
                </a:solidFill>
                <a:latin typeface="Arial"/>
                <a:ea typeface="Lucida Sans Unicode"/>
              </a:rPr>
              <a:t>i principi e i requisiti genera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lla </a:t>
            </a:r>
            <a:r>
              <a:rPr b="0" lang="it-IT" sz="3200" spc="-1" strike="noStrike">
                <a:solidFill>
                  <a:srgbClr val="000080"/>
                </a:solidFill>
                <a:latin typeface="Arial"/>
                <a:ea typeface="Lucida Sans Unicode"/>
              </a:rPr>
              <a:t>legislazione alimentare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ituisce </a:t>
            </a:r>
            <a:r>
              <a:rPr b="0" lang="it-IT" sz="3200" spc="-1" strike="noStrike">
                <a:solidFill>
                  <a:srgbClr val="000080"/>
                </a:solidFill>
                <a:latin typeface="Arial"/>
                <a:ea typeface="Lucida Sans Unicode"/>
              </a:rPr>
              <a:t>l'Autorità Europea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er gli alimenti e fissa procedure nel campo della sicurezza alimenta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9640" y="1619280"/>
            <a:ext cx="84600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25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Campo di applicazione e definizioni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25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Il presente regolamento costituisce la base per </a:t>
            </a:r>
            <a:r>
              <a:rPr b="0" lang="it-IT" sz="3600" spc="-1" strike="noStrike">
                <a:solidFill>
                  <a:srgbClr val="000080"/>
                </a:solidFill>
                <a:latin typeface="Arial"/>
                <a:ea typeface="Arial"/>
              </a:rPr>
              <a:t>garantire un elevato livello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 di </a:t>
            </a:r>
            <a:r>
              <a:rPr b="0" lang="it-IT" sz="3600" spc="-1" strike="noStrike">
                <a:solidFill>
                  <a:srgbClr val="000080"/>
                </a:solidFill>
                <a:latin typeface="Arial"/>
                <a:ea typeface="Arial"/>
              </a:rPr>
              <a:t>tutela della salute uman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 e degli </a:t>
            </a:r>
            <a:r>
              <a:rPr b="0" lang="it-IT" sz="3600" spc="-1" strike="noStrike">
                <a:solidFill>
                  <a:srgbClr val="000080"/>
                </a:solidFill>
                <a:latin typeface="Arial"/>
                <a:ea typeface="Arial"/>
              </a:rPr>
              <a:t>interessi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dei </a:t>
            </a:r>
            <a:r>
              <a:rPr b="0" lang="it-IT" sz="3600" spc="-1" strike="noStrike">
                <a:solidFill>
                  <a:srgbClr val="000080"/>
                </a:solidFill>
                <a:latin typeface="Arial"/>
                <a:ea typeface="Arial"/>
              </a:rPr>
              <a:t>consumatori...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............garantendo al contempo l'efficace </a:t>
            </a:r>
            <a:r>
              <a:rPr b="0" lang="it-IT" sz="3600" spc="-1" strike="noStrike">
                <a:solidFill>
                  <a:srgbClr val="000080"/>
                </a:solidFill>
                <a:latin typeface="Arial"/>
                <a:ea typeface="Arial"/>
              </a:rPr>
              <a:t>funzionamento del libero merca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25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25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25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79640" y="458640"/>
            <a:ext cx="6840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280099"/>
                </a:solidFill>
                <a:latin typeface="Arial"/>
                <a:ea typeface="Arial"/>
              </a:rPr>
              <a:t>CONTENU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78000"/>
            <a:ext cx="82152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900" spc="-1" strike="noStrike">
                <a:solidFill>
                  <a:srgbClr val="000080"/>
                </a:solidFill>
                <a:latin typeface="Arial"/>
              </a:rPr>
              <a:t>PRINCIPI FONDAMENTALI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9280" y="1979640"/>
            <a:ext cx="8460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19040" indent="-314280" algn="just">
              <a:lnSpc>
                <a:spcPct val="90000"/>
              </a:lnSpc>
              <a:spcBef>
                <a:spcPts val="11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duttori hanno la 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  <a:ea typeface="Lucida Sans Unicode"/>
              </a:rPr>
              <a:t>responsabilità primar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er quanto concerne la sicurezza degli alim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 algn="just">
              <a:lnSpc>
                <a:spcPct val="90000"/>
              </a:lnSpc>
              <a:spcBef>
                <a:spcPts val="11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è necessario garantire la 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  <a:ea typeface="Lucida Sans Unicode"/>
              </a:rPr>
              <a:t>rintracciabilità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 percorsi dei mangimi e degli alimenti nonché dei loro ingredi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 algn="just">
              <a:lnSpc>
                <a:spcPct val="90000"/>
              </a:lnSpc>
              <a:spcBef>
                <a:spcPts val="11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portata dell'attuale 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  <a:ea typeface="Lucida Sans Unicode"/>
              </a:rPr>
              <a:t>sistema di allarme rapid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va estesa in modo da comprendere tutti gli alimenti e i mangi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 algn="just">
              <a:lnSpc>
                <a:spcPct val="90000"/>
              </a:lnSpc>
              <a:spcBef>
                <a:spcPts val="11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r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Arial"/>
                <a:ea typeface="Lucida Sans Unicode"/>
              </a:rPr>
              <a:t>accolta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 e l'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Arial"/>
                <a:ea typeface="Lucida Sans Unicode"/>
              </a:rPr>
              <a:t>analis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 informazioni sono elementi essenziali e sono particolarmente importanti per l'identificazione dei rischi potenzi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23720"/>
            <a:ext cx="82152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900" spc="-1" strike="noStrike">
                <a:solidFill>
                  <a:srgbClr val="000000"/>
                </a:solidFill>
                <a:latin typeface="Arial"/>
              </a:rPr>
              <a:t>PRINCIPI FONDAMENTALI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0360" y="1979640"/>
            <a:ext cx="792000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19040" indent="-314280" algn="just">
              <a:lnSpc>
                <a:spcPct val="100000"/>
              </a:lnSpc>
              <a:spcBef>
                <a:spcPts val="11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è necessario garantire una miglio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inform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l consumatore (QUALI E QUANTITATIVAMENT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 algn="just">
              <a:lnSpc>
                <a:spcPct val="100000"/>
              </a:lnSpc>
              <a:spcBef>
                <a:spcPts val="11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'uso di 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Arial"/>
                <a:ea typeface="Lucida Sans Unicode"/>
              </a:rPr>
              <a:t>pareri scientific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ve supportare la politica di sicurezza aliment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 algn="just">
              <a:lnSpc>
                <a:spcPct val="100000"/>
              </a:lnSpc>
              <a:spcBef>
                <a:spcPts val="11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l'analisi del rischi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ve costituire il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 fondament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 cui si basa la politica di sicurezza degli alim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 algn="just">
              <a:lnSpc>
                <a:spcPct val="100000"/>
              </a:lnSpc>
              <a:spcBef>
                <a:spcPts val="11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i deve essere una chiara separazione tra la gestione del rischio e la valutazione del risch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60360" y="328680"/>
            <a:ext cx="886932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Lucida Sans Unicode"/>
              </a:rPr>
              <a:t>PRINCIPIO DI PRECAUZI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80"/>
                </a:solidFill>
                <a:latin typeface="Arial"/>
                <a:ea typeface="Lucida Sans Unicode"/>
              </a:rPr>
              <a:t> </a:t>
            </a:r>
            <a:r>
              <a:rPr b="1" lang="it-IT" sz="4000" spc="-1" strike="noStrike">
                <a:solidFill>
                  <a:srgbClr val="000080"/>
                </a:solidFill>
                <a:latin typeface="Arial"/>
                <a:ea typeface="Lucida Sans Unicode"/>
              </a:rPr>
              <a:t>art. 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2039760"/>
            <a:ext cx="809964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19040" indent="-314280" algn="just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 si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  <a:ea typeface="Lucida Sans Unicode"/>
              </a:rPr>
              <a:t>sospettano effetti dannos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er la salute ma c’è incertezza sul piano scientifico,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  <a:ea typeface="Lucida Sans Unicode"/>
              </a:rPr>
              <a:t>possono essere adottate misure provvisori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 gestione del rischio, in attesa di ulteriori informazioni scientifi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 algn="just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 misure provvisorie sono proporzionate e prevedono le sole restrizioni al commercio necessarie per tutelare la salute del consuma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1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71040" y="496440"/>
            <a:ext cx="780732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80"/>
                </a:solidFill>
                <a:latin typeface="Arial"/>
              </a:rPr>
              <a:t>ARTICOLO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00000" y="1619280"/>
            <a:ext cx="684072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E' disposta in 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tutte le fasi</a:t>
            </a: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 della produzione, trasformazione e della distribuzione La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Rintracciabilità </a:t>
            </a: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 degli alimenti e dei mangimi, degli animali  destinati alla produzione aliment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Gli operatori del settore alimentare devono essere in grado di individuare </a:t>
            </a:r>
            <a:r>
              <a:rPr b="1" lang="it-IT" sz="2400" spc="-1" strike="noStrike">
                <a:solidFill>
                  <a:srgbClr val="5e11a6"/>
                </a:solidFill>
                <a:latin typeface="Times New Roman"/>
              </a:rPr>
              <a:t>chi abbia fornito loro</a:t>
            </a: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 un alimento, un mangime, un ani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Gli operatori del settore alimentare devono disporre di sistemi e procedure per individuare </a:t>
            </a:r>
            <a:r>
              <a:rPr b="1" lang="it-IT" sz="2400" spc="-1" strike="noStrike">
                <a:solidFill>
                  <a:srgbClr val="5e11a6"/>
                </a:solidFill>
                <a:latin typeface="Times New Roman"/>
              </a:rPr>
              <a:t>le imprese  alle quali</a:t>
            </a:r>
            <a:r>
              <a:rPr b="1" lang="it-IT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Times New Roman"/>
              </a:rPr>
              <a:t>hanno fornito i propri prodot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0000" y="1800360"/>
            <a:ext cx="665964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....... se non abbiamo ben chiaro questo concetto, rischiamo per l'ennesima volt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Di perdere un treno important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Sia per I Liberi professioni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Che I Dipendenti Pubblic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Il treno che pone il Medico Veter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l centro della Sicurezza Alimentar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60360" y="539640"/>
            <a:ext cx="63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Introduzi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040" y="496440"/>
            <a:ext cx="780732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900" spc="-1" strike="noStrike">
                <a:solidFill>
                  <a:srgbClr val="ff00ff"/>
                </a:solidFill>
                <a:latin typeface="Arial"/>
              </a:rPr>
              <a:t>RINTRACCIABILITA’ art. 18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0360" y="1440000"/>
            <a:ext cx="8280360" cy="48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69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3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sibilità di </a:t>
            </a:r>
            <a:r>
              <a:rPr b="1" lang="it-IT" sz="2400" spc="-1" strike="noStrike">
                <a:solidFill>
                  <a:srgbClr val="000080"/>
                </a:solidFill>
                <a:latin typeface="Arial"/>
                <a:ea typeface="Lucida Sans Unicode"/>
              </a:rPr>
              <a:t>RICOSTRUIRE E SEGUIRE IL PERCORS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 un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alimen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di un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mangime,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 un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animale destinato a produrre aliment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di una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sostanza destin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atta ad entrare a far parte di un alimento o di un mangime ATTRAVERSO TUTTE LE FASI della produzione, della trasformazione e della distribu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9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69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it-IT" sz="2800" spc="-1" strike="noStrike">
                <a:solidFill>
                  <a:srgbClr val="5e11a6"/>
                </a:solidFill>
                <a:latin typeface="Arial"/>
                <a:ea typeface="Lucida Sans Unicode"/>
              </a:rPr>
              <a:t>Ogni soggetto della filiera deve essere in grado di individuare </a:t>
            </a:r>
            <a:r>
              <a:rPr b="1" i="1" lang="it-IT" sz="2800" spc="-1" strike="noStrike">
                <a:solidFill>
                  <a:srgbClr val="5e11a6"/>
                </a:solidFill>
                <a:latin typeface="Arial"/>
                <a:ea typeface="Lucida Sans Unicode"/>
              </a:rPr>
              <a:t>	</a:t>
            </a:r>
            <a:r>
              <a:rPr b="1" i="1" lang="it-IT" sz="2800" spc="-1" strike="noStrike">
                <a:solidFill>
                  <a:srgbClr val="5e11a6"/>
                </a:solidFill>
                <a:latin typeface="Arial"/>
                <a:ea typeface="Lucida Sans Unicode"/>
              </a:rPr>
              <a:t>l’anello immediatamente precedente e quello successivo </a:t>
            </a:r>
            <a:r>
              <a:rPr b="1" i="1" lang="it-IT" sz="2800" spc="-1" strike="noStrike">
                <a:solidFill>
                  <a:srgbClr val="5e11a6"/>
                </a:solidFill>
                <a:latin typeface="Arial"/>
                <a:ea typeface="Lucida Sans Unicode"/>
              </a:rPr>
              <a:t>	</a:t>
            </a:r>
            <a:r>
              <a:rPr b="1" i="1" lang="it-IT" sz="2800" spc="-1" strike="noStrike">
                <a:solidFill>
                  <a:srgbClr val="5e11a6"/>
                </a:solidFill>
                <a:latin typeface="Arial"/>
                <a:ea typeface="Lucida Sans Unicode"/>
              </a:rPr>
              <a:t>della catena aliment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04800" y="800280"/>
            <a:ext cx="777708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900" spc="-1" strike="noStrike">
                <a:solidFill>
                  <a:srgbClr val="000080"/>
                </a:solidFill>
                <a:latin typeface="Arial"/>
                <a:ea typeface="Lucida Sans Unicode"/>
              </a:rPr>
              <a:t>IN CHE MODO …</a:t>
            </a:r>
            <a:r>
              <a:rPr b="1" lang="it-IT" sz="3900" spc="-1" strike="noStrike">
                <a:solidFill>
                  <a:srgbClr val="333333"/>
                </a:solidFill>
                <a:latin typeface="Arial"/>
                <a:ea typeface="Lucida Sans Unicode"/>
              </a:rPr>
              <a:t>.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34960" y="1447920"/>
            <a:ext cx="74995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20840" indent="-31608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ttraverso </a:t>
            </a:r>
            <a:r>
              <a:rPr b="1" lang="it-IT" sz="2800" spc="-1" strike="noStrike">
                <a:solidFill>
                  <a:srgbClr val="ff00ff"/>
                </a:solidFill>
                <a:latin typeface="Arial"/>
                <a:ea typeface="Lucida Sans Unicode"/>
              </a:rPr>
              <a:t>sistemi e procedure codificate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a mettere a disposizione delle Autorità,  capaci di creare una correlazione fra prodotto-fornitore e prodotto-acqui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0840" indent="-31608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ttraverso una corretta etichett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0840" indent="-316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0840" indent="-316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sistemi possono </a:t>
            </a:r>
            <a:r>
              <a:rPr b="0" i="1" lang="it-IT" sz="2800" spc="-1" strike="noStrike">
                <a:solidFill>
                  <a:srgbClr val="ff00ff"/>
                </a:solidFill>
                <a:latin typeface="Arial"/>
                <a:ea typeface="Lucida Sans Unicode"/>
              </a:rPr>
              <a:t>essere flessibil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non dovrebbero comportare</a:t>
            </a:r>
            <a:r>
              <a:rPr b="0" i="1" lang="it-IT" sz="2800" spc="-1" strike="noStrike">
                <a:solidFill>
                  <a:srgbClr val="ff00ff"/>
                </a:solidFill>
                <a:latin typeface="Arial"/>
                <a:ea typeface="Lucida Sans Unicode"/>
              </a:rPr>
              <a:t> costi eccessivi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ma devono essere attivi al momento dell’inizio dell’attivi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0840" indent="-316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0840" indent="-316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0840" indent="-316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20720" y="360360"/>
            <a:ext cx="82137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80"/>
                </a:solidFill>
                <a:latin typeface="Arial"/>
                <a:ea typeface="Lucida Sans Unicode"/>
              </a:rPr>
              <a:t>RITIRO DEI PRODOTTI art. 1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9640" y="1440000"/>
            <a:ext cx="8394840" cy="55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20840" indent="-316080" algn="just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 un operatore ritiene che un alimento da lui importato, lavorato o distribuito non sia conforme ai requisiti di sicurezza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deve procedere al ritir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informarne le autorità competen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0840" indent="-316080" algn="just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 il prodotto può essere arrivato al consumatore, l'operatore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informa i consumator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in maniera efficace e accurata, del motivo del rit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0840" indent="-31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0840" indent="-31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0840" indent="-31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0000" y="1260360"/>
            <a:ext cx="70200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er capire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il ruolo del Medico Veterinario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ggi è importante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fare un passo indietr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e passare dalle motivazioni che hanno portato il legislatore Europeo </a:t>
            </a:r>
            <a:r>
              <a:rPr b="1" lang="en-US" sz="2400" spc="-1" strike="noStrike">
                <a:solidFill>
                  <a:srgbClr val="000080"/>
                </a:solidFill>
                <a:latin typeface="Calibri"/>
                <a:ea typeface="Calibri"/>
              </a:rPr>
              <a:t>dall’istituzione del Libro Bianco</a:t>
            </a:r>
            <a:r>
              <a:rPr b="1" lang="en-US" sz="1500" spc="-1" strike="noStrike">
                <a:solidFill>
                  <a:srgbClr val="00008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 tutta la normativa che da esso deriva  </a:t>
            </a:r>
            <a:r>
              <a:rPr b="1" lang="en-US" sz="2400" spc="-1" strike="noStrike">
                <a:solidFill>
                  <a:srgbClr val="000080"/>
                </a:solidFill>
                <a:latin typeface="Calibri"/>
                <a:ea typeface="Calibri"/>
              </a:rPr>
              <a:t>fino ad arrivare oggi</a:t>
            </a:r>
            <a:r>
              <a:rPr b="1" lang="en-US" sz="1500" spc="-1" strike="noStrike">
                <a:solidFill>
                  <a:srgbClr val="000080"/>
                </a:solidFill>
                <a:latin typeface="Calibri"/>
                <a:ea typeface="Calibri"/>
              </a:rPr>
              <a:t>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d un Regolamento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 (il REG: 625/17)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rivolto alle Autorità competenti  che  da un l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Calibri"/>
                <a:ea typeface="Calibri"/>
              </a:rPr>
              <a:t>è sicuramente figlio dell’882/04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all’altro si pone in maniera più completa ed innovativa co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il regolamento della Globalizzazione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esa come un regolamento che vede nel binomio </a:t>
            </a:r>
            <a:r>
              <a:rPr b="1" lang="en-US" sz="2200" spc="-1" strike="noStrike">
                <a:solidFill>
                  <a:srgbClr val="5e11a6"/>
                </a:solidFill>
                <a:latin typeface="Calibri"/>
                <a:ea typeface="Calibri"/>
              </a:rPr>
              <a:t>“AMBIENTE   SALUTE “ IL centro del suo obiettiv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60360" y="720720"/>
            <a:ext cx="809928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Una normativa  che parte da un </a:t>
            </a:r>
            <a:r>
              <a:rPr b="1" lang="en-US" sz="3200" spc="-1" strike="noStrike">
                <a:solidFill>
                  <a:srgbClr val="5e11a6"/>
                </a:solidFill>
                <a:latin typeface="Calibri"/>
                <a:ea typeface="Calibri"/>
              </a:rPr>
              <a:t>ambiente san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me prerequisito per il raggiungimento di un </a:t>
            </a:r>
            <a:r>
              <a:rPr b="1" lang="en-US" sz="3200" spc="-1" strike="noStrike">
                <a:solidFill>
                  <a:srgbClr val="5e11a6"/>
                </a:solidFill>
                <a:latin typeface="Calibri"/>
                <a:ea typeface="Calibri"/>
              </a:rPr>
              <a:t>alimento san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2519280"/>
            <a:ext cx="75596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11a6"/>
                </a:solidFill>
                <a:latin typeface="Calibri"/>
                <a:ea typeface="Calibri"/>
              </a:rPr>
              <a:t>ONE HEALTH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iconosce c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la salute degli esseri umani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è legata alla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salute dell’ambiente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Più che un nuovo concetto, si tratta di un approccio che sta rapidamente  diventand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un movimento internazional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basato su collaborazioni  intersettoriali e formalmente riconosciuto dalla commissione Europea  dall Oms  Dalla FAO...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0720" y="1079640"/>
            <a:ext cx="774072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11a6"/>
                </a:solidFill>
                <a:latin typeface="Calibri"/>
                <a:ea typeface="Calibri"/>
              </a:rPr>
              <a:t>ONE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11a6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iconoscendo c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a salute delle person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egli animal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egli ecosistem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ono </a:t>
            </a: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interconness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romuove l’applicazione  di un approccio collaborativo , multidisciplinare , intersettoriale, e coordinato per affrontare i rischi  potenziali o già esistenti che hanno origine dall’interfaccia tra ambiente –animali ed ecosistemi uman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9640" y="1079640"/>
            <a:ext cx="66592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La professione Veterinaria è ad un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grande Crocev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l Medico  Veterinario  che  è preposto alla tutela delle produzioni di alimenti di origine animale  e alla salvaguardia della salute umana  ha un’Importantissimo compito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quello di  costruire   una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ONE HEALTH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che parte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dall’ambiente per arrivare all’uom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tenere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un’ambente sano in una ter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come la nostra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ampione di biodiversità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d arrivare sulle tavole del cittadino con un alimento sano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60360" y="1411200"/>
            <a:ext cx="665964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AMBIENTE SANO E CIBO SICURO CORRETTO STILE DI VIT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NASCE UNA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UOVA ONTOLOGIA</a:t>
            </a: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EL CIBO</a:t>
            </a: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 IN CUI LA FIGURA DEL MEDICO VETERINARIO E’ AL CENT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ANZI DOVE 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EDICO VETER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DIVENTA I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ENTORE</a:t>
            </a: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 DELLA SICUREZZ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Calibri"/>
                <a:ea typeface="Calibri"/>
              </a:rPr>
              <a:t>ALIMENT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553080" y="6248520"/>
            <a:ext cx="21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77657-AE7A-45A5-8C7E-1AC87ACB7F7B}" type="slidenum">
              <a:rPr b="0" lang="it-IT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revisione della normativa dal 1996 in po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1413000"/>
            <a:ext cx="8229600" cy="4392360"/>
          </a:xfrm>
          <a:prstGeom prst="rect">
            <a:avLst/>
          </a:pr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ravi emergenz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verificatesi nel settore della sicurezza alimentare negli anni che vanno dal 1996 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000 (la crisi dell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BS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Gran Bretagna e quella d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iossin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 Belgio) hanno dimostrato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inefficaci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ei modelli di prevenzione fin allora adottati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 Unione Europea ha dovuto  prendere  atto della presenza di varie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arenz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sia nel sistema de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ntrolli ufficial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ello Mambrini</cp:lastModifiedBy>
  <cp:lastPrinted>2010-02-24T13:19:48Z</cp:lastPrinted>
  <dcterms:modified xsi:type="dcterms:W3CDTF">2010-02-24T21:22:26Z</dcterms:modified>
  <cp:revision>156</cp:revision>
  <dc:subject/>
  <dc:title>PowerPoint Presentation</dc:title>
</cp:coreProperties>
</file>