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39483-002A-4F7E-BAE8-3D361467A9E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60360" y="801720"/>
            <a:ext cx="5038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007640" y="5078520"/>
            <a:ext cx="552924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260360" y="801720"/>
            <a:ext cx="5038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007640" y="5078520"/>
            <a:ext cx="552924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65BE-E97E-4606-8398-E060B1621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A4D9-1354-413E-9EEE-A49D31DA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FE6-92A0-4F1C-966D-E1ED241D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022-814B-4730-8DC2-D0D0FF387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27C-83D7-43AB-A21B-B1BF240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435-7D0A-4CC6-B183-BAFCEB89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A18D-856B-41BF-B44F-C18B4074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4A2-518E-4CFC-94EE-2CDF55A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820-F199-4DEC-9CFA-433ABD75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D33-B87D-4140-A8CD-16694B17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BC1-7681-44A6-96D4-C2B5D8F3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C5B-5E57-4B6A-A74A-BD7C4F28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7D956-5839-417D-A452-5158776E9CE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60360" y="3276720"/>
            <a:ext cx="8651880" cy="23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noAutofit/>
          </a:bodyPr>
          <a:p>
            <a:pPr algn="ctr">
              <a:lnSpc>
                <a:spcPct val="101000"/>
              </a:lnSpc>
              <a:spcBef>
                <a:spcPts val="774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  <a:ea typeface="DejaVu Sans"/>
              </a:rPr>
              <a:t>M. Mar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Istituto Zooprofilattico Sperimentale delle Regioni Lazio e Tosc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DejaVu Sans"/>
              </a:rPr>
              <a:t>Sezione di Si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1000"/>
              </a:lnSpc>
              <a:spcBef>
                <a:spcPts val="550"/>
              </a:spcBef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4440" y="4032360"/>
          <a:ext cx="938160" cy="57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440" y="4032360"/>
                    <a:ext cx="9381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etodi diagnostici: sensibilità e specific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sistemat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2860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57480" indent="-343080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’ la distanza tra un valore misurato ed il valore vero del misu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lle misurazioni quantitative è definito dall’accuratezza (esattezza del meto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LU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urare l’accurat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valore medio serie di misure – valore v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144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casu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22860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57480" indent="-343080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752480"/>
            <a:ext cx="9219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’ la dispersione casuale tra un valore misurato ed il valore vero del misura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elle misurazioni quantitative è definito dalla precisione del me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LU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surare la preci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deviazione standard serie di misure/valore ve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’ come il tiro al bersagli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Accuracy_and_precision_example" descr="http://upload.wikimedia.org/wikipedia/commons/b/ba/Accuracy_and_precision_example.jpg"/>
          <p:cNvPicPr/>
          <p:nvPr/>
        </p:nvPicPr>
        <p:blipFill>
          <a:blip r:embed="rId1"/>
          <a:stretch/>
        </p:blipFill>
        <p:spPr>
          <a:xfrm>
            <a:off x="380880" y="990720"/>
            <a:ext cx="1981440" cy="6324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75440" y="1274760"/>
            <a:ext cx="72522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lto preciso ed accurato (situazione ide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4720" y="2898720"/>
            <a:ext cx="4934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lto preciso e poco accu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92360" y="4535640"/>
            <a:ext cx="4972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co preciso e molto accu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1640" y="6095880"/>
            <a:ext cx="48747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oco preciso e poco accu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8088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 in diagnost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19320"/>
            <a:ext cx="9219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 prove sono quasi tutt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QUALITATIV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l problema è dovuto alla presenza di falsi negativi e falsi positiv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 essi sono legati i concetti di Sensibilità (Se) e Specificità (Sp) della stessa pr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 in diagnostica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2860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Epidemiologia per esemplificare e rendere leggibile i concetti legati a Se e Sp si usa una tabella a 2 righe e 2 colon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colonna si mette la situazione rispetto alla malat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riga si mette l’esito del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a tabella 2x2 ovvero la calcolatrice dell’epidemio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09680" y="2514600"/>
          <a:ext cx="5257800" cy="220968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2666880" y="1981080"/>
            <a:ext cx="19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1981080"/>
            <a:ext cx="198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895480"/>
            <a:ext cx="1219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st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86200"/>
            <a:ext cx="1218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s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38680"/>
            <a:ext cx="100807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hiaramente un test ideale dovrà correttam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riconoscere i malati da i non mal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urtroppo quell’aggettivo “ideale” non è messo a cas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876920"/>
            <a:ext cx="2361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mal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876920"/>
            <a:ext cx="2362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s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00960" y="2895480"/>
            <a:ext cx="2209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test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81880" y="3886200"/>
            <a:ext cx="2209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tes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a dura realtà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447920"/>
            <a:ext cx="929628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test ideale è raro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fficilmente il test riconoscerà tutti i malati come positi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Motivi biologici (fase iniziale infezione, immunodefici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rrori di misurazione (specie se c’è valutazione “occhiometrica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4038480"/>
            <a:ext cx="9296280" cy="23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oporzione di animali malati che risultano positivi al test si chiama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SENSIBILITA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del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roporzione di animali sani che risultano negativi al test si chiama </a:t>
            </a:r>
            <a:r>
              <a:rPr b="1" lang="it-IT" sz="3200" spc="-1" strike="noStrike" u="sng">
                <a:solidFill>
                  <a:srgbClr val="ffffff"/>
                </a:solidFill>
                <a:uFillTx/>
                <a:latin typeface="Arial"/>
              </a:rPr>
              <a:t>SPECIFICITA’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del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ornando alla tabella 2x2…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1676520"/>
          <a:ext cx="5257800" cy="2209680"/>
        </p:xfrm>
        <a:graphic>
          <a:graphicData uri="http://schemas.openxmlformats.org/drawingml/2006/table">
            <a:tbl>
              <a:tblPr/>
              <a:tblGrid>
                <a:gridCol w="2628720"/>
                <a:gridCol w="2629080"/>
              </a:tblGrid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+ (A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+ (B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i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– (C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malati c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it-IT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 – (D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2666880" y="1143000"/>
            <a:ext cx="1981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143000"/>
            <a:ext cx="1981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2057400"/>
            <a:ext cx="12193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st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048120"/>
            <a:ext cx="12189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s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638680"/>
            <a:ext cx="25146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e = A/(A+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Sp = D/(B+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4038480"/>
            <a:ext cx="281916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Malati (A+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038480"/>
            <a:ext cx="236232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Sani (B+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00960" y="2057400"/>
            <a:ext cx="2209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test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81880" y="3048120"/>
            <a:ext cx="22096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t. test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Più sensibile o più specifico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371600"/>
            <a:ext cx="792468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 test molto sensibile sarà più capace di riscontrare animali mala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n test molto specifico riscontrerà con maggiore probabilità gli animali san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Più sensibile o più specifico? (2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371600"/>
            <a:ext cx="7924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Molti test….. Molte misure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magine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937720" cy="53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nalisi di laborat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666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iagnosi di malat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radicazione di malat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venzione salute 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ttivit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90720"/>
            <a:ext cx="9524880" cy="59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ltre misure ricavabili dalla tabella 2x2 sono i c.d. valori predittivi (VP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VP Positivo = A/(A+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VP Negativo = D/(C+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on dipendono direttamente dalla bontà del test, misurano la probabilità che un positivo (o negativo) al test sia effettivamente malato (o san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Fortemente legati alla prevalenza della malattia, sono misure usate per capire se vi può essere una convenienza ad usare un determinato test durante screening di popolazio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80880" y="-76320"/>
            <a:ext cx="9220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ttivit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48200" y="3422520"/>
            <a:ext cx="2367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04920" y="685800"/>
          <a:ext cx="9601200" cy="62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9601200" cy="62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irando le somme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990720"/>
            <a:ext cx="95248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Quale test dovrò preferire se voglio trovare molti mala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l test più sensibile, in quanto avrò un migliore VPP- cioè il negativo al test sara quasi certamente sano.</a:t>
            </a:r>
            <a:br>
              <a:rPr sz="3600"/>
            </a:b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 contro avrò un certo numero di falsi positi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irando le somme……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990720"/>
            <a:ext cx="952488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Quale test dovrò preferire se voglio trovare molti animali sicuramente mala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l test più specifico, in quanto avrò un migliore VPP+ cioè il positivo al test sarà quasi certamente ammal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 contro avrò un certo numero di falsi negati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Tirando le somme……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990720"/>
            <a:ext cx="952488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Quale test dovrò preferire se voglio trovare molti animali sicuramente malat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Il test più specifico, in quanto avrò un migliore VPP+ cioè il positivo al test sarà quasi certamente ammala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Di contro avrò un certo numero di falsi negati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nche ACCREDIA le vu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1447920"/>
            <a:ext cx="9524880" cy="36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 e Sp sono quindi un criterio per valutare l’errore (sistematico) del test che usi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Non a caso si calcolano in fase di validazione del test per verificarlo ed abilitare il personale a svolge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22860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Giochiamo un po’ con Se e S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447920"/>
            <a:ext cx="95248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E’ possibile modificar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Non direttamente perché dipendono dal tes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i possono però ottimizzare per avere valori migliori di Se e S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Modificando la soglia di positività del test (cut o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Usando più test per ottenere la diagno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Giochiamo un po’ con Se e Sp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914400"/>
            <a:ext cx="95248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 modifico il cut off cosa succe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0880" y="1447920"/>
          <a:ext cx="9220320" cy="59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922032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Giochiamo un po’ con Se e Sp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914400"/>
            <a:ext cx="95248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 lo abbasso a 0,75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" y="1523880"/>
          <a:ext cx="8686800" cy="601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686800" cy="60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Giochiamo un po’ con Se e Sp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914400"/>
            <a:ext cx="95248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Se lo alzo a 1,05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1523880"/>
          <a:ext cx="8534160" cy="58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853416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nalisi di laboratorio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27432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elo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Giochiamo un po’ con Se e Sp 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85920"/>
            <a:ext cx="9524880" cy="51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Chiaramente l’ultimo caso non ci piace molto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Rischiamo di avere un sacco di falsi negativi, cosa che è un po’ rischiosa per chi come noi fa profilassi di malattie infettive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Per questo spesso si cerca di essere più conservativi, in quanto è meglio gestire dei falsi positiv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Riassumendo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295280"/>
            <a:ext cx="952488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durre il cut off aumenta Se ma riduce 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umentarlo aumenta Sp ma riduce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esto è il problema che si pone nel cercare di modificare direttamente i parametri, che essendo inversamente proporzionali ne risentono in modo diametralmente opposti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sa fare allo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Uso più test sullo stesso campi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I test di screening ed i test di confe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981080"/>
            <a:ext cx="952488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apita quasi sempr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Un test di conferma è l’applicazione pratica della modalità di usare più test per aumentare Se e 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sullo stesso camp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1981080"/>
            <a:ext cx="952488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2 modali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st in se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st in parallelo (AND o 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in serie sullo stesso camp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2265480"/>
          <a:ext cx="8610480" cy="49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65480"/>
                    <a:ext cx="861048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in serie sullo stesso campio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81080"/>
            <a:ext cx="952488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me lo interpre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 campione deve risultare positivo ad entrambi i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indi sar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EG se [+,-] o [-,x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OS se [+,+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e vantagg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umento la Sp anche se riduco l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in serie sullo stesso campion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371600"/>
            <a:ext cx="9524880" cy="59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le vantaggi dal test in ser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pendo meno in quanto i negativi li elimino in base ad un test di facile esec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umento la Sp e ottengo alti VPP anche se riduco la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er questo in prima istanza si usano test ad elevata Se per poi andare ad usare una maggiore 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emp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BPT + FdC per Brucell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LISA o PCR + Sieroneutralizzazione per diversi 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in parallelo sullo stesso camp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95248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più complic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2209680"/>
          <a:ext cx="9372600" cy="50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937260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Usare più test in parallelo sullo stesso campion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048040"/>
            <a:ext cx="952488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raro nella pratica delle Sezioni usare più di un test, ma esempi possono ess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fronto tra metodi durante la validazione di un metodo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fronto con un un metodo di riferimento, il c.d. “golden standa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rriviamo alle conclus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600200"/>
            <a:ext cx="952488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è banale ciò che certe volte ci sentiamo costretti a fare (qualità). Il nome stesso di qualità dovrebbe far venire in mente che “errare humanum est”, ma che vi sono metodi per cercare di evitare l’errore, o quanto meno di misur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apire bene il concetto di Se e Sp ci può aiutare ad essere più critici su certi risultati e magari ad usare meglio e con più profitto un laboratorio di seconda is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nalisi di laboratorio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7432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fida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amo abituati a fidarci di ciò che usi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sso tendiamo anche a “volergli bene” ed ad affezionarci a certe 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 talvolta dovremmo anche farci alcune domand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rriviamo alle conclusioni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600200"/>
            <a:ext cx="9524880" cy="46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appiamo già bene, ma capiremo ancora meglio, nel prosieguo del corso 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tutti i coli che isoliamo sono verocitotoss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Non tutti i Costridi che isoliamo sono causa di enterotossie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tc.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esto perché usiamo metodi altamente sensibili, più rapidi ma meno specifici di altri usati soprattutto in seconda ist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1008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Arriviamo alle conclusioni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600200"/>
            <a:ext cx="9524880" cy="32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cco quindi la logica del corso, cercare di “metterci in serie” con chi usa metodi ad alta specific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bbiamo visto che è un vantaggio notevole da un punto di vista economico e di efficienza di labor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260360"/>
            <a:ext cx="9455040" cy="32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t">
            <a:spAutoFit/>
          </a:bodyPr>
          <a:p>
            <a:pPr marL="108000" algn="ctr">
              <a:lnSpc>
                <a:spcPct val="101000"/>
              </a:lnSpc>
              <a:tabLst>
                <a:tab algn="l" pos="0"/>
                <a:tab algn="l" pos="996840"/>
                <a:tab algn="l" pos="1492200"/>
                <a:tab algn="l" pos="1987560"/>
                <a:tab algn="l" pos="2482920"/>
                <a:tab algn="l" pos="2978280"/>
                <a:tab algn="l" pos="3473280"/>
                <a:tab algn="l" pos="3968640"/>
                <a:tab algn="l" pos="4464000"/>
                <a:tab algn="l" pos="4959360"/>
                <a:tab algn="l" pos="5454720"/>
                <a:tab algn="l" pos="5950080"/>
                <a:tab algn="l" pos="6445080"/>
                <a:tab algn="l" pos="6940440"/>
                <a:tab algn="l" pos="7435800"/>
                <a:tab algn="l" pos="7931160"/>
                <a:tab algn="l" pos="8426520"/>
                <a:tab algn="l" pos="8921880"/>
                <a:tab algn="l" pos="9415440"/>
                <a:tab algn="l" pos="9910800"/>
                <a:tab algn="l" pos="10406160"/>
                <a:tab algn="l" pos="10896480"/>
              </a:tabLst>
            </a:pPr>
            <a:r>
              <a:rPr b="1" lang="it-IT" sz="5300" spc="-1" strike="noStrike">
                <a:solidFill>
                  <a:srgbClr val="000000"/>
                </a:solidFill>
                <a:latin typeface="Tahoma"/>
                <a:ea typeface="DejaVu Sans"/>
              </a:rPr>
              <a:t>GRAZIE DELLA VOSTRA ATTENZIONE!!!!!!!!!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1000"/>
              </a:lnSpc>
              <a:tabLst>
                <a:tab algn="l" pos="0"/>
                <a:tab algn="l" pos="996840"/>
                <a:tab algn="l" pos="1492200"/>
                <a:tab algn="l" pos="1987560"/>
                <a:tab algn="l" pos="2482920"/>
                <a:tab algn="l" pos="2978280"/>
                <a:tab algn="l" pos="3473280"/>
                <a:tab algn="l" pos="3968640"/>
                <a:tab algn="l" pos="4464000"/>
                <a:tab algn="l" pos="4959360"/>
                <a:tab algn="l" pos="5454720"/>
                <a:tab algn="l" pos="5950080"/>
                <a:tab algn="l" pos="6445080"/>
                <a:tab algn="l" pos="6940440"/>
                <a:tab algn="l" pos="7435800"/>
                <a:tab algn="l" pos="7931160"/>
                <a:tab algn="l" pos="8426520"/>
                <a:tab algn="l" pos="8921880"/>
                <a:tab algn="l" pos="9415440"/>
                <a:tab algn="l" pos="9910800"/>
                <a:tab algn="l" pos="10406160"/>
                <a:tab algn="l" pos="10896480"/>
              </a:tabLst>
            </a:pP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1000"/>
              </a:lnSpc>
              <a:tabLst>
                <a:tab algn="l" pos="0"/>
                <a:tab algn="l" pos="996840"/>
                <a:tab algn="l" pos="1492200"/>
                <a:tab algn="l" pos="1987560"/>
                <a:tab algn="l" pos="2482920"/>
                <a:tab algn="l" pos="2978280"/>
                <a:tab algn="l" pos="3473280"/>
                <a:tab algn="l" pos="3968640"/>
                <a:tab algn="l" pos="4464000"/>
                <a:tab algn="l" pos="4959360"/>
                <a:tab algn="l" pos="5454720"/>
                <a:tab algn="l" pos="5950080"/>
                <a:tab algn="l" pos="6445080"/>
                <a:tab algn="l" pos="6940440"/>
                <a:tab algn="l" pos="7435800"/>
                <a:tab algn="l" pos="7931160"/>
                <a:tab algn="l" pos="8426520"/>
                <a:tab algn="l" pos="8921880"/>
                <a:tab algn="l" pos="9415440"/>
                <a:tab algn="l" pos="9910800"/>
                <a:tab algn="l" pos="10406160"/>
                <a:tab algn="l" pos="10896480"/>
              </a:tabLst>
            </a:pPr>
            <a:r>
              <a:rPr b="1" lang="it-IT" sz="4500" spc="-1" strike="noStrike">
                <a:solidFill>
                  <a:srgbClr val="000000"/>
                </a:solidFill>
                <a:latin typeface="Tahoma"/>
                <a:ea typeface="DejaVu Sans"/>
              </a:rPr>
              <a:t>(e scusate se vi ho annoiato)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2800" y="5780160"/>
            <a:ext cx="913572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Fonte di Tabelle e grafici sono le slides del Prof. Fabio Ostanello dell’Università di Bolog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http://www2.vet.unibo.it/staff/ostanello/Didattica/file%20lucidi/WEB_epi_04_Test%20diagnostici.pdf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nalisi di laboratorio ha sempre ragi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9718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ahoma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biologia purtroppo non ci sono certezz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nalisi di laboratorio ha sempre ragione?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9718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co perché abbiamo voluto questo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obbiamo essere pronti a usare eventuali no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 dobbiamo anche essere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informat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ulla loro disponibilità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la fortuna di “curiosare” su cose nu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rofittiamon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286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Il mio contrib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8288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pire (ribadire) che le prove non sono la verità asso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llustrare gli errori associati alle 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pire che se non posso evitare un errore lo devo misu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arlare delle misure dell’errore di prove (anche) di diagnostica (Sensibilità, Specificità, Predittività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Misure ed errori di mis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860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57480" indent="-343080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24382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l problema risiede nei possibili errori che possono accad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grossol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sis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cas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9208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i grossol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28600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257480" indent="-343080"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438280"/>
            <a:ext cx="92203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messi in seguito ad inappropriata applicazione del met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cambio di reag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o scorretto della str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LU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venirli con una corretta organizzazione del laboratorio. Le POS servono a questo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7:14:36Z</dcterms:created>
  <dc:creator/>
  <dc:description/>
  <dc:language>en-US</dc:language>
  <cp:lastModifiedBy>mari</cp:lastModifiedBy>
  <dcterms:modified xsi:type="dcterms:W3CDTF">2013-10-01T08:06:49Z</dcterms:modified>
  <cp:revision>45</cp:revision>
  <dc:subject/>
  <dc:title>Presentazione di PowerPoint</dc:title>
</cp:coreProperties>
</file>